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3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chimes.wav" ContentType="audio/x-wav"/>
  <Override PartName="/ppt/media/image29.jpeg" ContentType="image/jpeg"/>
  <Override PartName="/ppt/media/image10.jpeg" ContentType="image/jpeg"/>
  <Override PartName="/ppt/media/image8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5.png" ContentType="image/png"/>
  <Override PartName="/ppt/media/image32.gif" ContentType="image/gif"/>
  <Override PartName="/ppt/media/image5.jpeg" ContentType="image/jpeg"/>
  <Override PartName="/ppt/media/image3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98E6-A62B-4106-9937-6F294D6C4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89CF-147A-4FF0-BD2A-982A2E01CC0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EBAC-CBDA-49E0-A173-D4675AABD9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ем разобраться, как Эшер создавал свои орнаменты на примере паркета с ящер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A625-11C1-4061-9511-826922651D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 Эшер «Ящерицы». Здесь можно увидеть поворот на 60(градусов). Найдите другие повороты, с другим центром. 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2BFB-E3D6-4F55-9F1E-C48FE25F25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EEEA-A616-4C0F-9C61-E2C2EA8F43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 Эшер «Бабочки». Поворот. Центральная симметрия. 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73EC-62FE-42EA-89C5-4895D5DDB2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5CF1-EA18-48B2-8614-2FCAB2C646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 Эшер. «Рыба, заглатывающая корабль». 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01C-F538-4987-A511-D9AA81A2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481-FA19-43E4-991F-0F7628A7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4FE-58E5-4F6F-B065-A735BB8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EFF-F26A-49B9-B00F-24398992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C9A-C505-47A3-855F-D8598CCF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0C4-8E29-4C47-B634-7937C716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483-8EE9-4A5A-9139-ECED30E9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114-78F7-4E22-9C3C-7161ED45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537-01A9-41A7-A918-7EE9946F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EAB-B05C-4CF5-BC67-933AD8E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65E-686E-4502-9A07-98788B6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47E-C137-40E7-B8AC-19646E0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43D0-7C32-4D96-8EE7-961CF972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020.radikal.ru/i704/1301/30/d58570431318.jpg" TargetMode="External"/><Relationship Id="rId2" Type="http://schemas.openxmlformats.org/officeDocument/2006/relationships/hyperlink" Target="http://www.worldofescher.com/" TargetMode="External"/><Relationship Id="rId3" Type="http://schemas.openxmlformats.org/officeDocument/2006/relationships/hyperlink" Target="http://www.worldofescher.com/" TargetMode="External"/><Relationship Id="rId4" Type="http://schemas.openxmlformats.org/officeDocument/2006/relationships/hyperlink" Target="http://www.worldofescher.com/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Гармония и геомет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3048120"/>
            <a:ext cx="40384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класс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оприяти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еометрия) 8-9 к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Кочергина О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:\sss.bmp"/>
          <p:cNvPicPr/>
          <p:nvPr/>
        </p:nvPicPr>
        <p:blipFill>
          <a:blip r:embed="rId1"/>
          <a:stretch/>
        </p:blipFill>
        <p:spPr>
          <a:xfrm>
            <a:off x="762120" y="1143000"/>
            <a:ext cx="37004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24000" y="818280"/>
            <a:ext cx="8492400" cy="5082480"/>
            <a:chOff x="324000" y="818280"/>
            <a:chExt cx="8492400" cy="5082480"/>
          </a:xfrm>
        </p:grpSpPr>
        <p:sp>
          <p:nvSpPr>
            <p:cNvPr id="230" name="Freeform 3"/>
            <p:cNvSpPr/>
            <p:nvPr/>
          </p:nvSpPr>
          <p:spPr>
            <a:xfrm>
              <a:off x="4892760" y="50626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"/>
            <p:cNvSpPr/>
            <p:nvPr/>
          </p:nvSpPr>
          <p:spPr>
            <a:xfrm>
              <a:off x="762120" y="2671560"/>
              <a:ext cx="152388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5"/>
            <p:cNvSpPr/>
            <p:nvPr/>
          </p:nvSpPr>
          <p:spPr>
            <a:xfrm>
              <a:off x="2286000" y="2671560"/>
              <a:ext cx="152388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6"/>
            <p:cNvSpPr/>
            <p:nvPr/>
          </p:nvSpPr>
          <p:spPr>
            <a:xfrm>
              <a:off x="3791160" y="266220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7"/>
            <p:cNvSpPr/>
            <p:nvPr/>
          </p:nvSpPr>
          <p:spPr>
            <a:xfrm>
              <a:off x="3809880" y="4062240"/>
              <a:ext cx="152424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8"/>
            <p:cNvSpPr/>
            <p:nvPr/>
          </p:nvSpPr>
          <p:spPr>
            <a:xfrm>
              <a:off x="2286000" y="407196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9"/>
            <p:cNvSpPr/>
            <p:nvPr/>
          </p:nvSpPr>
          <p:spPr>
            <a:xfrm>
              <a:off x="762120" y="407196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1866960" y="36622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"/>
            <p:cNvSpPr/>
            <p:nvPr/>
          </p:nvSpPr>
          <p:spPr>
            <a:xfrm>
              <a:off x="3390840" y="36529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"/>
            <p:cNvSpPr/>
            <p:nvPr/>
          </p:nvSpPr>
          <p:spPr>
            <a:xfrm>
              <a:off x="1876320" y="226224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"/>
            <p:cNvSpPr/>
            <p:nvPr/>
          </p:nvSpPr>
          <p:spPr>
            <a:xfrm>
              <a:off x="3381480" y="225252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4"/>
            <p:cNvSpPr/>
            <p:nvPr/>
          </p:nvSpPr>
          <p:spPr>
            <a:xfrm>
              <a:off x="4915080" y="36529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"/>
            <p:cNvSpPr/>
            <p:nvPr/>
          </p:nvSpPr>
          <p:spPr>
            <a:xfrm>
              <a:off x="1866960" y="50626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>
              <a:off x="3400560" y="50626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>
              <a:off x="4905360" y="224316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>
              <a:off x="343080" y="36529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9"/>
            <p:cNvSpPr/>
            <p:nvPr/>
          </p:nvSpPr>
          <p:spPr>
            <a:xfrm>
              <a:off x="2276640" y="128124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20"/>
            <p:cNvSpPr/>
            <p:nvPr/>
          </p:nvSpPr>
          <p:spPr>
            <a:xfrm>
              <a:off x="762120" y="128124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21"/>
            <p:cNvSpPr/>
            <p:nvPr/>
          </p:nvSpPr>
          <p:spPr>
            <a:xfrm>
              <a:off x="3800520" y="127152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2"/>
            <p:cNvSpPr/>
            <p:nvPr/>
          </p:nvSpPr>
          <p:spPr>
            <a:xfrm>
              <a:off x="324000" y="505296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3"/>
            <p:cNvSpPr/>
            <p:nvPr/>
          </p:nvSpPr>
          <p:spPr>
            <a:xfrm>
              <a:off x="343080" y="226224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4"/>
            <p:cNvSpPr/>
            <p:nvPr/>
          </p:nvSpPr>
          <p:spPr>
            <a:xfrm>
              <a:off x="5311800" y="2671560"/>
              <a:ext cx="152388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5"/>
            <p:cNvSpPr/>
            <p:nvPr/>
          </p:nvSpPr>
          <p:spPr>
            <a:xfrm>
              <a:off x="6816960" y="266220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6"/>
            <p:cNvSpPr/>
            <p:nvPr/>
          </p:nvSpPr>
          <p:spPr>
            <a:xfrm>
              <a:off x="6835680" y="4062240"/>
              <a:ext cx="1524240" cy="14004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7"/>
            <p:cNvSpPr/>
            <p:nvPr/>
          </p:nvSpPr>
          <p:spPr>
            <a:xfrm>
              <a:off x="5311800" y="407196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8"/>
            <p:cNvSpPr/>
            <p:nvPr/>
          </p:nvSpPr>
          <p:spPr>
            <a:xfrm>
              <a:off x="6416640" y="36529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9"/>
            <p:cNvSpPr/>
            <p:nvPr/>
          </p:nvSpPr>
          <p:spPr>
            <a:xfrm>
              <a:off x="6407280" y="225252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0"/>
            <p:cNvSpPr/>
            <p:nvPr/>
          </p:nvSpPr>
          <p:spPr>
            <a:xfrm>
              <a:off x="7940880" y="3652920"/>
              <a:ext cx="828360" cy="83808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1"/>
            <p:cNvSpPr/>
            <p:nvPr/>
          </p:nvSpPr>
          <p:spPr>
            <a:xfrm>
              <a:off x="6426360" y="506268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2"/>
            <p:cNvSpPr/>
            <p:nvPr/>
          </p:nvSpPr>
          <p:spPr>
            <a:xfrm>
              <a:off x="7931160" y="224316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33"/>
            <p:cNvSpPr/>
            <p:nvPr/>
          </p:nvSpPr>
          <p:spPr>
            <a:xfrm>
              <a:off x="5302440" y="128124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4"/>
            <p:cNvSpPr/>
            <p:nvPr/>
          </p:nvSpPr>
          <p:spPr>
            <a:xfrm>
              <a:off x="6826320" y="1271520"/>
              <a:ext cx="1523880" cy="1400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5"/>
            <p:cNvSpPr/>
            <p:nvPr/>
          </p:nvSpPr>
          <p:spPr>
            <a:xfrm rot="21444000">
              <a:off x="7968960" y="50335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6"/>
            <p:cNvSpPr/>
            <p:nvPr/>
          </p:nvSpPr>
          <p:spPr>
            <a:xfrm>
              <a:off x="4896000" y="86508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7"/>
            <p:cNvSpPr/>
            <p:nvPr/>
          </p:nvSpPr>
          <p:spPr>
            <a:xfrm>
              <a:off x="1871640" y="86508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8"/>
            <p:cNvSpPr/>
            <p:nvPr/>
          </p:nvSpPr>
          <p:spPr>
            <a:xfrm>
              <a:off x="3384720" y="86508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9"/>
            <p:cNvSpPr/>
            <p:nvPr/>
          </p:nvSpPr>
          <p:spPr>
            <a:xfrm>
              <a:off x="360360" y="855720"/>
              <a:ext cx="828720" cy="8380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0"/>
            <p:cNvSpPr/>
            <p:nvPr/>
          </p:nvSpPr>
          <p:spPr>
            <a:xfrm>
              <a:off x="6408720" y="865080"/>
              <a:ext cx="828720" cy="8384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1"/>
            <p:cNvSpPr/>
            <p:nvPr/>
          </p:nvSpPr>
          <p:spPr>
            <a:xfrm rot="21444000">
              <a:off x="7897680" y="836280"/>
              <a:ext cx="828360" cy="83808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87" h="88">
                  <a:moveTo>
                    <a:pt x="0" y="42"/>
                  </a:moveTo>
                  <a:lnTo>
                    <a:pt x="44" y="0"/>
                  </a:lnTo>
                  <a:lnTo>
                    <a:pt x="87" y="42"/>
                  </a:lnTo>
                  <a:lnTo>
                    <a:pt x="43" y="8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42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270" name="Freeform 43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4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5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0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150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279" name="Freeform 151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2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3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4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55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56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7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8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45"/>
          <p:cNvGrpSpPr/>
          <p:nvPr/>
        </p:nvGrpSpPr>
        <p:grpSpPr>
          <a:xfrm>
            <a:off x="822240" y="330120"/>
            <a:ext cx="6677640" cy="4586760"/>
            <a:chOff x="822240" y="330120"/>
            <a:chExt cx="6677640" cy="4586760"/>
          </a:xfrm>
        </p:grpSpPr>
        <p:sp>
          <p:nvSpPr>
            <p:cNvPr id="288" name="Text Box 3"/>
            <p:cNvSpPr/>
            <p:nvPr/>
          </p:nvSpPr>
          <p:spPr>
            <a:xfrm>
              <a:off x="822240" y="330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3"/>
            <p:cNvGrpSpPr/>
            <p:nvPr/>
          </p:nvGrpSpPr>
          <p:grpSpPr>
            <a:xfrm>
              <a:off x="2238480" y="1259280"/>
              <a:ext cx="4390200" cy="3542400"/>
              <a:chOff x="2238480" y="1259280"/>
              <a:chExt cx="4390200" cy="3542400"/>
            </a:xfrm>
          </p:grpSpPr>
          <p:sp>
            <p:nvSpPr>
              <p:cNvPr id="290" name="Rectangle 104"/>
              <p:cNvSpPr/>
              <p:nvPr/>
            </p:nvSpPr>
            <p:spPr>
              <a:xfrm rot="5234400">
                <a:off x="5619600" y="2734560"/>
                <a:ext cx="800640" cy="7812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05"/>
              <p:cNvSpPr/>
              <p:nvPr/>
            </p:nvSpPr>
            <p:spPr>
              <a:xfrm>
                <a:off x="3991320" y="2401560"/>
                <a:ext cx="856800" cy="8568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06"/>
              <p:cNvSpPr/>
              <p:nvPr/>
            </p:nvSpPr>
            <p:spPr>
              <a:xfrm rot="10800000">
                <a:off x="4002120" y="325836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07"/>
              <p:cNvSpPr/>
              <p:nvPr/>
            </p:nvSpPr>
            <p:spPr>
              <a:xfrm>
                <a:off x="4002120" y="169776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108"/>
              <p:cNvSpPr/>
              <p:nvPr/>
            </p:nvSpPr>
            <p:spPr>
              <a:xfrm rot="17803200">
                <a:off x="4311720" y="150192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09"/>
              <p:cNvSpPr/>
              <p:nvPr/>
            </p:nvSpPr>
            <p:spPr>
              <a:xfrm rot="17803200">
                <a:off x="5009760" y="1764720"/>
                <a:ext cx="856800" cy="8568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110"/>
              <p:cNvSpPr/>
              <p:nvPr/>
            </p:nvSpPr>
            <p:spPr>
              <a:xfrm rot="7101000">
                <a:off x="5690880" y="219744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AutoShape 111"/>
              <p:cNvSpPr/>
              <p:nvPr/>
            </p:nvSpPr>
            <p:spPr>
              <a:xfrm rot="5400000">
                <a:off x="3220560" y="2049480"/>
                <a:ext cx="856800" cy="722880"/>
              </a:xfrm>
              <a:prstGeom prst="triangle">
                <a:avLst>
                  <a:gd name="adj" fmla="val 48889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12"/>
              <p:cNvSpPr/>
              <p:nvPr/>
            </p:nvSpPr>
            <p:spPr>
              <a:xfrm rot="1863600">
                <a:off x="3440520" y="1413000"/>
                <a:ext cx="826560" cy="8287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113"/>
              <p:cNvSpPr/>
              <p:nvPr/>
            </p:nvSpPr>
            <p:spPr>
              <a:xfrm rot="16200000">
                <a:off x="3216240" y="2483640"/>
                <a:ext cx="856800" cy="692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114"/>
              <p:cNvSpPr/>
              <p:nvPr/>
            </p:nvSpPr>
            <p:spPr>
              <a:xfrm>
                <a:off x="3572280" y="3269160"/>
                <a:ext cx="85680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115"/>
              <p:cNvSpPr/>
              <p:nvPr/>
            </p:nvSpPr>
            <p:spPr>
              <a:xfrm rot="19797600">
                <a:off x="4572000" y="2306160"/>
                <a:ext cx="943200" cy="742320"/>
              </a:xfrm>
              <a:prstGeom prst="triangle">
                <a:avLst>
                  <a:gd name="adj" fmla="val 47236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16"/>
              <p:cNvSpPr/>
              <p:nvPr/>
            </p:nvSpPr>
            <p:spPr>
              <a:xfrm rot="1863600">
                <a:off x="3021480" y="2982240"/>
                <a:ext cx="826560" cy="8287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17"/>
              <p:cNvSpPr/>
              <p:nvPr/>
            </p:nvSpPr>
            <p:spPr>
              <a:xfrm>
                <a:off x="2449800" y="1982520"/>
                <a:ext cx="828720" cy="8287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18"/>
              <p:cNvSpPr/>
              <p:nvPr/>
            </p:nvSpPr>
            <p:spPr>
              <a:xfrm rot="1708200">
                <a:off x="4591080" y="3383280"/>
                <a:ext cx="828720" cy="826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AutoShape 119"/>
              <p:cNvSpPr/>
              <p:nvPr/>
            </p:nvSpPr>
            <p:spPr>
              <a:xfrm rot="18027000">
                <a:off x="2329920" y="2654640"/>
                <a:ext cx="876240" cy="7142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20"/>
              <p:cNvSpPr/>
              <p:nvPr/>
            </p:nvSpPr>
            <p:spPr>
              <a:xfrm rot="1536000">
                <a:off x="4925520" y="2716200"/>
                <a:ext cx="932400" cy="761760"/>
              </a:xfrm>
              <a:prstGeom prst="triangle">
                <a:avLst>
                  <a:gd name="adj" fmla="val 54023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121"/>
              <p:cNvGrpSpPr/>
              <p:nvPr/>
            </p:nvGrpSpPr>
            <p:grpSpPr>
              <a:xfrm>
                <a:off x="5163480" y="3193920"/>
                <a:ext cx="1264680" cy="1139400"/>
                <a:chOff x="5163480" y="3193920"/>
                <a:chExt cx="1264680" cy="1139400"/>
              </a:xfrm>
            </p:grpSpPr>
            <p:sp>
              <p:nvSpPr>
                <p:cNvPr id="308" name="AutoShape 122"/>
                <p:cNvSpPr/>
                <p:nvPr/>
              </p:nvSpPr>
              <p:spPr>
                <a:xfrm>
                  <a:off x="5163480" y="3606840"/>
                  <a:ext cx="877680" cy="7264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23"/>
                <p:cNvSpPr/>
                <p:nvPr/>
              </p:nvSpPr>
              <p:spPr>
                <a:xfrm rot="17803200">
                  <a:off x="5459040" y="3399120"/>
                  <a:ext cx="898560" cy="7117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Rectangle 124"/>
              <p:cNvSpPr/>
              <p:nvPr/>
            </p:nvSpPr>
            <p:spPr>
              <a:xfrm rot="5400000">
                <a:off x="3619800" y="3972960"/>
                <a:ext cx="828720" cy="8287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Group 125"/>
              <p:cNvGrpSpPr/>
              <p:nvPr/>
            </p:nvGrpSpPr>
            <p:grpSpPr>
              <a:xfrm>
                <a:off x="2890440" y="3562920"/>
                <a:ext cx="1088640" cy="1230120"/>
                <a:chOff x="2890440" y="3562920"/>
                <a:chExt cx="1088640" cy="1230120"/>
              </a:xfrm>
            </p:grpSpPr>
            <p:sp>
              <p:nvSpPr>
                <p:cNvPr id="312" name="AutoShape 126"/>
                <p:cNvSpPr/>
                <p:nvPr/>
              </p:nvSpPr>
              <p:spPr>
                <a:xfrm rot="5400000">
                  <a:off x="2807640" y="3645720"/>
                  <a:ext cx="857160" cy="6915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127"/>
                <p:cNvSpPr/>
                <p:nvPr/>
              </p:nvSpPr>
              <p:spPr>
                <a:xfrm rot="1603200">
                  <a:off x="3013560" y="3942360"/>
                  <a:ext cx="855000" cy="695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Group 128"/>
            <p:cNvGrpSpPr/>
            <p:nvPr/>
          </p:nvGrpSpPr>
          <p:grpSpPr>
            <a:xfrm>
              <a:off x="2484360" y="938520"/>
              <a:ext cx="1218600" cy="1022040"/>
              <a:chOff x="2484360" y="938520"/>
              <a:chExt cx="1218600" cy="1022040"/>
            </a:xfrm>
          </p:grpSpPr>
          <p:sp>
            <p:nvSpPr>
              <p:cNvPr id="315" name="AutoShape 129"/>
              <p:cNvSpPr/>
              <p:nvPr/>
            </p:nvSpPr>
            <p:spPr>
              <a:xfrm>
                <a:off x="2484360" y="1318320"/>
                <a:ext cx="858960" cy="641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30"/>
              <p:cNvSpPr/>
              <p:nvPr/>
            </p:nvSpPr>
            <p:spPr>
              <a:xfrm rot="17803200">
                <a:off x="2816640" y="1101240"/>
                <a:ext cx="793440" cy="696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31"/>
            <p:cNvSpPr/>
            <p:nvPr/>
          </p:nvSpPr>
          <p:spPr>
            <a:xfrm rot="1983000">
              <a:off x="1943280" y="981000"/>
              <a:ext cx="828360" cy="828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132"/>
            <p:cNvGrpSpPr/>
            <p:nvPr/>
          </p:nvGrpSpPr>
          <p:grpSpPr>
            <a:xfrm>
              <a:off x="1740240" y="1515960"/>
              <a:ext cx="1131840" cy="1299600"/>
              <a:chOff x="1740240" y="1515960"/>
              <a:chExt cx="1131840" cy="1299600"/>
            </a:xfrm>
          </p:grpSpPr>
          <p:sp>
            <p:nvSpPr>
              <p:cNvPr id="319" name="AutoShape 133"/>
              <p:cNvSpPr/>
              <p:nvPr/>
            </p:nvSpPr>
            <p:spPr>
              <a:xfrm rot="5697600">
                <a:off x="1703160" y="1617480"/>
                <a:ext cx="856440" cy="711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134"/>
              <p:cNvSpPr/>
              <p:nvPr/>
            </p:nvSpPr>
            <p:spPr>
              <a:xfrm rot="1900800">
                <a:off x="1875600" y="1941480"/>
                <a:ext cx="87948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Rectangle 135"/>
            <p:cNvSpPr/>
            <p:nvPr/>
          </p:nvSpPr>
          <p:spPr>
            <a:xfrm>
              <a:off x="2916360" y="512640"/>
              <a:ext cx="792000" cy="7556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136"/>
            <p:cNvGrpSpPr/>
            <p:nvPr/>
          </p:nvGrpSpPr>
          <p:grpSpPr>
            <a:xfrm>
              <a:off x="3710160" y="476280"/>
              <a:ext cx="1089360" cy="1229400"/>
              <a:chOff x="3710160" y="476280"/>
              <a:chExt cx="1089360" cy="1229400"/>
            </a:xfrm>
          </p:grpSpPr>
          <p:sp>
            <p:nvSpPr>
              <p:cNvPr id="323" name="AutoShape 137"/>
              <p:cNvSpPr/>
              <p:nvPr/>
            </p:nvSpPr>
            <p:spPr>
              <a:xfrm rot="5400000">
                <a:off x="3628080" y="558000"/>
                <a:ext cx="856440" cy="692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utoShape 138"/>
              <p:cNvSpPr/>
              <p:nvPr/>
            </p:nvSpPr>
            <p:spPr>
              <a:xfrm rot="1603200">
                <a:off x="3832920" y="855360"/>
                <a:ext cx="85608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Rectangle 139"/>
            <p:cNvSpPr/>
            <p:nvPr/>
          </p:nvSpPr>
          <p:spPr>
            <a:xfrm rot="21361200">
              <a:off x="4427640" y="907920"/>
              <a:ext cx="792000" cy="757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40"/>
            <p:cNvGrpSpPr/>
            <p:nvPr/>
          </p:nvGrpSpPr>
          <p:grpSpPr>
            <a:xfrm>
              <a:off x="5249880" y="630720"/>
              <a:ext cx="1125360" cy="1222200"/>
              <a:chOff x="5249880" y="630720"/>
              <a:chExt cx="1125360" cy="1222200"/>
            </a:xfrm>
          </p:grpSpPr>
          <p:sp>
            <p:nvSpPr>
              <p:cNvPr id="327" name="AutoShape 141"/>
              <p:cNvSpPr/>
              <p:nvPr/>
            </p:nvSpPr>
            <p:spPr>
              <a:xfrm rot="15988800">
                <a:off x="5575320" y="1058040"/>
                <a:ext cx="856440" cy="692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142"/>
              <p:cNvSpPr/>
              <p:nvPr/>
            </p:nvSpPr>
            <p:spPr>
              <a:xfrm rot="12192000">
                <a:off x="5352120" y="771120"/>
                <a:ext cx="856440" cy="694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Rectangle 143"/>
            <p:cNvSpPr/>
            <p:nvPr/>
          </p:nvSpPr>
          <p:spPr>
            <a:xfrm rot="1863600">
              <a:off x="1476360" y="2491920"/>
              <a:ext cx="828720" cy="828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4"/>
            <p:cNvSpPr/>
            <p:nvPr/>
          </p:nvSpPr>
          <p:spPr>
            <a:xfrm rot="1863600">
              <a:off x="6516720" y="3933360"/>
              <a:ext cx="828720" cy="828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146"/>
          <p:cNvSpPr/>
          <p:nvPr/>
        </p:nvSpPr>
        <p:spPr>
          <a:xfrm>
            <a:off x="3200400" y="190512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47"/>
          <p:cNvSpPr/>
          <p:nvPr/>
        </p:nvSpPr>
        <p:spPr>
          <a:xfrm>
            <a:off x="2819520" y="1447920"/>
            <a:ext cx="1014120" cy="106020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060200"/>
              <a:gd name="textAreaBottom" fmla="*/ 1060560 h 1060200"/>
            </a:gdLst>
            <a:ahLst/>
            <a:rect l="textAreaLeft" t="textAreaTop" r="textAreaRight" b="textAreaBottom"/>
            <a:pathLst>
              <a:path w="639" h="668">
                <a:moveTo>
                  <a:pt x="60" y="509"/>
                </a:moveTo>
                <a:cubicBezTo>
                  <a:pt x="30" y="433"/>
                  <a:pt x="0" y="358"/>
                  <a:pt x="15" y="282"/>
                </a:cubicBezTo>
                <a:cubicBezTo>
                  <a:pt x="30" y="206"/>
                  <a:pt x="87" y="98"/>
                  <a:pt x="151" y="55"/>
                </a:cubicBezTo>
                <a:cubicBezTo>
                  <a:pt x="215" y="12"/>
                  <a:pt x="326" y="0"/>
                  <a:pt x="402" y="23"/>
                </a:cubicBezTo>
                <a:cubicBezTo>
                  <a:pt x="478" y="46"/>
                  <a:pt x="571" y="110"/>
                  <a:pt x="605" y="191"/>
                </a:cubicBezTo>
                <a:cubicBezTo>
                  <a:pt x="639" y="272"/>
                  <a:pt x="635" y="433"/>
                  <a:pt x="605" y="509"/>
                </a:cubicBezTo>
                <a:cubicBezTo>
                  <a:pt x="575" y="585"/>
                  <a:pt x="483" y="622"/>
                  <a:pt x="423" y="645"/>
                </a:cubicBezTo>
                <a:cubicBezTo>
                  <a:pt x="363" y="668"/>
                  <a:pt x="287" y="656"/>
                  <a:pt x="242" y="645"/>
                </a:cubicBezTo>
                <a:cubicBezTo>
                  <a:pt x="197" y="634"/>
                  <a:pt x="170" y="590"/>
                  <a:pt x="151" y="57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8"/>
          <p:cNvSpPr/>
          <p:nvPr/>
        </p:nvSpPr>
        <p:spPr>
          <a:xfrm>
            <a:off x="1428840" y="2349360"/>
            <a:ext cx="266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  <a:ea typeface="Arial"/>
              </a:rPr>
              <a:t>360</a:t>
            </a:r>
            <a:r>
              <a:rPr b="0" lang="en-US" sz="96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195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335" name="Freeform 196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97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98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99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00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01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02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03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164"/>
          <p:cNvSpPr/>
          <p:nvPr/>
        </p:nvSpPr>
        <p:spPr>
          <a:xfrm>
            <a:off x="4140360" y="5711760"/>
            <a:ext cx="812520" cy="669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90"/>
          <p:cNvGrpSpPr/>
          <p:nvPr/>
        </p:nvGrpSpPr>
        <p:grpSpPr>
          <a:xfrm>
            <a:off x="173880" y="78840"/>
            <a:ext cx="8355600" cy="5957640"/>
            <a:chOff x="173880" y="78840"/>
            <a:chExt cx="8355600" cy="5957640"/>
          </a:xfrm>
        </p:grpSpPr>
        <p:sp>
          <p:nvSpPr>
            <p:cNvPr id="345" name="Text Box 35"/>
            <p:cNvSpPr/>
            <p:nvPr/>
          </p:nvSpPr>
          <p:spPr>
            <a:xfrm>
              <a:off x="826920" y="525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92"/>
            <p:cNvGrpSpPr/>
            <p:nvPr/>
          </p:nvGrpSpPr>
          <p:grpSpPr>
            <a:xfrm>
              <a:off x="1729080" y="1441440"/>
              <a:ext cx="3315960" cy="3036600"/>
              <a:chOff x="1729080" y="1441440"/>
              <a:chExt cx="3315960" cy="3036600"/>
            </a:xfrm>
          </p:grpSpPr>
          <p:sp>
            <p:nvSpPr>
              <p:cNvPr id="347" name="AutoShape 93"/>
              <p:cNvSpPr/>
              <p:nvPr/>
            </p:nvSpPr>
            <p:spPr>
              <a:xfrm>
                <a:off x="2706840" y="2438280"/>
                <a:ext cx="1526760" cy="1368360"/>
              </a:xfrm>
              <a:prstGeom prst="hexagon">
                <a:avLst>
                  <a:gd name="adj" fmla="val 27894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94"/>
              <p:cNvSpPr/>
              <p:nvPr/>
            </p:nvSpPr>
            <p:spPr>
              <a:xfrm>
                <a:off x="2678760" y="3790800"/>
                <a:ext cx="811440" cy="668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95"/>
              <p:cNvSpPr/>
              <p:nvPr/>
            </p:nvSpPr>
            <p:spPr>
              <a:xfrm rot="17990400">
                <a:off x="2997000" y="3618000"/>
                <a:ext cx="78084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6"/>
              <p:cNvSpPr/>
              <p:nvPr/>
            </p:nvSpPr>
            <p:spPr>
              <a:xfrm>
                <a:off x="3834000" y="3135600"/>
                <a:ext cx="81468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97"/>
              <p:cNvSpPr/>
              <p:nvPr/>
            </p:nvSpPr>
            <p:spPr>
              <a:xfrm rot="17990400">
                <a:off x="3753720" y="2280240"/>
                <a:ext cx="78408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98"/>
              <p:cNvSpPr/>
              <p:nvPr/>
            </p:nvSpPr>
            <p:spPr>
              <a:xfrm>
                <a:off x="3062880" y="1770120"/>
                <a:ext cx="814680" cy="668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99"/>
              <p:cNvSpPr/>
              <p:nvPr/>
            </p:nvSpPr>
            <p:spPr>
              <a:xfrm rot="17990400">
                <a:off x="2213280" y="2265480"/>
                <a:ext cx="78084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100"/>
              <p:cNvSpPr/>
              <p:nvPr/>
            </p:nvSpPr>
            <p:spPr>
              <a:xfrm rot="17990400">
                <a:off x="3394800" y="1624680"/>
                <a:ext cx="78408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101"/>
              <p:cNvSpPr/>
              <p:nvPr/>
            </p:nvSpPr>
            <p:spPr>
              <a:xfrm>
                <a:off x="3877560" y="1783080"/>
                <a:ext cx="77112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102"/>
              <p:cNvSpPr/>
              <p:nvPr/>
            </p:nvSpPr>
            <p:spPr>
              <a:xfrm>
                <a:off x="4233600" y="2438280"/>
                <a:ext cx="81144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103"/>
              <p:cNvSpPr/>
              <p:nvPr/>
            </p:nvSpPr>
            <p:spPr>
              <a:xfrm rot="17990400">
                <a:off x="4124880" y="2948400"/>
                <a:ext cx="8100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104"/>
              <p:cNvSpPr/>
              <p:nvPr/>
            </p:nvSpPr>
            <p:spPr>
              <a:xfrm rot="17990400">
                <a:off x="3768120" y="3618000"/>
                <a:ext cx="78084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105"/>
              <p:cNvSpPr/>
              <p:nvPr/>
            </p:nvSpPr>
            <p:spPr>
              <a:xfrm>
                <a:off x="3462480" y="3790800"/>
                <a:ext cx="814680" cy="668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106"/>
              <p:cNvSpPr/>
              <p:nvPr/>
            </p:nvSpPr>
            <p:spPr>
              <a:xfrm>
                <a:off x="2294640" y="3122640"/>
                <a:ext cx="811440" cy="6681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107"/>
              <p:cNvSpPr/>
              <p:nvPr/>
            </p:nvSpPr>
            <p:spPr>
              <a:xfrm rot="17990400">
                <a:off x="2211480" y="3632760"/>
                <a:ext cx="78408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108"/>
              <p:cNvSpPr/>
              <p:nvPr/>
            </p:nvSpPr>
            <p:spPr>
              <a:xfrm>
                <a:off x="1895040" y="2438280"/>
                <a:ext cx="81144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109"/>
              <p:cNvSpPr/>
              <p:nvPr/>
            </p:nvSpPr>
            <p:spPr>
              <a:xfrm rot="17990400">
                <a:off x="1824480" y="2948400"/>
                <a:ext cx="78408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110"/>
              <p:cNvSpPr/>
              <p:nvPr/>
            </p:nvSpPr>
            <p:spPr>
              <a:xfrm rot="17990400">
                <a:off x="2584800" y="1610280"/>
                <a:ext cx="78084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utoShape 111"/>
              <p:cNvSpPr/>
              <p:nvPr/>
            </p:nvSpPr>
            <p:spPr>
              <a:xfrm>
                <a:off x="2279160" y="1783080"/>
                <a:ext cx="811440" cy="671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AutoShape 112"/>
            <p:cNvSpPr/>
            <p:nvPr/>
          </p:nvSpPr>
          <p:spPr>
            <a:xfrm>
              <a:off x="1150920" y="3765240"/>
              <a:ext cx="1528920" cy="1366920"/>
            </a:xfrm>
            <a:prstGeom prst="hexagon">
              <a:avLst>
                <a:gd name="adj" fmla="val 2796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13"/>
            <p:cNvSpPr/>
            <p:nvPr/>
          </p:nvSpPr>
          <p:spPr>
            <a:xfrm>
              <a:off x="1122480" y="5118120"/>
              <a:ext cx="812520" cy="669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14"/>
            <p:cNvSpPr/>
            <p:nvPr/>
          </p:nvSpPr>
          <p:spPr>
            <a:xfrm rot="17990400">
              <a:off x="1440720" y="4944240"/>
              <a:ext cx="782640" cy="676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15"/>
            <p:cNvSpPr/>
            <p:nvPr/>
          </p:nvSpPr>
          <p:spPr>
            <a:xfrm>
              <a:off x="2279520" y="446220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16"/>
            <p:cNvSpPr/>
            <p:nvPr/>
          </p:nvSpPr>
          <p:spPr>
            <a:xfrm>
              <a:off x="1508040" y="3095640"/>
              <a:ext cx="812880" cy="669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117"/>
            <p:cNvSpPr/>
            <p:nvPr/>
          </p:nvSpPr>
          <p:spPr>
            <a:xfrm rot="17990400">
              <a:off x="654480" y="3591000"/>
              <a:ext cx="784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18"/>
            <p:cNvSpPr/>
            <p:nvPr/>
          </p:nvSpPr>
          <p:spPr>
            <a:xfrm rot="17990400">
              <a:off x="2569680" y="4274640"/>
              <a:ext cx="811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19"/>
            <p:cNvSpPr/>
            <p:nvPr/>
          </p:nvSpPr>
          <p:spPr>
            <a:xfrm rot="17990400">
              <a:off x="2211120" y="494496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20"/>
            <p:cNvSpPr/>
            <p:nvPr/>
          </p:nvSpPr>
          <p:spPr>
            <a:xfrm>
              <a:off x="1908000" y="5118120"/>
              <a:ext cx="812880" cy="669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21"/>
            <p:cNvSpPr/>
            <p:nvPr/>
          </p:nvSpPr>
          <p:spPr>
            <a:xfrm>
              <a:off x="736560" y="444816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22"/>
            <p:cNvSpPr/>
            <p:nvPr/>
          </p:nvSpPr>
          <p:spPr>
            <a:xfrm rot="17990400">
              <a:off x="655200" y="495936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123"/>
            <p:cNvSpPr/>
            <p:nvPr/>
          </p:nvSpPr>
          <p:spPr>
            <a:xfrm>
              <a:off x="338040" y="3765240"/>
              <a:ext cx="812880" cy="668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124"/>
            <p:cNvSpPr/>
            <p:nvPr/>
          </p:nvSpPr>
          <p:spPr>
            <a:xfrm rot="17990400">
              <a:off x="269640" y="427500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25"/>
            <p:cNvSpPr/>
            <p:nvPr/>
          </p:nvSpPr>
          <p:spPr>
            <a:xfrm rot="17990400">
              <a:off x="1026000" y="2935440"/>
              <a:ext cx="784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126"/>
            <p:cNvSpPr/>
            <p:nvPr/>
          </p:nvSpPr>
          <p:spPr>
            <a:xfrm>
              <a:off x="723960" y="310968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127"/>
            <p:cNvSpPr/>
            <p:nvPr/>
          </p:nvSpPr>
          <p:spPr>
            <a:xfrm>
              <a:off x="4648320" y="3095640"/>
              <a:ext cx="1528560" cy="1366560"/>
            </a:xfrm>
            <a:prstGeom prst="hexagon">
              <a:avLst>
                <a:gd name="adj" fmla="val 27964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28"/>
            <p:cNvSpPr/>
            <p:nvPr/>
          </p:nvSpPr>
          <p:spPr>
            <a:xfrm>
              <a:off x="4621320" y="4448160"/>
              <a:ext cx="81252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129"/>
            <p:cNvSpPr/>
            <p:nvPr/>
          </p:nvSpPr>
          <p:spPr>
            <a:xfrm rot="17990400">
              <a:off x="4938480" y="427500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130"/>
            <p:cNvSpPr/>
            <p:nvPr/>
          </p:nvSpPr>
          <p:spPr>
            <a:xfrm>
              <a:off x="5778360" y="3794040"/>
              <a:ext cx="812880" cy="66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31"/>
            <p:cNvSpPr/>
            <p:nvPr/>
          </p:nvSpPr>
          <p:spPr>
            <a:xfrm rot="17990400">
              <a:off x="5695920" y="2934360"/>
              <a:ext cx="784440" cy="67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32"/>
            <p:cNvSpPr/>
            <p:nvPr/>
          </p:nvSpPr>
          <p:spPr>
            <a:xfrm>
              <a:off x="5006880" y="242568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33"/>
            <p:cNvSpPr/>
            <p:nvPr/>
          </p:nvSpPr>
          <p:spPr>
            <a:xfrm rot="17990400">
              <a:off x="5338440" y="228096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134"/>
            <p:cNvSpPr/>
            <p:nvPr/>
          </p:nvSpPr>
          <p:spPr>
            <a:xfrm>
              <a:off x="5819760" y="2439720"/>
              <a:ext cx="7714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135"/>
            <p:cNvSpPr/>
            <p:nvPr/>
          </p:nvSpPr>
          <p:spPr>
            <a:xfrm>
              <a:off x="6176880" y="3095640"/>
              <a:ext cx="812880" cy="669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36"/>
            <p:cNvSpPr/>
            <p:nvPr/>
          </p:nvSpPr>
          <p:spPr>
            <a:xfrm rot="17990400">
              <a:off x="6066360" y="3605400"/>
              <a:ext cx="81288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37"/>
            <p:cNvSpPr/>
            <p:nvPr/>
          </p:nvSpPr>
          <p:spPr>
            <a:xfrm rot="17990400">
              <a:off x="5709960" y="427500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38"/>
            <p:cNvSpPr/>
            <p:nvPr/>
          </p:nvSpPr>
          <p:spPr>
            <a:xfrm>
              <a:off x="5407200" y="4448160"/>
              <a:ext cx="8110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39"/>
            <p:cNvSpPr/>
            <p:nvPr/>
          </p:nvSpPr>
          <p:spPr>
            <a:xfrm>
              <a:off x="4235400" y="3779640"/>
              <a:ext cx="812880" cy="668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40"/>
            <p:cNvSpPr/>
            <p:nvPr/>
          </p:nvSpPr>
          <p:spPr>
            <a:xfrm rot="17990400">
              <a:off x="4154040" y="428940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41"/>
            <p:cNvSpPr/>
            <p:nvPr/>
          </p:nvSpPr>
          <p:spPr>
            <a:xfrm rot="17990400">
              <a:off x="4525560" y="226692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142"/>
            <p:cNvGrpSpPr/>
            <p:nvPr/>
          </p:nvGrpSpPr>
          <p:grpSpPr>
            <a:xfrm>
              <a:off x="5213520" y="771120"/>
              <a:ext cx="3315960" cy="3038760"/>
              <a:chOff x="5213520" y="771120"/>
              <a:chExt cx="3315960" cy="3038760"/>
            </a:xfrm>
          </p:grpSpPr>
          <p:sp>
            <p:nvSpPr>
              <p:cNvPr id="397" name="AutoShape 143"/>
              <p:cNvSpPr/>
              <p:nvPr/>
            </p:nvSpPr>
            <p:spPr>
              <a:xfrm>
                <a:off x="6191280" y="1769040"/>
                <a:ext cx="1526760" cy="1369440"/>
              </a:xfrm>
              <a:prstGeom prst="hexagon">
                <a:avLst>
                  <a:gd name="adj" fmla="val 2787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utoShape 144"/>
              <p:cNvSpPr/>
              <p:nvPr/>
            </p:nvSpPr>
            <p:spPr>
              <a:xfrm>
                <a:off x="6163200" y="3122280"/>
                <a:ext cx="81144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utoShape 145"/>
              <p:cNvSpPr/>
              <p:nvPr/>
            </p:nvSpPr>
            <p:spPr>
              <a:xfrm rot="17990400">
                <a:off x="6480720" y="2949120"/>
                <a:ext cx="78156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146"/>
              <p:cNvSpPr/>
              <p:nvPr/>
            </p:nvSpPr>
            <p:spPr>
              <a:xfrm>
                <a:off x="7318440" y="2466720"/>
                <a:ext cx="81468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147"/>
              <p:cNvSpPr/>
              <p:nvPr/>
            </p:nvSpPr>
            <p:spPr>
              <a:xfrm rot="17990400">
                <a:off x="7237800" y="1611000"/>
                <a:ext cx="7848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148"/>
              <p:cNvSpPr/>
              <p:nvPr/>
            </p:nvSpPr>
            <p:spPr>
              <a:xfrm>
                <a:off x="6547320" y="1100520"/>
                <a:ext cx="81468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149"/>
              <p:cNvSpPr/>
              <p:nvPr/>
            </p:nvSpPr>
            <p:spPr>
              <a:xfrm rot="17990400">
                <a:off x="5697000" y="1595880"/>
                <a:ext cx="78156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150"/>
              <p:cNvSpPr/>
              <p:nvPr/>
            </p:nvSpPr>
            <p:spPr>
              <a:xfrm rot="17990400">
                <a:off x="6878880" y="955080"/>
                <a:ext cx="7848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151"/>
              <p:cNvSpPr/>
              <p:nvPr/>
            </p:nvSpPr>
            <p:spPr>
              <a:xfrm>
                <a:off x="7362000" y="1113480"/>
                <a:ext cx="77112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152"/>
              <p:cNvSpPr/>
              <p:nvPr/>
            </p:nvSpPr>
            <p:spPr>
              <a:xfrm>
                <a:off x="7718040" y="1769040"/>
                <a:ext cx="81144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153"/>
              <p:cNvSpPr/>
              <p:nvPr/>
            </p:nvSpPr>
            <p:spPr>
              <a:xfrm rot="17990400">
                <a:off x="7608960" y="2279520"/>
                <a:ext cx="81072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AutoShape 154"/>
              <p:cNvSpPr/>
              <p:nvPr/>
            </p:nvSpPr>
            <p:spPr>
              <a:xfrm rot="17990400">
                <a:off x="7251840" y="2949120"/>
                <a:ext cx="78156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AutoShape 155"/>
              <p:cNvSpPr/>
              <p:nvPr/>
            </p:nvSpPr>
            <p:spPr>
              <a:xfrm>
                <a:off x="6946920" y="3122280"/>
                <a:ext cx="81468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AutoShape 156"/>
              <p:cNvSpPr/>
              <p:nvPr/>
            </p:nvSpPr>
            <p:spPr>
              <a:xfrm>
                <a:off x="5779080" y="2453760"/>
                <a:ext cx="811440" cy="66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157"/>
              <p:cNvSpPr/>
              <p:nvPr/>
            </p:nvSpPr>
            <p:spPr>
              <a:xfrm rot="17990400">
                <a:off x="5695560" y="2964240"/>
                <a:ext cx="7848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158"/>
              <p:cNvSpPr/>
              <p:nvPr/>
            </p:nvSpPr>
            <p:spPr>
              <a:xfrm>
                <a:off x="5379480" y="1769040"/>
                <a:ext cx="81144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159"/>
              <p:cNvSpPr/>
              <p:nvPr/>
            </p:nvSpPr>
            <p:spPr>
              <a:xfrm rot="17990400">
                <a:off x="5308560" y="2279520"/>
                <a:ext cx="78480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160"/>
              <p:cNvSpPr/>
              <p:nvPr/>
            </p:nvSpPr>
            <p:spPr>
              <a:xfrm rot="17990400">
                <a:off x="6068520" y="940320"/>
                <a:ext cx="781560" cy="67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399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161"/>
              <p:cNvSpPr/>
              <p:nvPr/>
            </p:nvSpPr>
            <p:spPr>
              <a:xfrm>
                <a:off x="5763600" y="1113480"/>
                <a:ext cx="811440" cy="6717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AutoShape 163"/>
            <p:cNvSpPr/>
            <p:nvPr/>
          </p:nvSpPr>
          <p:spPr>
            <a:xfrm rot="17990400">
              <a:off x="4732920" y="5191200"/>
              <a:ext cx="784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165"/>
            <p:cNvSpPr/>
            <p:nvPr/>
          </p:nvSpPr>
          <p:spPr>
            <a:xfrm>
              <a:off x="3059280" y="4416120"/>
              <a:ext cx="1584000" cy="1366920"/>
            </a:xfrm>
            <a:prstGeom prst="hexagon">
              <a:avLst>
                <a:gd name="adj" fmla="val 28970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7"/>
            <p:cNvSpPr/>
            <p:nvPr/>
          </p:nvSpPr>
          <p:spPr>
            <a:xfrm>
              <a:off x="4246560" y="1077840"/>
              <a:ext cx="1528920" cy="1366920"/>
            </a:xfrm>
            <a:prstGeom prst="hexagon">
              <a:avLst>
                <a:gd name="adj" fmla="val 2796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171"/>
            <p:cNvSpPr/>
            <p:nvPr/>
          </p:nvSpPr>
          <p:spPr>
            <a:xfrm rot="17990400">
              <a:off x="5293800" y="91908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72"/>
            <p:cNvSpPr/>
            <p:nvPr/>
          </p:nvSpPr>
          <p:spPr>
            <a:xfrm>
              <a:off x="4603680" y="409320"/>
              <a:ext cx="812880" cy="668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73"/>
            <p:cNvSpPr/>
            <p:nvPr/>
          </p:nvSpPr>
          <p:spPr>
            <a:xfrm rot="17990400">
              <a:off x="3750840" y="904680"/>
              <a:ext cx="7826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174"/>
            <p:cNvSpPr/>
            <p:nvPr/>
          </p:nvSpPr>
          <p:spPr>
            <a:xfrm rot="17990400">
              <a:off x="4936320" y="262800"/>
              <a:ext cx="782640" cy="676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75"/>
            <p:cNvSpPr/>
            <p:nvPr/>
          </p:nvSpPr>
          <p:spPr>
            <a:xfrm>
              <a:off x="5416560" y="423720"/>
              <a:ext cx="771480" cy="66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182"/>
            <p:cNvSpPr/>
            <p:nvPr/>
          </p:nvSpPr>
          <p:spPr>
            <a:xfrm>
              <a:off x="3433680" y="1077840"/>
              <a:ext cx="812880" cy="669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183"/>
            <p:cNvSpPr/>
            <p:nvPr/>
          </p:nvSpPr>
          <p:spPr>
            <a:xfrm rot="17990400">
              <a:off x="3364560" y="1587600"/>
              <a:ext cx="784440" cy="6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184"/>
            <p:cNvSpPr/>
            <p:nvPr/>
          </p:nvSpPr>
          <p:spPr>
            <a:xfrm rot="17990400">
              <a:off x="4123440" y="248400"/>
              <a:ext cx="782640" cy="67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3399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185"/>
            <p:cNvSpPr/>
            <p:nvPr/>
          </p:nvSpPr>
          <p:spPr>
            <a:xfrm>
              <a:off x="3819600" y="423720"/>
              <a:ext cx="812880" cy="668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Oval 191"/>
          <p:cNvSpPr/>
          <p:nvPr/>
        </p:nvSpPr>
        <p:spPr>
          <a:xfrm>
            <a:off x="3733920" y="236232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92"/>
          <p:cNvSpPr/>
          <p:nvPr/>
        </p:nvSpPr>
        <p:spPr>
          <a:xfrm>
            <a:off x="3276720" y="1981080"/>
            <a:ext cx="1014120" cy="106056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639" h="668">
                <a:moveTo>
                  <a:pt x="60" y="509"/>
                </a:moveTo>
                <a:cubicBezTo>
                  <a:pt x="30" y="433"/>
                  <a:pt x="0" y="358"/>
                  <a:pt x="15" y="282"/>
                </a:cubicBezTo>
                <a:cubicBezTo>
                  <a:pt x="30" y="206"/>
                  <a:pt x="87" y="98"/>
                  <a:pt x="151" y="55"/>
                </a:cubicBezTo>
                <a:cubicBezTo>
                  <a:pt x="215" y="12"/>
                  <a:pt x="326" y="0"/>
                  <a:pt x="402" y="23"/>
                </a:cubicBezTo>
                <a:cubicBezTo>
                  <a:pt x="478" y="46"/>
                  <a:pt x="571" y="110"/>
                  <a:pt x="605" y="191"/>
                </a:cubicBezTo>
                <a:cubicBezTo>
                  <a:pt x="639" y="272"/>
                  <a:pt x="635" y="433"/>
                  <a:pt x="605" y="509"/>
                </a:cubicBezTo>
                <a:cubicBezTo>
                  <a:pt x="575" y="585"/>
                  <a:pt x="483" y="622"/>
                  <a:pt x="423" y="645"/>
                </a:cubicBezTo>
                <a:cubicBezTo>
                  <a:pt x="363" y="668"/>
                  <a:pt x="287" y="656"/>
                  <a:pt x="242" y="645"/>
                </a:cubicBezTo>
                <a:cubicBezTo>
                  <a:pt x="197" y="634"/>
                  <a:pt x="170" y="590"/>
                  <a:pt x="151" y="57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3"/>
          <p:cNvSpPr/>
          <p:nvPr/>
        </p:nvSpPr>
        <p:spPr>
          <a:xfrm>
            <a:off x="643320" y="2544840"/>
            <a:ext cx="270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  <a:ea typeface="Arial"/>
              </a:rPr>
              <a:t>360</a:t>
            </a:r>
            <a:r>
              <a:rPr b="0" lang="en-US" sz="96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141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432" name="Freeform 142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3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44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45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46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47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48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49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67"/>
          <p:cNvSpPr/>
          <p:nvPr/>
        </p:nvSpPr>
        <p:spPr>
          <a:xfrm>
            <a:off x="82692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35"/>
          <p:cNvGrpSpPr/>
          <p:nvPr/>
        </p:nvGrpSpPr>
        <p:grpSpPr>
          <a:xfrm>
            <a:off x="436320" y="749880"/>
            <a:ext cx="6344280" cy="5679720"/>
            <a:chOff x="436320" y="749880"/>
            <a:chExt cx="6344280" cy="5679720"/>
          </a:xfrm>
        </p:grpSpPr>
        <p:grpSp>
          <p:nvGrpSpPr>
            <p:cNvPr id="442" name="Group 2"/>
            <p:cNvGrpSpPr/>
            <p:nvPr/>
          </p:nvGrpSpPr>
          <p:grpSpPr>
            <a:xfrm>
              <a:off x="3123720" y="749880"/>
              <a:ext cx="3656880" cy="3988800"/>
              <a:chOff x="3123720" y="749880"/>
              <a:chExt cx="3656880" cy="3988800"/>
            </a:xfrm>
          </p:grpSpPr>
          <p:sp>
            <p:nvSpPr>
              <p:cNvPr id="443" name="AutoShape 3"/>
              <p:cNvSpPr/>
              <p:nvPr/>
            </p:nvSpPr>
            <p:spPr>
              <a:xfrm flipH="1" rot="5266200">
                <a:off x="3106440" y="2671560"/>
                <a:ext cx="587160" cy="530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4"/>
              <p:cNvSpPr/>
              <p:nvPr/>
            </p:nvSpPr>
            <p:spPr>
              <a:xfrm rot="21466200">
                <a:off x="3636720" y="2382120"/>
                <a:ext cx="1202040" cy="1024920"/>
              </a:xfrm>
              <a:prstGeom prst="hexagon">
                <a:avLst>
                  <a:gd name="adj" fmla="val 2932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5"/>
              <p:cNvSpPr/>
              <p:nvPr/>
            </p:nvSpPr>
            <p:spPr>
              <a:xfrm rot="1642200">
                <a:off x="4661640" y="2968920"/>
                <a:ext cx="550800" cy="587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6"/>
              <p:cNvSpPr/>
              <p:nvPr/>
            </p:nvSpPr>
            <p:spPr>
              <a:xfrm rot="3498000">
                <a:off x="4633560" y="2163240"/>
                <a:ext cx="59436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7"/>
              <p:cNvSpPr/>
              <p:nvPr/>
            </p:nvSpPr>
            <p:spPr>
              <a:xfrm rot="3498000">
                <a:off x="3247920" y="3039480"/>
                <a:ext cx="59436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8"/>
              <p:cNvSpPr/>
              <p:nvPr/>
            </p:nvSpPr>
            <p:spPr>
              <a:xfrm rot="1642200">
                <a:off x="3245400" y="2233440"/>
                <a:ext cx="550800" cy="587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9"/>
              <p:cNvSpPr/>
              <p:nvPr/>
            </p:nvSpPr>
            <p:spPr>
              <a:xfrm rot="5266200">
                <a:off x="3988440" y="3385800"/>
                <a:ext cx="54288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0"/>
              <p:cNvSpPr/>
              <p:nvPr/>
            </p:nvSpPr>
            <p:spPr>
              <a:xfrm rot="5266200">
                <a:off x="3926880" y="1806840"/>
                <a:ext cx="54288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11"/>
              <p:cNvSpPr/>
              <p:nvPr/>
            </p:nvSpPr>
            <p:spPr>
              <a:xfrm rot="21466200">
                <a:off x="5052960" y="3117600"/>
                <a:ext cx="1202040" cy="1024920"/>
              </a:xfrm>
              <a:prstGeom prst="hexagon">
                <a:avLst>
                  <a:gd name="adj" fmla="val 2932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2"/>
              <p:cNvSpPr/>
              <p:nvPr/>
            </p:nvSpPr>
            <p:spPr>
              <a:xfrm rot="5266200">
                <a:off x="5352840" y="2541600"/>
                <a:ext cx="583560" cy="585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3"/>
              <p:cNvSpPr/>
              <p:nvPr/>
            </p:nvSpPr>
            <p:spPr>
              <a:xfrm rot="3498000">
                <a:off x="6019560" y="1297080"/>
                <a:ext cx="59436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4"/>
              <p:cNvSpPr/>
              <p:nvPr/>
            </p:nvSpPr>
            <p:spPr>
              <a:xfrm rot="1650000">
                <a:off x="6047280" y="2122920"/>
                <a:ext cx="602640" cy="587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AutoShape 15"/>
              <p:cNvSpPr/>
              <p:nvPr/>
            </p:nvSpPr>
            <p:spPr>
              <a:xfrm rot="16066200">
                <a:off x="4799160" y="2589840"/>
                <a:ext cx="576360" cy="530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16"/>
              <p:cNvSpPr/>
              <p:nvPr/>
            </p:nvSpPr>
            <p:spPr>
              <a:xfrm rot="16066200">
                <a:off x="6191640" y="1739520"/>
                <a:ext cx="587160" cy="530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17"/>
              <p:cNvSpPr/>
              <p:nvPr/>
            </p:nvSpPr>
            <p:spPr>
              <a:xfrm rot="19736400">
                <a:off x="5769000" y="2476440"/>
                <a:ext cx="59580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18"/>
              <p:cNvSpPr/>
              <p:nvPr/>
            </p:nvSpPr>
            <p:spPr>
              <a:xfrm rot="19675200">
                <a:off x="4333320" y="1770840"/>
                <a:ext cx="573840" cy="4860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19"/>
              <p:cNvSpPr/>
              <p:nvPr/>
            </p:nvSpPr>
            <p:spPr>
              <a:xfrm rot="16066200">
                <a:off x="3428640" y="3451320"/>
                <a:ext cx="555120" cy="519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20"/>
              <p:cNvSpPr/>
              <p:nvPr/>
            </p:nvSpPr>
            <p:spPr>
              <a:xfrm rot="16066200">
                <a:off x="3383280" y="1877040"/>
                <a:ext cx="544320" cy="4978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utoShape 21"/>
              <p:cNvSpPr/>
              <p:nvPr/>
            </p:nvSpPr>
            <p:spPr>
              <a:xfrm rot="19641600">
                <a:off x="4364280" y="3354120"/>
                <a:ext cx="595440" cy="476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22"/>
              <p:cNvSpPr/>
              <p:nvPr/>
            </p:nvSpPr>
            <p:spPr>
              <a:xfrm rot="8790000">
                <a:off x="4669200" y="3746520"/>
                <a:ext cx="591840" cy="577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 rot="3459000">
                <a:off x="6061320" y="2919600"/>
                <a:ext cx="583560" cy="585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4"/>
              <p:cNvSpPr/>
              <p:nvPr/>
            </p:nvSpPr>
            <p:spPr>
              <a:xfrm rot="7027200">
                <a:off x="6091920" y="3709080"/>
                <a:ext cx="583560" cy="585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25"/>
              <p:cNvSpPr/>
              <p:nvPr/>
            </p:nvSpPr>
            <p:spPr>
              <a:xfrm rot="5266200">
                <a:off x="5393520" y="4142880"/>
                <a:ext cx="583560" cy="585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26"/>
              <p:cNvSpPr/>
              <p:nvPr/>
            </p:nvSpPr>
            <p:spPr>
              <a:xfrm rot="16066200">
                <a:off x="6221160" y="3351960"/>
                <a:ext cx="587160" cy="509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27"/>
              <p:cNvSpPr/>
              <p:nvPr/>
            </p:nvSpPr>
            <p:spPr>
              <a:xfrm rot="19736400">
                <a:off x="5820120" y="4067280"/>
                <a:ext cx="59544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28"/>
              <p:cNvSpPr/>
              <p:nvPr/>
            </p:nvSpPr>
            <p:spPr>
              <a:xfrm rot="1708800">
                <a:off x="4953600" y="4089600"/>
                <a:ext cx="59544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29"/>
              <p:cNvSpPr/>
              <p:nvPr/>
            </p:nvSpPr>
            <p:spPr>
              <a:xfrm rot="19736400">
                <a:off x="5727960" y="865080"/>
                <a:ext cx="59544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30"/>
              <p:cNvSpPr/>
              <p:nvPr/>
            </p:nvSpPr>
            <p:spPr>
              <a:xfrm rot="1557000">
                <a:off x="4861800" y="909000"/>
                <a:ext cx="595440" cy="53316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31"/>
              <p:cNvSpPr/>
              <p:nvPr/>
            </p:nvSpPr>
            <p:spPr>
              <a:xfrm rot="5266200">
                <a:off x="5289840" y="919440"/>
                <a:ext cx="594360" cy="596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32"/>
              <p:cNvSpPr/>
              <p:nvPr/>
            </p:nvSpPr>
            <p:spPr>
              <a:xfrm rot="1669800">
                <a:off x="4598640" y="1388520"/>
                <a:ext cx="602640" cy="587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33"/>
              <p:cNvSpPr/>
              <p:nvPr/>
            </p:nvSpPr>
            <p:spPr>
              <a:xfrm rot="21466200">
                <a:off x="5023080" y="1515960"/>
                <a:ext cx="1202040" cy="1024920"/>
              </a:xfrm>
              <a:prstGeom prst="hexagon">
                <a:avLst>
                  <a:gd name="adj" fmla="val 2932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AutoShape 98"/>
            <p:cNvSpPr/>
            <p:nvPr/>
          </p:nvSpPr>
          <p:spPr>
            <a:xfrm rot="1690800">
              <a:off x="1332000" y="2492280"/>
              <a:ext cx="595080" cy="533520"/>
            </a:xfrm>
            <a:prstGeom prst="triangle">
              <a:avLst>
                <a:gd name="adj" fmla="val 50194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99"/>
            <p:cNvSpPr/>
            <p:nvPr/>
          </p:nvSpPr>
          <p:spPr>
            <a:xfrm rot="5400000">
              <a:off x="2485080" y="2419920"/>
              <a:ext cx="595080" cy="596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130"/>
            <p:cNvSpPr/>
            <p:nvPr/>
          </p:nvSpPr>
          <p:spPr>
            <a:xfrm rot="1690800">
              <a:off x="1834920" y="2133720"/>
              <a:ext cx="595080" cy="533160"/>
            </a:xfrm>
            <a:prstGeom prst="triangle">
              <a:avLst>
                <a:gd name="adj" fmla="val 50194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134"/>
            <p:cNvGrpSpPr/>
            <p:nvPr/>
          </p:nvGrpSpPr>
          <p:grpSpPr>
            <a:xfrm>
              <a:off x="436320" y="3040920"/>
              <a:ext cx="3604320" cy="3388680"/>
              <a:chOff x="436320" y="3040920"/>
              <a:chExt cx="3604320" cy="3388680"/>
            </a:xfrm>
          </p:grpSpPr>
          <p:sp>
            <p:nvSpPr>
              <p:cNvPr id="478" name="AutoShape 71"/>
              <p:cNvSpPr/>
              <p:nvPr/>
            </p:nvSpPr>
            <p:spPr>
              <a:xfrm flipH="1" rot="5211600">
                <a:off x="421920" y="4428720"/>
                <a:ext cx="577800" cy="519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utoShape 72"/>
              <p:cNvSpPr/>
              <p:nvPr/>
            </p:nvSpPr>
            <p:spPr>
              <a:xfrm rot="21411600">
                <a:off x="943560" y="4129920"/>
                <a:ext cx="1177560" cy="1008720"/>
              </a:xfrm>
              <a:prstGeom prst="hexagon">
                <a:avLst>
                  <a:gd name="adj" fmla="val 291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73"/>
              <p:cNvSpPr/>
              <p:nvPr/>
            </p:nvSpPr>
            <p:spPr>
              <a:xfrm rot="1587600">
                <a:off x="1953000" y="4696920"/>
                <a:ext cx="540000" cy="577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74"/>
              <p:cNvSpPr/>
              <p:nvPr/>
            </p:nvSpPr>
            <p:spPr>
              <a:xfrm rot="3443400">
                <a:off x="1913040" y="3905280"/>
                <a:ext cx="58356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75"/>
              <p:cNvSpPr/>
              <p:nvPr/>
            </p:nvSpPr>
            <p:spPr>
              <a:xfrm rot="3443400">
                <a:off x="568440" y="4788000"/>
                <a:ext cx="583920" cy="585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76"/>
              <p:cNvSpPr/>
              <p:nvPr/>
            </p:nvSpPr>
            <p:spPr>
              <a:xfrm rot="1587600">
                <a:off x="554400" y="3994920"/>
                <a:ext cx="539640" cy="577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77"/>
              <p:cNvSpPr/>
              <p:nvPr/>
            </p:nvSpPr>
            <p:spPr>
              <a:xfrm rot="5211600">
                <a:off x="1299600" y="5117760"/>
                <a:ext cx="53388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78"/>
              <p:cNvSpPr/>
              <p:nvPr/>
            </p:nvSpPr>
            <p:spPr>
              <a:xfrm rot="5211600">
                <a:off x="1214280" y="3566520"/>
                <a:ext cx="53388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79"/>
              <p:cNvSpPr/>
              <p:nvPr/>
            </p:nvSpPr>
            <p:spPr>
              <a:xfrm rot="21411600">
                <a:off x="2342520" y="4831920"/>
                <a:ext cx="1177560" cy="1007280"/>
              </a:xfrm>
              <a:prstGeom prst="hexagon">
                <a:avLst>
                  <a:gd name="adj" fmla="val 2922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80"/>
              <p:cNvSpPr/>
              <p:nvPr/>
            </p:nvSpPr>
            <p:spPr>
              <a:xfrm rot="5211600">
                <a:off x="2622960" y="4265280"/>
                <a:ext cx="574200" cy="5738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82"/>
              <p:cNvSpPr/>
              <p:nvPr/>
            </p:nvSpPr>
            <p:spPr>
              <a:xfrm rot="1595400">
                <a:off x="3297960" y="3842640"/>
                <a:ext cx="591120" cy="577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83"/>
              <p:cNvSpPr/>
              <p:nvPr/>
            </p:nvSpPr>
            <p:spPr>
              <a:xfrm rot="16011600">
                <a:off x="2081160" y="4322880"/>
                <a:ext cx="566640" cy="52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85"/>
              <p:cNvSpPr/>
              <p:nvPr/>
            </p:nvSpPr>
            <p:spPr>
              <a:xfrm rot="19681800">
                <a:off x="3030480" y="4195800"/>
                <a:ext cx="583560" cy="52308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utoShape 86"/>
              <p:cNvSpPr/>
              <p:nvPr/>
            </p:nvSpPr>
            <p:spPr>
              <a:xfrm rot="19620600">
                <a:off x="1611360" y="3523680"/>
                <a:ext cx="563400" cy="477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87"/>
              <p:cNvSpPr/>
              <p:nvPr/>
            </p:nvSpPr>
            <p:spPr>
              <a:xfrm rot="16011600">
                <a:off x="750960" y="5190120"/>
                <a:ext cx="546480" cy="5101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88"/>
              <p:cNvSpPr/>
              <p:nvPr/>
            </p:nvSpPr>
            <p:spPr>
              <a:xfrm rot="16011600">
                <a:off x="681120" y="3643200"/>
                <a:ext cx="537120" cy="48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89"/>
              <p:cNvSpPr/>
              <p:nvPr/>
            </p:nvSpPr>
            <p:spPr>
              <a:xfrm rot="19587600">
                <a:off x="1667520" y="5078520"/>
                <a:ext cx="583200" cy="468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90"/>
              <p:cNvSpPr/>
              <p:nvPr/>
            </p:nvSpPr>
            <p:spPr>
              <a:xfrm rot="8735400">
                <a:off x="1973160" y="5461200"/>
                <a:ext cx="580320" cy="56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91"/>
              <p:cNvSpPr/>
              <p:nvPr/>
            </p:nvSpPr>
            <p:spPr>
              <a:xfrm rot="3404400">
                <a:off x="3323520" y="4628160"/>
                <a:ext cx="574200" cy="572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92"/>
              <p:cNvSpPr/>
              <p:nvPr/>
            </p:nvSpPr>
            <p:spPr>
              <a:xfrm rot="6972600">
                <a:off x="3366360" y="5403960"/>
                <a:ext cx="572760" cy="572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93"/>
              <p:cNvSpPr/>
              <p:nvPr/>
            </p:nvSpPr>
            <p:spPr>
              <a:xfrm rot="5211600">
                <a:off x="2686680" y="5839920"/>
                <a:ext cx="574560" cy="5738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94"/>
              <p:cNvSpPr/>
              <p:nvPr/>
            </p:nvSpPr>
            <p:spPr>
              <a:xfrm rot="16011600">
                <a:off x="3486600" y="5049360"/>
                <a:ext cx="577800" cy="499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95"/>
              <p:cNvSpPr/>
              <p:nvPr/>
            </p:nvSpPr>
            <p:spPr>
              <a:xfrm rot="19681800">
                <a:off x="3105360" y="5758560"/>
                <a:ext cx="583200" cy="52452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96"/>
              <p:cNvSpPr/>
              <p:nvPr/>
            </p:nvSpPr>
            <p:spPr>
              <a:xfrm rot="1654200">
                <a:off x="2256120" y="5793840"/>
                <a:ext cx="583200" cy="52452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00"/>
              <p:cNvSpPr/>
              <p:nvPr/>
            </p:nvSpPr>
            <p:spPr>
              <a:xfrm rot="1615200">
                <a:off x="1866240" y="3143160"/>
                <a:ext cx="591120" cy="579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101"/>
              <p:cNvSpPr/>
              <p:nvPr/>
            </p:nvSpPr>
            <p:spPr>
              <a:xfrm rot="21411600">
                <a:off x="2288520" y="3257280"/>
                <a:ext cx="1177560" cy="1008720"/>
              </a:xfrm>
              <a:prstGeom prst="hexagon">
                <a:avLst>
                  <a:gd name="adj" fmla="val 291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AutoShape 103"/>
              <p:cNvSpPr/>
              <p:nvPr/>
            </p:nvSpPr>
            <p:spPr>
              <a:xfrm flipH="1" rot="5211600">
                <a:off x="421920" y="4428720"/>
                <a:ext cx="577800" cy="519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104"/>
              <p:cNvSpPr/>
              <p:nvPr/>
            </p:nvSpPr>
            <p:spPr>
              <a:xfrm rot="21411600">
                <a:off x="943560" y="4129920"/>
                <a:ext cx="1177560" cy="1008720"/>
              </a:xfrm>
              <a:prstGeom prst="hexagon">
                <a:avLst>
                  <a:gd name="adj" fmla="val 291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105"/>
              <p:cNvSpPr/>
              <p:nvPr/>
            </p:nvSpPr>
            <p:spPr>
              <a:xfrm rot="1587600">
                <a:off x="1953000" y="4696920"/>
                <a:ext cx="540000" cy="577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06"/>
              <p:cNvSpPr/>
              <p:nvPr/>
            </p:nvSpPr>
            <p:spPr>
              <a:xfrm rot="3443400">
                <a:off x="1913040" y="3905280"/>
                <a:ext cx="58356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07"/>
              <p:cNvSpPr/>
              <p:nvPr/>
            </p:nvSpPr>
            <p:spPr>
              <a:xfrm rot="3443400">
                <a:off x="568440" y="4788000"/>
                <a:ext cx="583920" cy="585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108"/>
              <p:cNvSpPr/>
              <p:nvPr/>
            </p:nvSpPr>
            <p:spPr>
              <a:xfrm rot="1587600">
                <a:off x="554400" y="3994920"/>
                <a:ext cx="539640" cy="577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09"/>
              <p:cNvSpPr/>
              <p:nvPr/>
            </p:nvSpPr>
            <p:spPr>
              <a:xfrm rot="5211600">
                <a:off x="1299600" y="5117760"/>
                <a:ext cx="53388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0"/>
              <p:cNvSpPr/>
              <p:nvPr/>
            </p:nvSpPr>
            <p:spPr>
              <a:xfrm rot="5211600">
                <a:off x="1214280" y="3566520"/>
                <a:ext cx="533880" cy="583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111"/>
              <p:cNvSpPr/>
              <p:nvPr/>
            </p:nvSpPr>
            <p:spPr>
              <a:xfrm rot="21411600">
                <a:off x="2342520" y="4831920"/>
                <a:ext cx="1177560" cy="1007280"/>
              </a:xfrm>
              <a:prstGeom prst="hexagon">
                <a:avLst>
                  <a:gd name="adj" fmla="val 2922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12"/>
              <p:cNvSpPr/>
              <p:nvPr/>
            </p:nvSpPr>
            <p:spPr>
              <a:xfrm rot="5211600">
                <a:off x="2622960" y="4265280"/>
                <a:ext cx="574200" cy="5738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14"/>
              <p:cNvSpPr/>
              <p:nvPr/>
            </p:nvSpPr>
            <p:spPr>
              <a:xfrm rot="1595400">
                <a:off x="3297960" y="3842640"/>
                <a:ext cx="591120" cy="577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115"/>
              <p:cNvSpPr/>
              <p:nvPr/>
            </p:nvSpPr>
            <p:spPr>
              <a:xfrm rot="16011600">
                <a:off x="2081160" y="4322880"/>
                <a:ext cx="566640" cy="52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AutoShape 117"/>
              <p:cNvSpPr/>
              <p:nvPr/>
            </p:nvSpPr>
            <p:spPr>
              <a:xfrm rot="19681800">
                <a:off x="3030480" y="4195800"/>
                <a:ext cx="583560" cy="52308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118"/>
              <p:cNvSpPr/>
              <p:nvPr/>
            </p:nvSpPr>
            <p:spPr>
              <a:xfrm rot="19620600">
                <a:off x="1611360" y="3523680"/>
                <a:ext cx="563400" cy="477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119"/>
              <p:cNvSpPr/>
              <p:nvPr/>
            </p:nvSpPr>
            <p:spPr>
              <a:xfrm rot="16011600">
                <a:off x="750960" y="5190120"/>
                <a:ext cx="546480" cy="5101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utoShape 120"/>
              <p:cNvSpPr/>
              <p:nvPr/>
            </p:nvSpPr>
            <p:spPr>
              <a:xfrm rot="16011600">
                <a:off x="681120" y="3643200"/>
                <a:ext cx="537120" cy="488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utoShape 121"/>
              <p:cNvSpPr/>
              <p:nvPr/>
            </p:nvSpPr>
            <p:spPr>
              <a:xfrm rot="19587600">
                <a:off x="1667520" y="5078520"/>
                <a:ext cx="583200" cy="4683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22"/>
              <p:cNvSpPr/>
              <p:nvPr/>
            </p:nvSpPr>
            <p:spPr>
              <a:xfrm rot="8735400">
                <a:off x="1973160" y="5461200"/>
                <a:ext cx="580320" cy="56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23"/>
              <p:cNvSpPr/>
              <p:nvPr/>
            </p:nvSpPr>
            <p:spPr>
              <a:xfrm rot="3404400">
                <a:off x="3323520" y="4628160"/>
                <a:ext cx="574200" cy="572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24"/>
              <p:cNvSpPr/>
              <p:nvPr/>
            </p:nvSpPr>
            <p:spPr>
              <a:xfrm rot="6972600">
                <a:off x="3366360" y="5403960"/>
                <a:ext cx="572760" cy="572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25"/>
              <p:cNvSpPr/>
              <p:nvPr/>
            </p:nvSpPr>
            <p:spPr>
              <a:xfrm rot="5211600">
                <a:off x="2686680" y="5839920"/>
                <a:ext cx="574560" cy="5738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126"/>
              <p:cNvSpPr/>
              <p:nvPr/>
            </p:nvSpPr>
            <p:spPr>
              <a:xfrm rot="16011600">
                <a:off x="3486600" y="5049360"/>
                <a:ext cx="577800" cy="499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127"/>
              <p:cNvSpPr/>
              <p:nvPr/>
            </p:nvSpPr>
            <p:spPr>
              <a:xfrm rot="19681800">
                <a:off x="3105360" y="5758560"/>
                <a:ext cx="583200" cy="52452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AutoShape 128"/>
              <p:cNvSpPr/>
              <p:nvPr/>
            </p:nvSpPr>
            <p:spPr>
              <a:xfrm rot="1654200">
                <a:off x="2256120" y="5793840"/>
                <a:ext cx="583200" cy="524520"/>
              </a:xfrm>
              <a:prstGeom prst="triangle">
                <a:avLst>
                  <a:gd name="adj" fmla="val 50194"/>
                </a:avLst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32"/>
              <p:cNvSpPr/>
              <p:nvPr/>
            </p:nvSpPr>
            <p:spPr>
              <a:xfrm rot="1615200">
                <a:off x="1866240" y="3143160"/>
                <a:ext cx="591120" cy="579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133"/>
              <p:cNvSpPr/>
              <p:nvPr/>
            </p:nvSpPr>
            <p:spPr>
              <a:xfrm rot="21411600">
                <a:off x="2288520" y="3257280"/>
                <a:ext cx="1177560" cy="1008720"/>
              </a:xfrm>
              <a:prstGeom prst="hexagon">
                <a:avLst>
                  <a:gd name="adj" fmla="val 29185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Oval 136"/>
          <p:cNvSpPr/>
          <p:nvPr/>
        </p:nvSpPr>
        <p:spPr>
          <a:xfrm>
            <a:off x="4932360" y="263700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137"/>
          <p:cNvSpPr/>
          <p:nvPr/>
        </p:nvSpPr>
        <p:spPr>
          <a:xfrm>
            <a:off x="4548240" y="2189160"/>
            <a:ext cx="1014480" cy="10605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639" h="668">
                <a:moveTo>
                  <a:pt x="60" y="509"/>
                </a:moveTo>
                <a:cubicBezTo>
                  <a:pt x="30" y="433"/>
                  <a:pt x="0" y="358"/>
                  <a:pt x="15" y="282"/>
                </a:cubicBezTo>
                <a:cubicBezTo>
                  <a:pt x="30" y="206"/>
                  <a:pt x="87" y="98"/>
                  <a:pt x="151" y="55"/>
                </a:cubicBezTo>
                <a:cubicBezTo>
                  <a:pt x="215" y="12"/>
                  <a:pt x="326" y="0"/>
                  <a:pt x="402" y="23"/>
                </a:cubicBezTo>
                <a:cubicBezTo>
                  <a:pt x="478" y="46"/>
                  <a:pt x="571" y="110"/>
                  <a:pt x="605" y="191"/>
                </a:cubicBezTo>
                <a:cubicBezTo>
                  <a:pt x="639" y="272"/>
                  <a:pt x="635" y="433"/>
                  <a:pt x="605" y="509"/>
                </a:cubicBezTo>
                <a:cubicBezTo>
                  <a:pt x="575" y="585"/>
                  <a:pt x="483" y="622"/>
                  <a:pt x="423" y="645"/>
                </a:cubicBezTo>
                <a:cubicBezTo>
                  <a:pt x="363" y="668"/>
                  <a:pt x="287" y="656"/>
                  <a:pt x="242" y="645"/>
                </a:cubicBezTo>
                <a:cubicBezTo>
                  <a:pt x="197" y="634"/>
                  <a:pt x="170" y="590"/>
                  <a:pt x="151" y="57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9"/>
          <p:cNvSpPr/>
          <p:nvPr/>
        </p:nvSpPr>
        <p:spPr>
          <a:xfrm>
            <a:off x="4459680" y="549360"/>
            <a:ext cx="270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ahoma"/>
                <a:ea typeface="Arial"/>
              </a:rPr>
              <a:t>360</a:t>
            </a:r>
            <a:r>
              <a:rPr b="0" lang="en-US" sz="96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26"/>
          <p:cNvSpPr/>
          <p:nvPr/>
        </p:nvSpPr>
        <p:spPr>
          <a:xfrm>
            <a:off x="2627280" y="404640"/>
            <a:ext cx="4103640" cy="576108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5761080"/>
              <a:gd name="textAreaBottom" fmla="*/ 5761080 h 5761080"/>
            </a:gdLst>
            <a:ahLst/>
            <a:rect l="textAreaLeft" t="textAreaTop" r="textAreaRight" b="textAreaBottom"/>
            <a:pathLst>
              <a:path w="2585" h="3629">
                <a:moveTo>
                  <a:pt x="0" y="1225"/>
                </a:moveTo>
                <a:lnTo>
                  <a:pt x="0" y="2449"/>
                </a:lnTo>
                <a:lnTo>
                  <a:pt x="1315" y="3629"/>
                </a:lnTo>
                <a:lnTo>
                  <a:pt x="2585" y="2404"/>
                </a:lnTo>
                <a:lnTo>
                  <a:pt x="2585" y="1225"/>
                </a:lnTo>
                <a:lnTo>
                  <a:pt x="1270" y="0"/>
                </a:lnTo>
                <a:lnTo>
                  <a:pt x="0" y="1225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5"/>
          <p:cNvGrpSpPr/>
          <p:nvPr/>
        </p:nvGrpSpPr>
        <p:grpSpPr>
          <a:xfrm>
            <a:off x="2627280" y="404640"/>
            <a:ext cx="4103640" cy="5761080"/>
            <a:chOff x="2627280" y="404640"/>
            <a:chExt cx="4103640" cy="5761080"/>
          </a:xfrm>
        </p:grpSpPr>
        <p:grpSp>
          <p:nvGrpSpPr>
            <p:cNvPr id="535" name="Group 34"/>
            <p:cNvGrpSpPr/>
            <p:nvPr/>
          </p:nvGrpSpPr>
          <p:grpSpPr>
            <a:xfrm>
              <a:off x="2627280" y="404640"/>
              <a:ext cx="4103640" cy="5761080"/>
              <a:chOff x="2627280" y="404640"/>
              <a:chExt cx="4103640" cy="5761080"/>
            </a:xfrm>
          </p:grpSpPr>
          <p:grpSp>
            <p:nvGrpSpPr>
              <p:cNvPr id="536" name="Group 31"/>
              <p:cNvGrpSpPr/>
              <p:nvPr/>
            </p:nvGrpSpPr>
            <p:grpSpPr>
              <a:xfrm>
                <a:off x="2627280" y="404640"/>
                <a:ext cx="4103640" cy="5761080"/>
                <a:chOff x="2627280" y="404640"/>
                <a:chExt cx="4103640" cy="5761080"/>
              </a:xfrm>
            </p:grpSpPr>
            <p:sp>
              <p:nvSpPr>
                <p:cNvPr id="537" name="Freeform 29"/>
                <p:cNvSpPr/>
                <p:nvPr/>
              </p:nvSpPr>
              <p:spPr>
                <a:xfrm>
                  <a:off x="2627280" y="404640"/>
                  <a:ext cx="4103640" cy="5761080"/>
                </a:xfrm>
                <a:custGeom>
                  <a:avLst/>
                  <a:gdLst>
                    <a:gd name="textAreaLeft" fmla="*/ 0 w 4103640"/>
                    <a:gd name="textAreaRight" fmla="*/ 4104000 w 4103640"/>
                    <a:gd name="textAreaTop" fmla="*/ 0 h 5761080"/>
                    <a:gd name="textAreaBottom" fmla="*/ 5761080 h 5761080"/>
                  </a:gdLst>
                  <a:ahLst/>
                  <a:rect l="textAreaLeft" t="textAreaTop" r="textAreaRight" b="textAreaBottom"/>
                  <a:pathLst>
                    <a:path w="2585" h="3629">
                      <a:moveTo>
                        <a:pt x="0" y="1225"/>
                      </a:moveTo>
                      <a:lnTo>
                        <a:pt x="0" y="2449"/>
                      </a:lnTo>
                      <a:lnTo>
                        <a:pt x="811" y="2681"/>
                      </a:lnTo>
                      <a:lnTo>
                        <a:pt x="1315" y="3629"/>
                      </a:lnTo>
                      <a:lnTo>
                        <a:pt x="2585" y="2404"/>
                      </a:lnTo>
                      <a:lnTo>
                        <a:pt x="2585" y="1225"/>
                      </a:lnTo>
                      <a:lnTo>
                        <a:pt x="2171" y="249"/>
                      </a:lnTo>
                      <a:lnTo>
                        <a:pt x="1270" y="0"/>
                      </a:lnTo>
                      <a:lnTo>
                        <a:pt x="0" y="1225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0"/>
                <p:cNvSpPr/>
                <p:nvPr/>
              </p:nvSpPr>
              <p:spPr>
                <a:xfrm flipV="1">
                  <a:off x="3994200" y="1267920"/>
                  <a:ext cx="1657440" cy="33130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Line 32"/>
              <p:cNvSpPr/>
              <p:nvPr/>
            </p:nvSpPr>
            <p:spPr>
              <a:xfrm>
                <a:off x="4643640" y="404640"/>
                <a:ext cx="2087280" cy="194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Line 33"/>
            <p:cNvSpPr/>
            <p:nvPr/>
          </p:nvSpPr>
          <p:spPr>
            <a:xfrm>
              <a:off x="2627280" y="4292280"/>
              <a:ext cx="2087280" cy="187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43"/>
          <p:cNvGrpSpPr/>
          <p:nvPr/>
        </p:nvGrpSpPr>
        <p:grpSpPr>
          <a:xfrm>
            <a:off x="2268360" y="404640"/>
            <a:ext cx="4457520" cy="5761080"/>
            <a:chOff x="2268360" y="404640"/>
            <a:chExt cx="4457520" cy="5761080"/>
          </a:xfrm>
        </p:grpSpPr>
        <p:sp>
          <p:nvSpPr>
            <p:cNvPr id="542" name="Freeform 39"/>
            <p:cNvSpPr/>
            <p:nvPr/>
          </p:nvSpPr>
          <p:spPr>
            <a:xfrm>
              <a:off x="2268360" y="404640"/>
              <a:ext cx="4457520" cy="5761080"/>
            </a:xfrm>
            <a:custGeom>
              <a:avLst/>
              <a:gdLst>
                <a:gd name="textAreaLeft" fmla="*/ 0 w 4457520"/>
                <a:gd name="textAreaRight" fmla="*/ 4457880 w 4457520"/>
                <a:gd name="textAreaTop" fmla="*/ 0 h 5761080"/>
                <a:gd name="textAreaBottom" fmla="*/ 5761080 h 5761080"/>
              </a:gdLst>
              <a:ahLst/>
              <a:rect l="textAreaLeft" t="textAreaTop" r="textAreaRight" b="textAreaBottom"/>
              <a:pathLst>
                <a:path w="2808" h="3629">
                  <a:moveTo>
                    <a:pt x="213" y="1225"/>
                  </a:moveTo>
                  <a:lnTo>
                    <a:pt x="0" y="2121"/>
                  </a:lnTo>
                  <a:lnTo>
                    <a:pt x="216" y="2129"/>
                  </a:lnTo>
                  <a:lnTo>
                    <a:pt x="213" y="2449"/>
                  </a:lnTo>
                  <a:lnTo>
                    <a:pt x="1024" y="2681"/>
                  </a:lnTo>
                  <a:lnTo>
                    <a:pt x="1528" y="3629"/>
                  </a:lnTo>
                  <a:lnTo>
                    <a:pt x="2798" y="2404"/>
                  </a:lnTo>
                  <a:lnTo>
                    <a:pt x="2808" y="2145"/>
                  </a:lnTo>
                  <a:lnTo>
                    <a:pt x="2552" y="2145"/>
                  </a:lnTo>
                  <a:lnTo>
                    <a:pt x="2798" y="1225"/>
                  </a:lnTo>
                  <a:lnTo>
                    <a:pt x="2384" y="249"/>
                  </a:lnTo>
                  <a:lnTo>
                    <a:pt x="1483" y="0"/>
                  </a:lnTo>
                  <a:lnTo>
                    <a:pt x="213" y="1225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40"/>
            <p:cNvSpPr/>
            <p:nvPr/>
          </p:nvSpPr>
          <p:spPr>
            <a:xfrm flipH="1">
              <a:off x="2606400" y="3500280"/>
              <a:ext cx="374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1"/>
            <p:cNvSpPr/>
            <p:nvPr/>
          </p:nvSpPr>
          <p:spPr>
            <a:xfrm>
              <a:off x="2606400" y="2349360"/>
              <a:ext cx="4680" cy="1422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3" h="896">
                  <a:moveTo>
                    <a:pt x="0" y="0"/>
                  </a:moveTo>
                  <a:lnTo>
                    <a:pt x="3" y="89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2"/>
            <p:cNvSpPr/>
            <p:nvPr/>
          </p:nvSpPr>
          <p:spPr>
            <a:xfrm>
              <a:off x="6688080" y="2349360"/>
              <a:ext cx="21960" cy="1447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4" h="912">
                  <a:moveTo>
                    <a:pt x="14" y="0"/>
                  </a:moveTo>
                  <a:lnTo>
                    <a:pt x="0" y="9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Freeform 6"/>
          <p:cNvSpPr/>
          <p:nvPr/>
        </p:nvSpPr>
        <p:spPr>
          <a:xfrm>
            <a:off x="2268360" y="404640"/>
            <a:ext cx="4464360" cy="573408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5734080"/>
              <a:gd name="textAreaBottom" fmla="*/ 5734080 h 5734080"/>
            </a:gdLst>
            <a:ahLst/>
            <a:rect l="textAreaLeft" t="textAreaTop" r="textAreaRight" b="textAreaBottom"/>
            <a:pathLst>
              <a:path w="159" h="218">
                <a:moveTo>
                  <a:pt x="86" y="0"/>
                </a:moveTo>
                <a:lnTo>
                  <a:pt x="73" y="1"/>
                </a:lnTo>
                <a:lnTo>
                  <a:pt x="79" y="25"/>
                </a:lnTo>
                <a:lnTo>
                  <a:pt x="76" y="26"/>
                </a:lnTo>
                <a:lnTo>
                  <a:pt x="47" y="37"/>
                </a:lnTo>
                <a:lnTo>
                  <a:pt x="13" y="73"/>
                </a:lnTo>
                <a:lnTo>
                  <a:pt x="0" y="129"/>
                </a:lnTo>
                <a:lnTo>
                  <a:pt x="13" y="128"/>
                </a:lnTo>
                <a:lnTo>
                  <a:pt x="13" y="146"/>
                </a:lnTo>
                <a:lnTo>
                  <a:pt x="64" y="162"/>
                </a:lnTo>
                <a:lnTo>
                  <a:pt x="86" y="218"/>
                </a:lnTo>
                <a:lnTo>
                  <a:pt x="119" y="181"/>
                </a:lnTo>
                <a:lnTo>
                  <a:pt x="153" y="170"/>
                </a:lnTo>
                <a:lnTo>
                  <a:pt x="144" y="145"/>
                </a:lnTo>
                <a:lnTo>
                  <a:pt x="154" y="145"/>
                </a:lnTo>
                <a:lnTo>
                  <a:pt x="159" y="145"/>
                </a:lnTo>
                <a:lnTo>
                  <a:pt x="159" y="129"/>
                </a:lnTo>
                <a:lnTo>
                  <a:pt x="146" y="129"/>
                </a:lnTo>
                <a:lnTo>
                  <a:pt x="158" y="73"/>
                </a:lnTo>
                <a:lnTo>
                  <a:pt x="136" y="15"/>
                </a:lnTo>
                <a:lnTo>
                  <a:pt x="86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0"/>
          <p:cNvSpPr/>
          <p:nvPr/>
        </p:nvSpPr>
        <p:spPr>
          <a:xfrm flipH="1" flipV="1">
            <a:off x="4572000" y="620640"/>
            <a:ext cx="1728720" cy="345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7"/>
          <p:cNvSpPr/>
          <p:nvPr/>
        </p:nvSpPr>
        <p:spPr>
          <a:xfrm>
            <a:off x="4284720" y="404640"/>
            <a:ext cx="2448000" cy="3816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1542" h="2404">
                <a:moveTo>
                  <a:pt x="90" y="428"/>
                </a:moveTo>
                <a:lnTo>
                  <a:pt x="0" y="16"/>
                </a:lnTo>
                <a:lnTo>
                  <a:pt x="233" y="0"/>
                </a:lnTo>
                <a:lnTo>
                  <a:pt x="1125" y="249"/>
                </a:lnTo>
                <a:lnTo>
                  <a:pt x="1542" y="1218"/>
                </a:lnTo>
                <a:lnTo>
                  <a:pt x="1309" y="2141"/>
                </a:lnTo>
                <a:lnTo>
                  <a:pt x="1542" y="2124"/>
                </a:lnTo>
                <a:lnTo>
                  <a:pt x="1542" y="2404"/>
                </a:lnTo>
                <a:lnTo>
                  <a:pt x="1273" y="2404"/>
                </a:lnTo>
                <a:lnTo>
                  <a:pt x="950" y="1811"/>
                </a:lnTo>
                <a:lnTo>
                  <a:pt x="1004" y="1729"/>
                </a:lnTo>
                <a:lnTo>
                  <a:pt x="1004" y="1647"/>
                </a:lnTo>
                <a:lnTo>
                  <a:pt x="986" y="1564"/>
                </a:lnTo>
                <a:lnTo>
                  <a:pt x="950" y="1498"/>
                </a:lnTo>
                <a:lnTo>
                  <a:pt x="897" y="1482"/>
                </a:lnTo>
                <a:lnTo>
                  <a:pt x="829" y="1489"/>
                </a:lnTo>
                <a:lnTo>
                  <a:pt x="741" y="1513"/>
                </a:lnTo>
                <a:lnTo>
                  <a:pt x="269" y="741"/>
                </a:lnTo>
                <a:lnTo>
                  <a:pt x="126" y="412"/>
                </a:lnTo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3780000" y="1052640"/>
            <a:ext cx="1684080" cy="1866600"/>
          </a:xfrm>
          <a:custGeom>
            <a:avLst/>
            <a:gdLst>
              <a:gd name="textAreaLeft" fmla="*/ 0 w 1684080"/>
              <a:gd name="textAreaRight" fmla="*/ 1684440 w 168408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60" h="71">
                <a:moveTo>
                  <a:pt x="24" y="0"/>
                </a:moveTo>
                <a:lnTo>
                  <a:pt x="0" y="9"/>
                </a:lnTo>
                <a:lnTo>
                  <a:pt x="2" y="19"/>
                </a:lnTo>
                <a:lnTo>
                  <a:pt x="5" y="31"/>
                </a:lnTo>
                <a:lnTo>
                  <a:pt x="11" y="44"/>
                </a:lnTo>
                <a:lnTo>
                  <a:pt x="17" y="52"/>
                </a:lnTo>
                <a:lnTo>
                  <a:pt x="27" y="60"/>
                </a:lnTo>
                <a:lnTo>
                  <a:pt x="42" y="67"/>
                </a:lnTo>
                <a:lnTo>
                  <a:pt x="56" y="71"/>
                </a:lnTo>
                <a:lnTo>
                  <a:pt x="60" y="6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e3ac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2565360" y="2751120"/>
            <a:ext cx="3330720" cy="1694520"/>
            <a:chOff x="2565360" y="2751120"/>
            <a:chExt cx="3330720" cy="1694520"/>
          </a:xfrm>
        </p:grpSpPr>
        <p:sp>
          <p:nvSpPr>
            <p:cNvPr id="551" name="Freeform 8"/>
            <p:cNvSpPr/>
            <p:nvPr/>
          </p:nvSpPr>
          <p:spPr>
            <a:xfrm>
              <a:off x="5335560" y="2751120"/>
              <a:ext cx="560520" cy="8002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353" h="504">
                  <a:moveTo>
                    <a:pt x="0" y="189"/>
                  </a:moveTo>
                  <a:cubicBezTo>
                    <a:pt x="12" y="163"/>
                    <a:pt x="33" y="66"/>
                    <a:pt x="71" y="35"/>
                  </a:cubicBezTo>
                  <a:cubicBezTo>
                    <a:pt x="109" y="4"/>
                    <a:pt x="190" y="0"/>
                    <a:pt x="231" y="3"/>
                  </a:cubicBezTo>
                  <a:cubicBezTo>
                    <a:pt x="272" y="6"/>
                    <a:pt x="298" y="28"/>
                    <a:pt x="318" y="56"/>
                  </a:cubicBezTo>
                  <a:cubicBezTo>
                    <a:pt x="338" y="84"/>
                    <a:pt x="353" y="122"/>
                    <a:pt x="353" y="172"/>
                  </a:cubicBezTo>
                  <a:cubicBezTo>
                    <a:pt x="353" y="222"/>
                    <a:pt x="300" y="288"/>
                    <a:pt x="282" y="338"/>
                  </a:cubicBezTo>
                  <a:cubicBezTo>
                    <a:pt x="265" y="388"/>
                    <a:pt x="247" y="404"/>
                    <a:pt x="229" y="438"/>
                  </a:cubicBezTo>
                  <a:cubicBezTo>
                    <a:pt x="212" y="471"/>
                    <a:pt x="159" y="504"/>
                    <a:pt x="141" y="504"/>
                  </a:cubicBezTo>
                  <a:cubicBezTo>
                    <a:pt x="124" y="504"/>
                    <a:pt x="88" y="454"/>
                    <a:pt x="71" y="4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18"/>
            <p:cNvGrpSpPr/>
            <p:nvPr/>
          </p:nvGrpSpPr>
          <p:grpSpPr>
            <a:xfrm>
              <a:off x="5370480" y="3294000"/>
              <a:ext cx="443160" cy="1151640"/>
              <a:chOff x="5370480" y="3294000"/>
              <a:chExt cx="443160" cy="1151640"/>
            </a:xfrm>
          </p:grpSpPr>
          <p:sp>
            <p:nvSpPr>
              <p:cNvPr id="553" name="AutoShape 19"/>
              <p:cNvSpPr/>
              <p:nvPr/>
            </p:nvSpPr>
            <p:spPr>
              <a:xfrm>
                <a:off x="5507640" y="3294000"/>
                <a:ext cx="193320" cy="23724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0"/>
              <p:cNvSpPr/>
              <p:nvPr/>
            </p:nvSpPr>
            <p:spPr>
              <a:xfrm>
                <a:off x="5370480" y="3561120"/>
                <a:ext cx="443160" cy="8845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884520"/>
                  <a:gd name="textAreaBottom" fmla="*/ 884880 h 88452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8" y="0"/>
                    </a:moveTo>
                    <a:lnTo>
                      <a:pt x="0" y="25"/>
                    </a:lnTo>
                    <a:lnTo>
                      <a:pt x="8" y="34"/>
                    </a:lnTo>
                    <a:lnTo>
                      <a:pt x="16" y="2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Freeform 21"/>
            <p:cNvSpPr/>
            <p:nvPr/>
          </p:nvSpPr>
          <p:spPr>
            <a:xfrm>
              <a:off x="2565360" y="3471840"/>
              <a:ext cx="327240" cy="3128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206" h="197">
                  <a:moveTo>
                    <a:pt x="0" y="189"/>
                  </a:moveTo>
                  <a:cubicBezTo>
                    <a:pt x="71" y="156"/>
                    <a:pt x="67" y="180"/>
                    <a:pt x="120" y="197"/>
                  </a:cubicBezTo>
                  <a:cubicBezTo>
                    <a:pt x="173" y="147"/>
                    <a:pt x="206" y="100"/>
                    <a:pt x="153" y="33"/>
                  </a:cubicBezTo>
                  <a:cubicBezTo>
                    <a:pt x="153" y="17"/>
                    <a:pt x="135" y="0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Freeform 13"/>
          <p:cNvSpPr/>
          <p:nvPr/>
        </p:nvSpPr>
        <p:spPr>
          <a:xfrm>
            <a:off x="2603520" y="3933720"/>
            <a:ext cx="755640" cy="397080"/>
          </a:xfrm>
          <a:custGeom>
            <a:avLst/>
            <a:gdLst>
              <a:gd name="textAreaLeft" fmla="*/ 0 w 755640"/>
              <a:gd name="textAreaRight" fmla="*/ 756000 w 7556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476" h="250">
                <a:moveTo>
                  <a:pt x="0" y="74"/>
                </a:moveTo>
                <a:cubicBezTo>
                  <a:pt x="27" y="62"/>
                  <a:pt x="114" y="0"/>
                  <a:pt x="172" y="0"/>
                </a:cubicBezTo>
                <a:cubicBezTo>
                  <a:pt x="230" y="0"/>
                  <a:pt x="294" y="75"/>
                  <a:pt x="347" y="75"/>
                </a:cubicBezTo>
                <a:cubicBezTo>
                  <a:pt x="399" y="75"/>
                  <a:pt x="476" y="1"/>
                  <a:pt x="452" y="30"/>
                </a:cubicBezTo>
                <a:cubicBezTo>
                  <a:pt x="428" y="59"/>
                  <a:pt x="252" y="204"/>
                  <a:pt x="200" y="250"/>
                </a:cubicBezTo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2"/>
          <p:cNvSpPr/>
          <p:nvPr/>
        </p:nvSpPr>
        <p:spPr>
          <a:xfrm>
            <a:off x="2627280" y="4005360"/>
            <a:ext cx="252360" cy="312480"/>
          </a:xfrm>
          <a:custGeom>
            <a:avLst/>
            <a:gdLst>
              <a:gd name="textAreaLeft" fmla="*/ 0 w 252360"/>
              <a:gd name="textAreaRight" fmla="*/ 252720 w 252360"/>
              <a:gd name="textAreaTop" fmla="*/ 0 h 312480"/>
              <a:gd name="textAreaBottom" fmla="*/ 312480 h 312480"/>
            </a:gdLst>
            <a:ahLst/>
            <a:rect l="textAreaLeft" t="textAreaTop" r="textAreaRight" b="textAreaBottom"/>
            <a:pathLst>
              <a:path w="159" h="197">
                <a:moveTo>
                  <a:pt x="0" y="0"/>
                </a:moveTo>
                <a:lnTo>
                  <a:pt x="0" y="151"/>
                </a:lnTo>
                <a:lnTo>
                  <a:pt x="159" y="197"/>
                </a:lnTo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23"/>
          <p:cNvGrpSpPr/>
          <p:nvPr/>
        </p:nvGrpSpPr>
        <p:grpSpPr>
          <a:xfrm>
            <a:off x="3132000" y="2060640"/>
            <a:ext cx="692280" cy="750960"/>
            <a:chOff x="3132000" y="2060640"/>
            <a:chExt cx="692280" cy="750960"/>
          </a:xfrm>
        </p:grpSpPr>
        <p:grpSp>
          <p:nvGrpSpPr>
            <p:cNvPr id="559" name="Group 9"/>
            <p:cNvGrpSpPr/>
            <p:nvPr/>
          </p:nvGrpSpPr>
          <p:grpSpPr>
            <a:xfrm>
              <a:off x="3132000" y="2265120"/>
              <a:ext cx="668160" cy="546480"/>
              <a:chOff x="3132000" y="2265120"/>
              <a:chExt cx="668160" cy="546480"/>
            </a:xfrm>
          </p:grpSpPr>
          <p:sp>
            <p:nvSpPr>
              <p:cNvPr id="560" name="AutoShape 10"/>
              <p:cNvSpPr/>
              <p:nvPr/>
            </p:nvSpPr>
            <p:spPr>
              <a:xfrm>
                <a:off x="3188520" y="2394360"/>
                <a:ext cx="226800" cy="340920"/>
              </a:xfrm>
              <a:prstGeom prst="flowChartConnector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1"/>
              <p:cNvSpPr/>
              <p:nvPr/>
            </p:nvSpPr>
            <p:spPr>
              <a:xfrm>
                <a:off x="3188520" y="2265120"/>
                <a:ext cx="611640" cy="258480"/>
              </a:xfrm>
              <a:custGeom>
                <a:avLst/>
                <a:gdLst>
                  <a:gd name="textAreaLeft" fmla="*/ 0 w 611640"/>
                  <a:gd name="textAreaRight" fmla="*/ 611640 w 61164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0" y="0"/>
                    </a:moveTo>
                    <a:cubicBezTo>
                      <a:pt x="2" y="3"/>
                      <a:pt x="4" y="6"/>
                      <a:pt x="8" y="8"/>
                    </a:cubicBezTo>
                    <a:cubicBezTo>
                      <a:pt x="12" y="10"/>
                      <a:pt x="20" y="10"/>
                      <a:pt x="22" y="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3132000" y="2523600"/>
                <a:ext cx="643320" cy="28800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23" y="0"/>
                    </a:moveTo>
                    <a:cubicBezTo>
                      <a:pt x="19" y="1"/>
                      <a:pt x="16" y="3"/>
                      <a:pt x="12" y="5"/>
                    </a:cubicBezTo>
                    <a:cubicBezTo>
                      <a:pt x="8" y="7"/>
                      <a:pt x="2" y="10"/>
                      <a:pt x="0" y="1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5"/>
            <p:cNvGrpSpPr/>
            <p:nvPr/>
          </p:nvGrpSpPr>
          <p:grpSpPr>
            <a:xfrm>
              <a:off x="3269880" y="2060640"/>
              <a:ext cx="554400" cy="257400"/>
              <a:chOff x="3269880" y="2060640"/>
              <a:chExt cx="554400" cy="257400"/>
            </a:xfrm>
          </p:grpSpPr>
          <p:sp>
            <p:nvSpPr>
              <p:cNvPr id="564" name="Freeform 16"/>
              <p:cNvSpPr/>
              <p:nvPr/>
            </p:nvSpPr>
            <p:spPr>
              <a:xfrm>
                <a:off x="3320280" y="2113200"/>
                <a:ext cx="504000" cy="20484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8" h="8">
                    <a:moveTo>
                      <a:pt x="0" y="0"/>
                    </a:moveTo>
                    <a:cubicBezTo>
                      <a:pt x="2" y="0"/>
                      <a:pt x="4" y="0"/>
                      <a:pt x="7" y="1"/>
                    </a:cubicBezTo>
                    <a:cubicBezTo>
                      <a:pt x="10" y="2"/>
                      <a:pt x="16" y="7"/>
                      <a:pt x="18" y="8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7"/>
              <p:cNvSpPr/>
              <p:nvPr/>
            </p:nvSpPr>
            <p:spPr>
              <a:xfrm>
                <a:off x="3269880" y="2060640"/>
                <a:ext cx="554400" cy="234000"/>
              </a:xfrm>
              <a:custGeom>
                <a:avLst/>
                <a:gdLst>
                  <a:gd name="textAreaLeft" fmla="*/ 0 w 554400"/>
                  <a:gd name="textAreaRight" fmla="*/ 554760 w 5544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20" y="9"/>
                    </a:moveTo>
                    <a:cubicBezTo>
                      <a:pt x="19" y="5"/>
                      <a:pt x="19" y="2"/>
                      <a:pt x="16" y="1"/>
                    </a:cubicBezTo>
                    <a:cubicBezTo>
                      <a:pt x="13" y="0"/>
                      <a:pt x="6" y="1"/>
                      <a:pt x="0" y="2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6" name="Rectangle 54"/>
          <p:cNvSpPr/>
          <p:nvPr/>
        </p:nvSpPr>
        <p:spPr>
          <a:xfrm>
            <a:off x="2272680" y="616464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 построения пар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55"/>
          <p:cNvGrpSpPr/>
          <p:nvPr/>
        </p:nvGrpSpPr>
        <p:grpSpPr>
          <a:xfrm>
            <a:off x="112320" y="189000"/>
            <a:ext cx="8851680" cy="6479640"/>
            <a:chOff x="112320" y="189000"/>
            <a:chExt cx="8851680" cy="6479640"/>
          </a:xfrm>
        </p:grpSpPr>
        <p:sp>
          <p:nvSpPr>
            <p:cNvPr id="568" name="Freeform 56"/>
            <p:cNvSpPr/>
            <p:nvPr/>
          </p:nvSpPr>
          <p:spPr>
            <a:xfrm>
              <a:off x="570960" y="215280"/>
              <a:ext cx="7961040" cy="1440"/>
            </a:xfrm>
            <a:custGeom>
              <a:avLst/>
              <a:gdLst>
                <a:gd name="textAreaLeft" fmla="*/ 0 w 7961040"/>
                <a:gd name="textAreaRight" fmla="*/ 7961400 w 796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7"/>
            <p:cNvSpPr/>
            <p:nvPr/>
          </p:nvSpPr>
          <p:spPr>
            <a:xfrm>
              <a:off x="609840" y="6655320"/>
              <a:ext cx="7935480" cy="1800"/>
            </a:xfrm>
            <a:custGeom>
              <a:avLst/>
              <a:gdLst>
                <a:gd name="textAreaLeft" fmla="*/ 0 w 7935480"/>
                <a:gd name="textAreaRight" fmla="*/ 7935840 w 79354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8"/>
            <p:cNvSpPr/>
            <p:nvPr/>
          </p:nvSpPr>
          <p:spPr>
            <a:xfrm>
              <a:off x="8925120" y="637560"/>
              <a:ext cx="1440" cy="5568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9"/>
            <p:cNvSpPr/>
            <p:nvPr/>
          </p:nvSpPr>
          <p:spPr>
            <a:xfrm>
              <a:off x="164880" y="637560"/>
              <a:ext cx="26280" cy="5568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568840"/>
                <a:gd name="textAreaBottom" fmla="*/ 5569200 h 5568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0"/>
            <p:cNvSpPr/>
            <p:nvPr/>
          </p:nvSpPr>
          <p:spPr>
            <a:xfrm>
              <a:off x="164880" y="6193800"/>
              <a:ext cx="444960" cy="474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1"/>
            <p:cNvSpPr/>
            <p:nvPr/>
          </p:nvSpPr>
          <p:spPr>
            <a:xfrm flipH="1">
              <a:off x="8518320" y="6180120"/>
              <a:ext cx="445320" cy="474840"/>
            </a:xfrm>
            <a:custGeom>
              <a:avLst/>
              <a:gdLst>
                <a:gd name="textAreaLeft" fmla="*/ -360 w 445320"/>
                <a:gd name="textAreaRight" fmla="*/ 445320 w 4453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2"/>
            <p:cNvSpPr/>
            <p:nvPr/>
          </p:nvSpPr>
          <p:spPr>
            <a:xfrm flipH="1" rot="16200000">
              <a:off x="8503200" y="177480"/>
              <a:ext cx="448560" cy="471240"/>
            </a:xfrm>
            <a:custGeom>
              <a:avLst/>
              <a:gdLst>
                <a:gd name="textAreaLeft" fmla="*/ 360 w 448560"/>
                <a:gd name="textAreaRight" fmla="*/ 44928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3"/>
            <p:cNvSpPr/>
            <p:nvPr/>
          </p:nvSpPr>
          <p:spPr>
            <a:xfrm rot="5400000">
              <a:off x="123480" y="177480"/>
              <a:ext cx="448560" cy="47124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340"/>
          <p:cNvGrpSpPr/>
          <p:nvPr/>
        </p:nvGrpSpPr>
        <p:grpSpPr>
          <a:xfrm>
            <a:off x="1908000" y="333360"/>
            <a:ext cx="6981840" cy="6267600"/>
            <a:chOff x="1908000" y="333360"/>
            <a:chExt cx="6981840" cy="6267600"/>
          </a:xfrm>
        </p:grpSpPr>
        <p:sp>
          <p:nvSpPr>
            <p:cNvPr id="577" name="Freeform 15"/>
            <p:cNvSpPr/>
            <p:nvPr/>
          </p:nvSpPr>
          <p:spPr>
            <a:xfrm>
              <a:off x="2603520" y="34308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2679840" y="142884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 rot="21032400">
              <a:off x="2735280" y="162540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2898720" y="110484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19"/>
            <p:cNvGrpSpPr/>
            <p:nvPr/>
          </p:nvGrpSpPr>
          <p:grpSpPr>
            <a:xfrm>
              <a:off x="2889360" y="961920"/>
              <a:ext cx="228600" cy="207000"/>
              <a:chOff x="2889360" y="961920"/>
              <a:chExt cx="228600" cy="207000"/>
            </a:xfrm>
          </p:grpSpPr>
          <p:sp>
            <p:nvSpPr>
              <p:cNvPr id="582" name="Freeform 20"/>
              <p:cNvSpPr/>
              <p:nvPr/>
            </p:nvSpPr>
            <p:spPr>
              <a:xfrm rot="254400">
                <a:off x="2905200" y="102708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1"/>
              <p:cNvSpPr/>
              <p:nvPr/>
            </p:nvSpPr>
            <p:spPr>
              <a:xfrm>
                <a:off x="2889360" y="96192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2"/>
            <p:cNvGrpSpPr/>
            <p:nvPr/>
          </p:nvGrpSpPr>
          <p:grpSpPr>
            <a:xfrm>
              <a:off x="2926440" y="821160"/>
              <a:ext cx="299880" cy="197280"/>
              <a:chOff x="2926440" y="821160"/>
              <a:chExt cx="299880" cy="197280"/>
            </a:xfrm>
          </p:grpSpPr>
          <p:sp>
            <p:nvSpPr>
              <p:cNvPr id="585" name="Freeform 23"/>
              <p:cNvSpPr/>
              <p:nvPr/>
            </p:nvSpPr>
            <p:spPr>
              <a:xfrm rot="1150200">
                <a:off x="2933280" y="86544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"/>
              <p:cNvSpPr/>
              <p:nvPr/>
            </p:nvSpPr>
            <p:spPr>
              <a:xfrm rot="1150200">
                <a:off x="2933280" y="89424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Freeform 25"/>
            <p:cNvSpPr/>
            <p:nvPr/>
          </p:nvSpPr>
          <p:spPr>
            <a:xfrm>
              <a:off x="3089160" y="69552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6"/>
            <p:cNvSpPr/>
            <p:nvPr/>
          </p:nvSpPr>
          <p:spPr>
            <a:xfrm>
              <a:off x="3174840" y="333360"/>
              <a:ext cx="933480" cy="141948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480"/>
                <a:gd name="textAreaBottom" fmla="*/ 1419840 h 141948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7"/>
            <p:cNvSpPr/>
            <p:nvPr/>
          </p:nvSpPr>
          <p:spPr>
            <a:xfrm>
              <a:off x="3079800" y="59076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8"/>
            <p:cNvSpPr/>
            <p:nvPr/>
          </p:nvSpPr>
          <p:spPr>
            <a:xfrm>
              <a:off x="3527280" y="127008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9"/>
            <p:cNvGrpSpPr/>
            <p:nvPr/>
          </p:nvGrpSpPr>
          <p:grpSpPr>
            <a:xfrm>
              <a:off x="3537000" y="1467000"/>
              <a:ext cx="190440" cy="457200"/>
              <a:chOff x="3537000" y="1467000"/>
              <a:chExt cx="190440" cy="457200"/>
            </a:xfrm>
          </p:grpSpPr>
          <p:sp>
            <p:nvSpPr>
              <p:cNvPr id="592" name="Oval 30"/>
              <p:cNvSpPr/>
              <p:nvPr/>
            </p:nvSpPr>
            <p:spPr>
              <a:xfrm>
                <a:off x="3612960" y="146700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1"/>
              <p:cNvSpPr/>
              <p:nvPr/>
            </p:nvSpPr>
            <p:spPr>
              <a:xfrm>
                <a:off x="3537000" y="153360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Freeform 33"/>
            <p:cNvSpPr/>
            <p:nvPr/>
          </p:nvSpPr>
          <p:spPr>
            <a:xfrm>
              <a:off x="3965400" y="362160"/>
              <a:ext cx="1505160" cy="2085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4"/>
            <p:cNvSpPr/>
            <p:nvPr/>
          </p:nvSpPr>
          <p:spPr>
            <a:xfrm>
              <a:off x="4041720" y="144792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5"/>
            <p:cNvSpPr/>
            <p:nvPr/>
          </p:nvSpPr>
          <p:spPr>
            <a:xfrm rot="21032400">
              <a:off x="4097160" y="16444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6"/>
            <p:cNvSpPr/>
            <p:nvPr/>
          </p:nvSpPr>
          <p:spPr>
            <a:xfrm>
              <a:off x="4260960" y="11239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7"/>
            <p:cNvGrpSpPr/>
            <p:nvPr/>
          </p:nvGrpSpPr>
          <p:grpSpPr>
            <a:xfrm>
              <a:off x="4251240" y="981000"/>
              <a:ext cx="228600" cy="207000"/>
              <a:chOff x="4251240" y="981000"/>
              <a:chExt cx="228600" cy="207000"/>
            </a:xfrm>
          </p:grpSpPr>
          <p:sp>
            <p:nvSpPr>
              <p:cNvPr id="599" name="Freeform 38"/>
              <p:cNvSpPr/>
              <p:nvPr/>
            </p:nvSpPr>
            <p:spPr>
              <a:xfrm rot="254400">
                <a:off x="4267080" y="10461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9"/>
              <p:cNvSpPr/>
              <p:nvPr/>
            </p:nvSpPr>
            <p:spPr>
              <a:xfrm>
                <a:off x="4251240" y="9810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0"/>
            <p:cNvGrpSpPr/>
            <p:nvPr/>
          </p:nvGrpSpPr>
          <p:grpSpPr>
            <a:xfrm>
              <a:off x="4288680" y="840240"/>
              <a:ext cx="299880" cy="197280"/>
              <a:chOff x="4288680" y="840240"/>
              <a:chExt cx="299880" cy="197280"/>
            </a:xfrm>
          </p:grpSpPr>
          <p:sp>
            <p:nvSpPr>
              <p:cNvPr id="602" name="Freeform 41"/>
              <p:cNvSpPr/>
              <p:nvPr/>
            </p:nvSpPr>
            <p:spPr>
              <a:xfrm rot="1150200">
                <a:off x="4295520" y="88452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2"/>
              <p:cNvSpPr/>
              <p:nvPr/>
            </p:nvSpPr>
            <p:spPr>
              <a:xfrm rot="1150200">
                <a:off x="4295520" y="9133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Freeform 43"/>
            <p:cNvSpPr/>
            <p:nvPr/>
          </p:nvSpPr>
          <p:spPr>
            <a:xfrm>
              <a:off x="4451400" y="7146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4"/>
            <p:cNvSpPr/>
            <p:nvPr/>
          </p:nvSpPr>
          <p:spPr>
            <a:xfrm>
              <a:off x="4537080" y="3524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5"/>
            <p:cNvSpPr/>
            <p:nvPr/>
          </p:nvSpPr>
          <p:spPr>
            <a:xfrm>
              <a:off x="4441680" y="60984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6"/>
            <p:cNvSpPr/>
            <p:nvPr/>
          </p:nvSpPr>
          <p:spPr>
            <a:xfrm>
              <a:off x="4889520" y="128916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47"/>
            <p:cNvGrpSpPr/>
            <p:nvPr/>
          </p:nvGrpSpPr>
          <p:grpSpPr>
            <a:xfrm>
              <a:off x="4898880" y="1486080"/>
              <a:ext cx="190800" cy="457200"/>
              <a:chOff x="4898880" y="1486080"/>
              <a:chExt cx="190800" cy="457200"/>
            </a:xfrm>
          </p:grpSpPr>
          <p:sp>
            <p:nvSpPr>
              <p:cNvPr id="609" name="Oval 48"/>
              <p:cNvSpPr/>
              <p:nvPr/>
            </p:nvSpPr>
            <p:spPr>
              <a:xfrm>
                <a:off x="4975200" y="14860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9"/>
              <p:cNvSpPr/>
              <p:nvPr/>
            </p:nvSpPr>
            <p:spPr>
              <a:xfrm>
                <a:off x="4898880" y="155268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Freeform 51"/>
            <p:cNvSpPr/>
            <p:nvPr/>
          </p:nvSpPr>
          <p:spPr>
            <a:xfrm>
              <a:off x="5346720" y="37152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2"/>
            <p:cNvSpPr/>
            <p:nvPr/>
          </p:nvSpPr>
          <p:spPr>
            <a:xfrm>
              <a:off x="5423040" y="145728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3"/>
            <p:cNvSpPr/>
            <p:nvPr/>
          </p:nvSpPr>
          <p:spPr>
            <a:xfrm rot="21032400">
              <a:off x="5478480" y="165384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4"/>
            <p:cNvSpPr/>
            <p:nvPr/>
          </p:nvSpPr>
          <p:spPr>
            <a:xfrm>
              <a:off x="5641920" y="113364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55"/>
            <p:cNvGrpSpPr/>
            <p:nvPr/>
          </p:nvGrpSpPr>
          <p:grpSpPr>
            <a:xfrm>
              <a:off x="5632560" y="990720"/>
              <a:ext cx="228600" cy="207000"/>
              <a:chOff x="5632560" y="990720"/>
              <a:chExt cx="228600" cy="207000"/>
            </a:xfrm>
          </p:grpSpPr>
          <p:sp>
            <p:nvSpPr>
              <p:cNvPr id="616" name="Freeform 56"/>
              <p:cNvSpPr/>
              <p:nvPr/>
            </p:nvSpPr>
            <p:spPr>
              <a:xfrm rot="254400">
                <a:off x="5648400" y="105588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57"/>
              <p:cNvSpPr/>
              <p:nvPr/>
            </p:nvSpPr>
            <p:spPr>
              <a:xfrm>
                <a:off x="5632560" y="99072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Group 58"/>
            <p:cNvGrpSpPr/>
            <p:nvPr/>
          </p:nvGrpSpPr>
          <p:grpSpPr>
            <a:xfrm>
              <a:off x="5669640" y="849960"/>
              <a:ext cx="299880" cy="197280"/>
              <a:chOff x="5669640" y="849960"/>
              <a:chExt cx="299880" cy="197280"/>
            </a:xfrm>
          </p:grpSpPr>
          <p:sp>
            <p:nvSpPr>
              <p:cNvPr id="619" name="Freeform 59"/>
              <p:cNvSpPr/>
              <p:nvPr/>
            </p:nvSpPr>
            <p:spPr>
              <a:xfrm rot="1150200">
                <a:off x="5676480" y="89424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60"/>
              <p:cNvSpPr/>
              <p:nvPr/>
            </p:nvSpPr>
            <p:spPr>
              <a:xfrm rot="1150200">
                <a:off x="5676480" y="92304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Freeform 61"/>
            <p:cNvSpPr/>
            <p:nvPr/>
          </p:nvSpPr>
          <p:spPr>
            <a:xfrm>
              <a:off x="5832360" y="72396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2"/>
            <p:cNvSpPr/>
            <p:nvPr/>
          </p:nvSpPr>
          <p:spPr>
            <a:xfrm>
              <a:off x="5918040" y="36216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3"/>
            <p:cNvSpPr/>
            <p:nvPr/>
          </p:nvSpPr>
          <p:spPr>
            <a:xfrm>
              <a:off x="5823000" y="61920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4"/>
            <p:cNvSpPr/>
            <p:nvPr/>
          </p:nvSpPr>
          <p:spPr>
            <a:xfrm>
              <a:off x="6270480" y="129852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65"/>
            <p:cNvGrpSpPr/>
            <p:nvPr/>
          </p:nvGrpSpPr>
          <p:grpSpPr>
            <a:xfrm>
              <a:off x="6280200" y="1495440"/>
              <a:ext cx="190440" cy="457200"/>
              <a:chOff x="6280200" y="1495440"/>
              <a:chExt cx="190440" cy="457200"/>
            </a:xfrm>
          </p:grpSpPr>
          <p:sp>
            <p:nvSpPr>
              <p:cNvPr id="626" name="Oval 66"/>
              <p:cNvSpPr/>
              <p:nvPr/>
            </p:nvSpPr>
            <p:spPr>
              <a:xfrm>
                <a:off x="6356160" y="149544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67"/>
              <p:cNvSpPr/>
              <p:nvPr/>
            </p:nvSpPr>
            <p:spPr>
              <a:xfrm>
                <a:off x="6280200" y="156204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Freeform 69"/>
            <p:cNvSpPr/>
            <p:nvPr/>
          </p:nvSpPr>
          <p:spPr>
            <a:xfrm>
              <a:off x="1917720" y="1704960"/>
              <a:ext cx="1504800" cy="208620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0"/>
            <p:cNvSpPr/>
            <p:nvPr/>
          </p:nvSpPr>
          <p:spPr>
            <a:xfrm>
              <a:off x="1994040" y="279072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1"/>
            <p:cNvSpPr/>
            <p:nvPr/>
          </p:nvSpPr>
          <p:spPr>
            <a:xfrm rot="21032400">
              <a:off x="2049480" y="29872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2"/>
            <p:cNvSpPr/>
            <p:nvPr/>
          </p:nvSpPr>
          <p:spPr>
            <a:xfrm>
              <a:off x="2212920" y="246708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73"/>
            <p:cNvGrpSpPr/>
            <p:nvPr/>
          </p:nvGrpSpPr>
          <p:grpSpPr>
            <a:xfrm>
              <a:off x="2203560" y="2324160"/>
              <a:ext cx="228600" cy="207000"/>
              <a:chOff x="2203560" y="2324160"/>
              <a:chExt cx="228600" cy="207000"/>
            </a:xfrm>
          </p:grpSpPr>
          <p:sp>
            <p:nvSpPr>
              <p:cNvPr id="633" name="Freeform 74"/>
              <p:cNvSpPr/>
              <p:nvPr/>
            </p:nvSpPr>
            <p:spPr>
              <a:xfrm rot="254400">
                <a:off x="2219400" y="238932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75"/>
              <p:cNvSpPr/>
              <p:nvPr/>
            </p:nvSpPr>
            <p:spPr>
              <a:xfrm>
                <a:off x="2203560" y="232416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76"/>
            <p:cNvGrpSpPr/>
            <p:nvPr/>
          </p:nvGrpSpPr>
          <p:grpSpPr>
            <a:xfrm>
              <a:off x="2240640" y="2183400"/>
              <a:ext cx="299880" cy="197280"/>
              <a:chOff x="2240640" y="2183400"/>
              <a:chExt cx="299880" cy="197280"/>
            </a:xfrm>
          </p:grpSpPr>
          <p:sp>
            <p:nvSpPr>
              <p:cNvPr id="636" name="Freeform 77"/>
              <p:cNvSpPr/>
              <p:nvPr/>
            </p:nvSpPr>
            <p:spPr>
              <a:xfrm rot="1150200">
                <a:off x="2247480" y="222768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78"/>
              <p:cNvSpPr/>
              <p:nvPr/>
            </p:nvSpPr>
            <p:spPr>
              <a:xfrm rot="1150200">
                <a:off x="2247480" y="225648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Freeform 79"/>
            <p:cNvSpPr/>
            <p:nvPr/>
          </p:nvSpPr>
          <p:spPr>
            <a:xfrm>
              <a:off x="2403360" y="20574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0"/>
            <p:cNvSpPr/>
            <p:nvPr/>
          </p:nvSpPr>
          <p:spPr>
            <a:xfrm>
              <a:off x="2489040" y="169560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1"/>
            <p:cNvSpPr/>
            <p:nvPr/>
          </p:nvSpPr>
          <p:spPr>
            <a:xfrm>
              <a:off x="2394000" y="1952640"/>
              <a:ext cx="523800" cy="7146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2"/>
            <p:cNvSpPr/>
            <p:nvPr/>
          </p:nvSpPr>
          <p:spPr>
            <a:xfrm>
              <a:off x="2841480" y="2632320"/>
              <a:ext cx="203400" cy="2966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83"/>
            <p:cNvGrpSpPr/>
            <p:nvPr/>
          </p:nvGrpSpPr>
          <p:grpSpPr>
            <a:xfrm>
              <a:off x="2851200" y="2828880"/>
              <a:ext cx="190440" cy="457200"/>
              <a:chOff x="2851200" y="2828880"/>
              <a:chExt cx="190440" cy="457200"/>
            </a:xfrm>
          </p:grpSpPr>
          <p:sp>
            <p:nvSpPr>
              <p:cNvPr id="643" name="Oval 84"/>
              <p:cNvSpPr/>
              <p:nvPr/>
            </p:nvSpPr>
            <p:spPr>
              <a:xfrm>
                <a:off x="2927160" y="28288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85"/>
              <p:cNvSpPr/>
              <p:nvPr/>
            </p:nvSpPr>
            <p:spPr>
              <a:xfrm>
                <a:off x="2851200" y="289548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87"/>
            <p:cNvSpPr/>
            <p:nvPr/>
          </p:nvSpPr>
          <p:spPr>
            <a:xfrm>
              <a:off x="2593800" y="3095640"/>
              <a:ext cx="1505160" cy="20862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8"/>
            <p:cNvSpPr/>
            <p:nvPr/>
          </p:nvSpPr>
          <p:spPr>
            <a:xfrm>
              <a:off x="2670120" y="418140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9"/>
            <p:cNvSpPr/>
            <p:nvPr/>
          </p:nvSpPr>
          <p:spPr>
            <a:xfrm rot="21032400">
              <a:off x="2725560" y="437796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0"/>
            <p:cNvSpPr/>
            <p:nvPr/>
          </p:nvSpPr>
          <p:spPr>
            <a:xfrm>
              <a:off x="2889360" y="385776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91"/>
            <p:cNvGrpSpPr/>
            <p:nvPr/>
          </p:nvGrpSpPr>
          <p:grpSpPr>
            <a:xfrm>
              <a:off x="2879640" y="3714840"/>
              <a:ext cx="228600" cy="207000"/>
              <a:chOff x="2879640" y="3714840"/>
              <a:chExt cx="228600" cy="207000"/>
            </a:xfrm>
          </p:grpSpPr>
          <p:sp>
            <p:nvSpPr>
              <p:cNvPr id="650" name="Freeform 92"/>
              <p:cNvSpPr/>
              <p:nvPr/>
            </p:nvSpPr>
            <p:spPr>
              <a:xfrm rot="254400">
                <a:off x="2895480" y="378000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93"/>
              <p:cNvSpPr/>
              <p:nvPr/>
            </p:nvSpPr>
            <p:spPr>
              <a:xfrm>
                <a:off x="2879640" y="371484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94"/>
            <p:cNvGrpSpPr/>
            <p:nvPr/>
          </p:nvGrpSpPr>
          <p:grpSpPr>
            <a:xfrm>
              <a:off x="2917080" y="3574080"/>
              <a:ext cx="299880" cy="197280"/>
              <a:chOff x="2917080" y="3574080"/>
              <a:chExt cx="299880" cy="197280"/>
            </a:xfrm>
          </p:grpSpPr>
          <p:sp>
            <p:nvSpPr>
              <p:cNvPr id="653" name="Freeform 95"/>
              <p:cNvSpPr/>
              <p:nvPr/>
            </p:nvSpPr>
            <p:spPr>
              <a:xfrm rot="1150200">
                <a:off x="2923920" y="361836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96"/>
              <p:cNvSpPr/>
              <p:nvPr/>
            </p:nvSpPr>
            <p:spPr>
              <a:xfrm rot="1150200">
                <a:off x="2923920" y="364716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Freeform 97"/>
            <p:cNvSpPr/>
            <p:nvPr/>
          </p:nvSpPr>
          <p:spPr>
            <a:xfrm>
              <a:off x="3079800" y="344808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98"/>
            <p:cNvSpPr/>
            <p:nvPr/>
          </p:nvSpPr>
          <p:spPr>
            <a:xfrm>
              <a:off x="3165480" y="308628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99"/>
            <p:cNvSpPr/>
            <p:nvPr/>
          </p:nvSpPr>
          <p:spPr>
            <a:xfrm>
              <a:off x="3070080" y="334332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0"/>
            <p:cNvSpPr/>
            <p:nvPr/>
          </p:nvSpPr>
          <p:spPr>
            <a:xfrm>
              <a:off x="3517920" y="402264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101"/>
            <p:cNvGrpSpPr/>
            <p:nvPr/>
          </p:nvGrpSpPr>
          <p:grpSpPr>
            <a:xfrm>
              <a:off x="3527280" y="4219560"/>
              <a:ext cx="190800" cy="457200"/>
              <a:chOff x="3527280" y="4219560"/>
              <a:chExt cx="190800" cy="457200"/>
            </a:xfrm>
          </p:grpSpPr>
          <p:sp>
            <p:nvSpPr>
              <p:cNvPr id="660" name="Oval 102"/>
              <p:cNvSpPr/>
              <p:nvPr/>
            </p:nvSpPr>
            <p:spPr>
              <a:xfrm>
                <a:off x="3603600" y="42195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03"/>
              <p:cNvSpPr/>
              <p:nvPr/>
            </p:nvSpPr>
            <p:spPr>
              <a:xfrm>
                <a:off x="3527280" y="428616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Freeform 105"/>
            <p:cNvSpPr/>
            <p:nvPr/>
          </p:nvSpPr>
          <p:spPr>
            <a:xfrm>
              <a:off x="3279600" y="1724040"/>
              <a:ext cx="1505160" cy="20862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6"/>
            <p:cNvSpPr/>
            <p:nvPr/>
          </p:nvSpPr>
          <p:spPr>
            <a:xfrm>
              <a:off x="3355920" y="280980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7"/>
            <p:cNvSpPr/>
            <p:nvPr/>
          </p:nvSpPr>
          <p:spPr>
            <a:xfrm rot="21032400">
              <a:off x="3411360" y="300636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8"/>
            <p:cNvSpPr/>
            <p:nvPr/>
          </p:nvSpPr>
          <p:spPr>
            <a:xfrm>
              <a:off x="3575160" y="248616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Group 109"/>
            <p:cNvGrpSpPr/>
            <p:nvPr/>
          </p:nvGrpSpPr>
          <p:grpSpPr>
            <a:xfrm>
              <a:off x="3565440" y="2343240"/>
              <a:ext cx="228600" cy="207000"/>
              <a:chOff x="3565440" y="2343240"/>
              <a:chExt cx="228600" cy="207000"/>
            </a:xfrm>
          </p:grpSpPr>
          <p:sp>
            <p:nvSpPr>
              <p:cNvPr id="667" name="Freeform 110"/>
              <p:cNvSpPr/>
              <p:nvPr/>
            </p:nvSpPr>
            <p:spPr>
              <a:xfrm rot="254400">
                <a:off x="3581280" y="240840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11"/>
              <p:cNvSpPr/>
              <p:nvPr/>
            </p:nvSpPr>
            <p:spPr>
              <a:xfrm>
                <a:off x="3565440" y="234324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112"/>
            <p:cNvGrpSpPr/>
            <p:nvPr/>
          </p:nvGrpSpPr>
          <p:grpSpPr>
            <a:xfrm>
              <a:off x="3602880" y="2202480"/>
              <a:ext cx="299880" cy="197280"/>
              <a:chOff x="3602880" y="2202480"/>
              <a:chExt cx="299880" cy="197280"/>
            </a:xfrm>
          </p:grpSpPr>
          <p:sp>
            <p:nvSpPr>
              <p:cNvPr id="670" name="Freeform 113"/>
              <p:cNvSpPr/>
              <p:nvPr/>
            </p:nvSpPr>
            <p:spPr>
              <a:xfrm rot="1150200">
                <a:off x="3609720" y="224676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14"/>
              <p:cNvSpPr/>
              <p:nvPr/>
            </p:nvSpPr>
            <p:spPr>
              <a:xfrm rot="1150200">
                <a:off x="3609720" y="227556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Freeform 115"/>
            <p:cNvSpPr/>
            <p:nvPr/>
          </p:nvSpPr>
          <p:spPr>
            <a:xfrm>
              <a:off x="3765600" y="207648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6"/>
            <p:cNvSpPr/>
            <p:nvPr/>
          </p:nvSpPr>
          <p:spPr>
            <a:xfrm>
              <a:off x="3851280" y="171468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17"/>
            <p:cNvSpPr/>
            <p:nvPr/>
          </p:nvSpPr>
          <p:spPr>
            <a:xfrm>
              <a:off x="3755880" y="197172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18"/>
            <p:cNvSpPr/>
            <p:nvPr/>
          </p:nvSpPr>
          <p:spPr>
            <a:xfrm>
              <a:off x="4203720" y="265104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119"/>
            <p:cNvGrpSpPr/>
            <p:nvPr/>
          </p:nvGrpSpPr>
          <p:grpSpPr>
            <a:xfrm>
              <a:off x="4213080" y="2847960"/>
              <a:ext cx="190800" cy="457200"/>
              <a:chOff x="4213080" y="2847960"/>
              <a:chExt cx="190800" cy="457200"/>
            </a:xfrm>
          </p:grpSpPr>
          <p:sp>
            <p:nvSpPr>
              <p:cNvPr id="677" name="Oval 120"/>
              <p:cNvSpPr/>
              <p:nvPr/>
            </p:nvSpPr>
            <p:spPr>
              <a:xfrm>
                <a:off x="4289400" y="28479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21"/>
              <p:cNvSpPr/>
              <p:nvPr/>
            </p:nvSpPr>
            <p:spPr>
              <a:xfrm>
                <a:off x="4213080" y="291456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Freeform 123"/>
            <p:cNvSpPr/>
            <p:nvPr/>
          </p:nvSpPr>
          <p:spPr>
            <a:xfrm>
              <a:off x="4641840" y="173376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24"/>
            <p:cNvSpPr/>
            <p:nvPr/>
          </p:nvSpPr>
          <p:spPr>
            <a:xfrm>
              <a:off x="4718160" y="281952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25"/>
            <p:cNvSpPr/>
            <p:nvPr/>
          </p:nvSpPr>
          <p:spPr>
            <a:xfrm rot="21032400">
              <a:off x="4773600" y="30160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26"/>
            <p:cNvSpPr/>
            <p:nvPr/>
          </p:nvSpPr>
          <p:spPr>
            <a:xfrm>
              <a:off x="4937040" y="24955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127"/>
            <p:cNvGrpSpPr/>
            <p:nvPr/>
          </p:nvGrpSpPr>
          <p:grpSpPr>
            <a:xfrm>
              <a:off x="4927680" y="2352600"/>
              <a:ext cx="228600" cy="207000"/>
              <a:chOff x="4927680" y="2352600"/>
              <a:chExt cx="228600" cy="207000"/>
            </a:xfrm>
          </p:grpSpPr>
          <p:sp>
            <p:nvSpPr>
              <p:cNvPr id="684" name="Freeform 128"/>
              <p:cNvSpPr/>
              <p:nvPr/>
            </p:nvSpPr>
            <p:spPr>
              <a:xfrm rot="254400">
                <a:off x="4943520" y="24177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29"/>
              <p:cNvSpPr/>
              <p:nvPr/>
            </p:nvSpPr>
            <p:spPr>
              <a:xfrm>
                <a:off x="4927680" y="23526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130"/>
            <p:cNvGrpSpPr/>
            <p:nvPr/>
          </p:nvGrpSpPr>
          <p:grpSpPr>
            <a:xfrm>
              <a:off x="4964760" y="2211840"/>
              <a:ext cx="299880" cy="197280"/>
              <a:chOff x="4964760" y="2211840"/>
              <a:chExt cx="299880" cy="197280"/>
            </a:xfrm>
          </p:grpSpPr>
          <p:sp>
            <p:nvSpPr>
              <p:cNvPr id="687" name="Freeform 131"/>
              <p:cNvSpPr/>
              <p:nvPr/>
            </p:nvSpPr>
            <p:spPr>
              <a:xfrm rot="1150200">
                <a:off x="4971600" y="225612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32"/>
              <p:cNvSpPr/>
              <p:nvPr/>
            </p:nvSpPr>
            <p:spPr>
              <a:xfrm rot="1150200">
                <a:off x="4971600" y="22849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Freeform 133"/>
            <p:cNvSpPr/>
            <p:nvPr/>
          </p:nvSpPr>
          <p:spPr>
            <a:xfrm>
              <a:off x="5127480" y="20862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34"/>
            <p:cNvSpPr/>
            <p:nvPr/>
          </p:nvSpPr>
          <p:spPr>
            <a:xfrm>
              <a:off x="5213160" y="17240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5"/>
            <p:cNvSpPr/>
            <p:nvPr/>
          </p:nvSpPr>
          <p:spPr>
            <a:xfrm>
              <a:off x="5118120" y="198144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6"/>
            <p:cNvSpPr/>
            <p:nvPr/>
          </p:nvSpPr>
          <p:spPr>
            <a:xfrm>
              <a:off x="5565600" y="266076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137"/>
            <p:cNvGrpSpPr/>
            <p:nvPr/>
          </p:nvGrpSpPr>
          <p:grpSpPr>
            <a:xfrm>
              <a:off x="5575320" y="2857680"/>
              <a:ext cx="190440" cy="457200"/>
              <a:chOff x="5575320" y="2857680"/>
              <a:chExt cx="190440" cy="457200"/>
            </a:xfrm>
          </p:grpSpPr>
          <p:sp>
            <p:nvSpPr>
              <p:cNvPr id="694" name="Oval 138"/>
              <p:cNvSpPr/>
              <p:nvPr/>
            </p:nvSpPr>
            <p:spPr>
              <a:xfrm>
                <a:off x="5651280" y="28576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39"/>
              <p:cNvSpPr/>
              <p:nvPr/>
            </p:nvSpPr>
            <p:spPr>
              <a:xfrm>
                <a:off x="5575320" y="292428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Freeform 141"/>
            <p:cNvSpPr/>
            <p:nvPr/>
          </p:nvSpPr>
          <p:spPr>
            <a:xfrm>
              <a:off x="6004080" y="175284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42"/>
            <p:cNvSpPr/>
            <p:nvPr/>
          </p:nvSpPr>
          <p:spPr>
            <a:xfrm>
              <a:off x="6080040" y="283860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43"/>
            <p:cNvSpPr/>
            <p:nvPr/>
          </p:nvSpPr>
          <p:spPr>
            <a:xfrm rot="21032400">
              <a:off x="6135840" y="3035160"/>
              <a:ext cx="223560" cy="1206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44"/>
            <p:cNvSpPr/>
            <p:nvPr/>
          </p:nvSpPr>
          <p:spPr>
            <a:xfrm>
              <a:off x="6299280" y="251460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145"/>
            <p:cNvGrpSpPr/>
            <p:nvPr/>
          </p:nvGrpSpPr>
          <p:grpSpPr>
            <a:xfrm>
              <a:off x="6289560" y="2371680"/>
              <a:ext cx="228600" cy="207000"/>
              <a:chOff x="6289560" y="2371680"/>
              <a:chExt cx="228600" cy="207000"/>
            </a:xfrm>
          </p:grpSpPr>
          <p:sp>
            <p:nvSpPr>
              <p:cNvPr id="701" name="Freeform 146"/>
              <p:cNvSpPr/>
              <p:nvPr/>
            </p:nvSpPr>
            <p:spPr>
              <a:xfrm rot="254400">
                <a:off x="6305400" y="243684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47"/>
              <p:cNvSpPr/>
              <p:nvPr/>
            </p:nvSpPr>
            <p:spPr>
              <a:xfrm>
                <a:off x="6289560" y="237168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148"/>
            <p:cNvGrpSpPr/>
            <p:nvPr/>
          </p:nvGrpSpPr>
          <p:grpSpPr>
            <a:xfrm>
              <a:off x="6327000" y="2230920"/>
              <a:ext cx="299880" cy="197280"/>
              <a:chOff x="6327000" y="2230920"/>
              <a:chExt cx="299880" cy="197280"/>
            </a:xfrm>
          </p:grpSpPr>
          <p:sp>
            <p:nvSpPr>
              <p:cNvPr id="704" name="Freeform 149"/>
              <p:cNvSpPr/>
              <p:nvPr/>
            </p:nvSpPr>
            <p:spPr>
              <a:xfrm rot="1150200">
                <a:off x="6333840" y="227520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50"/>
              <p:cNvSpPr/>
              <p:nvPr/>
            </p:nvSpPr>
            <p:spPr>
              <a:xfrm rot="1150200">
                <a:off x="6333840" y="230400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Freeform 151"/>
            <p:cNvSpPr/>
            <p:nvPr/>
          </p:nvSpPr>
          <p:spPr>
            <a:xfrm>
              <a:off x="6489720" y="2104920"/>
              <a:ext cx="619200" cy="6321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52"/>
            <p:cNvSpPr/>
            <p:nvPr/>
          </p:nvSpPr>
          <p:spPr>
            <a:xfrm>
              <a:off x="6575400" y="174312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53"/>
            <p:cNvSpPr/>
            <p:nvPr/>
          </p:nvSpPr>
          <p:spPr>
            <a:xfrm>
              <a:off x="6480000" y="2000160"/>
              <a:ext cx="524160" cy="71460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54"/>
            <p:cNvSpPr/>
            <p:nvPr/>
          </p:nvSpPr>
          <p:spPr>
            <a:xfrm>
              <a:off x="6927840" y="2679840"/>
              <a:ext cx="203040" cy="296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Group 155"/>
            <p:cNvGrpSpPr/>
            <p:nvPr/>
          </p:nvGrpSpPr>
          <p:grpSpPr>
            <a:xfrm>
              <a:off x="6937200" y="2876760"/>
              <a:ext cx="190800" cy="457200"/>
              <a:chOff x="6937200" y="2876760"/>
              <a:chExt cx="190800" cy="457200"/>
            </a:xfrm>
          </p:grpSpPr>
          <p:sp>
            <p:nvSpPr>
              <p:cNvPr id="711" name="Oval 156"/>
              <p:cNvSpPr/>
              <p:nvPr/>
            </p:nvSpPr>
            <p:spPr>
              <a:xfrm>
                <a:off x="7013520" y="28767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57"/>
              <p:cNvSpPr/>
              <p:nvPr/>
            </p:nvSpPr>
            <p:spPr>
              <a:xfrm>
                <a:off x="6937200" y="294336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Freeform 159"/>
            <p:cNvSpPr/>
            <p:nvPr/>
          </p:nvSpPr>
          <p:spPr>
            <a:xfrm>
              <a:off x="3965400" y="3105360"/>
              <a:ext cx="1505160" cy="2085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0"/>
            <p:cNvSpPr/>
            <p:nvPr/>
          </p:nvSpPr>
          <p:spPr>
            <a:xfrm>
              <a:off x="4041720" y="419112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61"/>
            <p:cNvSpPr/>
            <p:nvPr/>
          </p:nvSpPr>
          <p:spPr>
            <a:xfrm rot="21032400">
              <a:off x="4097160" y="43876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62"/>
            <p:cNvSpPr/>
            <p:nvPr/>
          </p:nvSpPr>
          <p:spPr>
            <a:xfrm>
              <a:off x="4260960" y="38671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163"/>
            <p:cNvGrpSpPr/>
            <p:nvPr/>
          </p:nvGrpSpPr>
          <p:grpSpPr>
            <a:xfrm>
              <a:off x="4251240" y="3724200"/>
              <a:ext cx="228600" cy="207000"/>
              <a:chOff x="4251240" y="3724200"/>
              <a:chExt cx="228600" cy="207000"/>
            </a:xfrm>
          </p:grpSpPr>
          <p:sp>
            <p:nvSpPr>
              <p:cNvPr id="718" name="Freeform 164"/>
              <p:cNvSpPr/>
              <p:nvPr/>
            </p:nvSpPr>
            <p:spPr>
              <a:xfrm rot="254400">
                <a:off x="4267080" y="37893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65"/>
              <p:cNvSpPr/>
              <p:nvPr/>
            </p:nvSpPr>
            <p:spPr>
              <a:xfrm>
                <a:off x="4251240" y="37242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166"/>
            <p:cNvGrpSpPr/>
            <p:nvPr/>
          </p:nvGrpSpPr>
          <p:grpSpPr>
            <a:xfrm>
              <a:off x="4288680" y="3583440"/>
              <a:ext cx="299880" cy="197280"/>
              <a:chOff x="4288680" y="3583440"/>
              <a:chExt cx="299880" cy="197280"/>
            </a:xfrm>
          </p:grpSpPr>
          <p:sp>
            <p:nvSpPr>
              <p:cNvPr id="721" name="Freeform 167"/>
              <p:cNvSpPr/>
              <p:nvPr/>
            </p:nvSpPr>
            <p:spPr>
              <a:xfrm rot="1150200">
                <a:off x="4295520" y="362772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68"/>
              <p:cNvSpPr/>
              <p:nvPr/>
            </p:nvSpPr>
            <p:spPr>
              <a:xfrm rot="1150200">
                <a:off x="4295520" y="36565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Freeform 169"/>
            <p:cNvSpPr/>
            <p:nvPr/>
          </p:nvSpPr>
          <p:spPr>
            <a:xfrm>
              <a:off x="4451400" y="34578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0"/>
            <p:cNvSpPr/>
            <p:nvPr/>
          </p:nvSpPr>
          <p:spPr>
            <a:xfrm>
              <a:off x="4537080" y="30956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71"/>
            <p:cNvSpPr/>
            <p:nvPr/>
          </p:nvSpPr>
          <p:spPr>
            <a:xfrm>
              <a:off x="4441680" y="335304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72"/>
            <p:cNvSpPr/>
            <p:nvPr/>
          </p:nvSpPr>
          <p:spPr>
            <a:xfrm>
              <a:off x="4889520" y="403236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173"/>
            <p:cNvGrpSpPr/>
            <p:nvPr/>
          </p:nvGrpSpPr>
          <p:grpSpPr>
            <a:xfrm>
              <a:off x="4898880" y="4229280"/>
              <a:ext cx="190800" cy="457200"/>
              <a:chOff x="4898880" y="4229280"/>
              <a:chExt cx="190800" cy="457200"/>
            </a:xfrm>
          </p:grpSpPr>
          <p:sp>
            <p:nvSpPr>
              <p:cNvPr id="728" name="Oval 174"/>
              <p:cNvSpPr/>
              <p:nvPr/>
            </p:nvSpPr>
            <p:spPr>
              <a:xfrm>
                <a:off x="4975200" y="42292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75"/>
              <p:cNvSpPr/>
              <p:nvPr/>
            </p:nvSpPr>
            <p:spPr>
              <a:xfrm>
                <a:off x="4898880" y="429588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Freeform 177"/>
            <p:cNvSpPr/>
            <p:nvPr/>
          </p:nvSpPr>
          <p:spPr>
            <a:xfrm>
              <a:off x="5327640" y="312444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78"/>
            <p:cNvSpPr/>
            <p:nvPr/>
          </p:nvSpPr>
          <p:spPr>
            <a:xfrm>
              <a:off x="5403960" y="421020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79"/>
            <p:cNvSpPr/>
            <p:nvPr/>
          </p:nvSpPr>
          <p:spPr>
            <a:xfrm rot="21032400">
              <a:off x="5459400" y="440676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80"/>
            <p:cNvSpPr/>
            <p:nvPr/>
          </p:nvSpPr>
          <p:spPr>
            <a:xfrm>
              <a:off x="5622840" y="388620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181"/>
            <p:cNvGrpSpPr/>
            <p:nvPr/>
          </p:nvGrpSpPr>
          <p:grpSpPr>
            <a:xfrm>
              <a:off x="5613480" y="3743280"/>
              <a:ext cx="228600" cy="207000"/>
              <a:chOff x="5613480" y="3743280"/>
              <a:chExt cx="228600" cy="207000"/>
            </a:xfrm>
          </p:grpSpPr>
          <p:sp>
            <p:nvSpPr>
              <p:cNvPr id="735" name="Freeform 182"/>
              <p:cNvSpPr/>
              <p:nvPr/>
            </p:nvSpPr>
            <p:spPr>
              <a:xfrm rot="254400">
                <a:off x="5629320" y="380844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83"/>
              <p:cNvSpPr/>
              <p:nvPr/>
            </p:nvSpPr>
            <p:spPr>
              <a:xfrm>
                <a:off x="5613480" y="374328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84"/>
            <p:cNvGrpSpPr/>
            <p:nvPr/>
          </p:nvGrpSpPr>
          <p:grpSpPr>
            <a:xfrm>
              <a:off x="5650560" y="3602520"/>
              <a:ext cx="299880" cy="197280"/>
              <a:chOff x="5650560" y="3602520"/>
              <a:chExt cx="299880" cy="197280"/>
            </a:xfrm>
          </p:grpSpPr>
          <p:sp>
            <p:nvSpPr>
              <p:cNvPr id="738" name="Freeform 185"/>
              <p:cNvSpPr/>
              <p:nvPr/>
            </p:nvSpPr>
            <p:spPr>
              <a:xfrm rot="1150200">
                <a:off x="5657400" y="364680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86"/>
              <p:cNvSpPr/>
              <p:nvPr/>
            </p:nvSpPr>
            <p:spPr>
              <a:xfrm rot="1150200">
                <a:off x="5657400" y="367560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Freeform 187"/>
            <p:cNvSpPr/>
            <p:nvPr/>
          </p:nvSpPr>
          <p:spPr>
            <a:xfrm>
              <a:off x="5813280" y="3476520"/>
              <a:ext cx="619200" cy="6321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88"/>
            <p:cNvSpPr/>
            <p:nvPr/>
          </p:nvSpPr>
          <p:spPr>
            <a:xfrm>
              <a:off x="5898960" y="311472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89"/>
            <p:cNvSpPr/>
            <p:nvPr/>
          </p:nvSpPr>
          <p:spPr>
            <a:xfrm>
              <a:off x="5803920" y="3371760"/>
              <a:ext cx="523800" cy="7146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90"/>
            <p:cNvSpPr/>
            <p:nvPr/>
          </p:nvSpPr>
          <p:spPr>
            <a:xfrm>
              <a:off x="6251400" y="4051440"/>
              <a:ext cx="203400" cy="2966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191"/>
            <p:cNvGrpSpPr/>
            <p:nvPr/>
          </p:nvGrpSpPr>
          <p:grpSpPr>
            <a:xfrm>
              <a:off x="6261120" y="4248360"/>
              <a:ext cx="190440" cy="457200"/>
              <a:chOff x="6261120" y="4248360"/>
              <a:chExt cx="190440" cy="457200"/>
            </a:xfrm>
          </p:grpSpPr>
          <p:sp>
            <p:nvSpPr>
              <p:cNvPr id="745" name="Oval 192"/>
              <p:cNvSpPr/>
              <p:nvPr/>
            </p:nvSpPr>
            <p:spPr>
              <a:xfrm>
                <a:off x="6337080" y="42483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93"/>
              <p:cNvSpPr/>
              <p:nvPr/>
            </p:nvSpPr>
            <p:spPr>
              <a:xfrm>
                <a:off x="6261120" y="431496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Freeform 195"/>
            <p:cNvSpPr/>
            <p:nvPr/>
          </p:nvSpPr>
          <p:spPr>
            <a:xfrm>
              <a:off x="6697800" y="313380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6"/>
            <p:cNvSpPr/>
            <p:nvPr/>
          </p:nvSpPr>
          <p:spPr>
            <a:xfrm>
              <a:off x="6773760" y="421956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97"/>
            <p:cNvSpPr/>
            <p:nvPr/>
          </p:nvSpPr>
          <p:spPr>
            <a:xfrm rot="21032400">
              <a:off x="6829560" y="4416120"/>
              <a:ext cx="223560" cy="1206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8"/>
            <p:cNvSpPr/>
            <p:nvPr/>
          </p:nvSpPr>
          <p:spPr>
            <a:xfrm>
              <a:off x="6993000" y="38959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99"/>
            <p:cNvGrpSpPr/>
            <p:nvPr/>
          </p:nvGrpSpPr>
          <p:grpSpPr>
            <a:xfrm>
              <a:off x="6983280" y="3753000"/>
              <a:ext cx="228600" cy="207000"/>
              <a:chOff x="6983280" y="3753000"/>
              <a:chExt cx="228600" cy="207000"/>
            </a:xfrm>
          </p:grpSpPr>
          <p:sp>
            <p:nvSpPr>
              <p:cNvPr id="752" name="Freeform 200"/>
              <p:cNvSpPr/>
              <p:nvPr/>
            </p:nvSpPr>
            <p:spPr>
              <a:xfrm rot="254400">
                <a:off x="6999120" y="38181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01"/>
              <p:cNvSpPr/>
              <p:nvPr/>
            </p:nvSpPr>
            <p:spPr>
              <a:xfrm>
                <a:off x="6983280" y="37530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202"/>
            <p:cNvGrpSpPr/>
            <p:nvPr/>
          </p:nvGrpSpPr>
          <p:grpSpPr>
            <a:xfrm>
              <a:off x="7020720" y="3612240"/>
              <a:ext cx="299880" cy="197280"/>
              <a:chOff x="7020720" y="3612240"/>
              <a:chExt cx="299880" cy="197280"/>
            </a:xfrm>
          </p:grpSpPr>
          <p:sp>
            <p:nvSpPr>
              <p:cNvPr id="755" name="Freeform 203"/>
              <p:cNvSpPr/>
              <p:nvPr/>
            </p:nvSpPr>
            <p:spPr>
              <a:xfrm rot="1150200">
                <a:off x="7027560" y="365652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04"/>
              <p:cNvSpPr/>
              <p:nvPr/>
            </p:nvSpPr>
            <p:spPr>
              <a:xfrm rot="1150200">
                <a:off x="7027560" y="36853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Freeform 205"/>
            <p:cNvSpPr/>
            <p:nvPr/>
          </p:nvSpPr>
          <p:spPr>
            <a:xfrm>
              <a:off x="7183440" y="348624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06"/>
            <p:cNvSpPr/>
            <p:nvPr/>
          </p:nvSpPr>
          <p:spPr>
            <a:xfrm>
              <a:off x="7269120" y="31244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07"/>
            <p:cNvSpPr/>
            <p:nvPr/>
          </p:nvSpPr>
          <p:spPr>
            <a:xfrm>
              <a:off x="7174080" y="338148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08"/>
            <p:cNvSpPr/>
            <p:nvPr/>
          </p:nvSpPr>
          <p:spPr>
            <a:xfrm>
              <a:off x="7621560" y="406080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209"/>
            <p:cNvGrpSpPr/>
            <p:nvPr/>
          </p:nvGrpSpPr>
          <p:grpSpPr>
            <a:xfrm>
              <a:off x="7631280" y="4257720"/>
              <a:ext cx="190440" cy="457200"/>
              <a:chOff x="7631280" y="4257720"/>
              <a:chExt cx="190440" cy="457200"/>
            </a:xfrm>
          </p:grpSpPr>
          <p:sp>
            <p:nvSpPr>
              <p:cNvPr id="762" name="Oval 210"/>
              <p:cNvSpPr/>
              <p:nvPr/>
            </p:nvSpPr>
            <p:spPr>
              <a:xfrm>
                <a:off x="7707240" y="425772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11"/>
              <p:cNvSpPr/>
              <p:nvPr/>
            </p:nvSpPr>
            <p:spPr>
              <a:xfrm>
                <a:off x="7631280" y="432432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Freeform 213"/>
            <p:cNvSpPr/>
            <p:nvPr/>
          </p:nvSpPr>
          <p:spPr>
            <a:xfrm>
              <a:off x="6699240" y="39060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14"/>
            <p:cNvSpPr/>
            <p:nvPr/>
          </p:nvSpPr>
          <p:spPr>
            <a:xfrm>
              <a:off x="6775560" y="147636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15"/>
            <p:cNvSpPr/>
            <p:nvPr/>
          </p:nvSpPr>
          <p:spPr>
            <a:xfrm rot="21032400">
              <a:off x="6831000" y="167292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16"/>
            <p:cNvSpPr/>
            <p:nvPr/>
          </p:nvSpPr>
          <p:spPr>
            <a:xfrm>
              <a:off x="6994440" y="11527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17"/>
            <p:cNvGrpSpPr/>
            <p:nvPr/>
          </p:nvGrpSpPr>
          <p:grpSpPr>
            <a:xfrm>
              <a:off x="6985080" y="1009800"/>
              <a:ext cx="228600" cy="207000"/>
              <a:chOff x="6985080" y="1009800"/>
              <a:chExt cx="228600" cy="207000"/>
            </a:xfrm>
          </p:grpSpPr>
          <p:sp>
            <p:nvSpPr>
              <p:cNvPr id="769" name="Freeform 218"/>
              <p:cNvSpPr/>
              <p:nvPr/>
            </p:nvSpPr>
            <p:spPr>
              <a:xfrm rot="254400">
                <a:off x="7000920" y="10749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19"/>
              <p:cNvSpPr/>
              <p:nvPr/>
            </p:nvSpPr>
            <p:spPr>
              <a:xfrm>
                <a:off x="6985080" y="10098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220"/>
            <p:cNvGrpSpPr/>
            <p:nvPr/>
          </p:nvGrpSpPr>
          <p:grpSpPr>
            <a:xfrm>
              <a:off x="7022160" y="869040"/>
              <a:ext cx="299880" cy="197280"/>
              <a:chOff x="7022160" y="869040"/>
              <a:chExt cx="299880" cy="197280"/>
            </a:xfrm>
          </p:grpSpPr>
          <p:sp>
            <p:nvSpPr>
              <p:cNvPr id="772" name="Freeform 221"/>
              <p:cNvSpPr/>
              <p:nvPr/>
            </p:nvSpPr>
            <p:spPr>
              <a:xfrm rot="1150200">
                <a:off x="7029000" y="91332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22"/>
              <p:cNvSpPr/>
              <p:nvPr/>
            </p:nvSpPr>
            <p:spPr>
              <a:xfrm rot="1150200">
                <a:off x="7029000" y="9421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Freeform 223"/>
            <p:cNvSpPr/>
            <p:nvPr/>
          </p:nvSpPr>
          <p:spPr>
            <a:xfrm>
              <a:off x="7184880" y="74304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4"/>
            <p:cNvSpPr/>
            <p:nvPr/>
          </p:nvSpPr>
          <p:spPr>
            <a:xfrm>
              <a:off x="7270560" y="3812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25"/>
            <p:cNvSpPr/>
            <p:nvPr/>
          </p:nvSpPr>
          <p:spPr>
            <a:xfrm>
              <a:off x="7175520" y="63828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26"/>
            <p:cNvSpPr/>
            <p:nvPr/>
          </p:nvSpPr>
          <p:spPr>
            <a:xfrm>
              <a:off x="7623000" y="131760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7"/>
            <p:cNvGrpSpPr/>
            <p:nvPr/>
          </p:nvGrpSpPr>
          <p:grpSpPr>
            <a:xfrm>
              <a:off x="7632720" y="1514520"/>
              <a:ext cx="190440" cy="457200"/>
              <a:chOff x="7632720" y="1514520"/>
              <a:chExt cx="190440" cy="457200"/>
            </a:xfrm>
          </p:grpSpPr>
          <p:sp>
            <p:nvSpPr>
              <p:cNvPr id="779" name="Oval 228"/>
              <p:cNvSpPr/>
              <p:nvPr/>
            </p:nvSpPr>
            <p:spPr>
              <a:xfrm>
                <a:off x="7708680" y="151452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29"/>
              <p:cNvSpPr/>
              <p:nvPr/>
            </p:nvSpPr>
            <p:spPr>
              <a:xfrm>
                <a:off x="7632720" y="158112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Freeform 231"/>
            <p:cNvSpPr/>
            <p:nvPr/>
          </p:nvSpPr>
          <p:spPr>
            <a:xfrm>
              <a:off x="7385040" y="176220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32"/>
            <p:cNvSpPr/>
            <p:nvPr/>
          </p:nvSpPr>
          <p:spPr>
            <a:xfrm>
              <a:off x="7461360" y="284796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33"/>
            <p:cNvSpPr/>
            <p:nvPr/>
          </p:nvSpPr>
          <p:spPr>
            <a:xfrm rot="21032400">
              <a:off x="7516800" y="304452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34"/>
            <p:cNvSpPr/>
            <p:nvPr/>
          </p:nvSpPr>
          <p:spPr>
            <a:xfrm>
              <a:off x="7680240" y="25243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Group 235"/>
            <p:cNvGrpSpPr/>
            <p:nvPr/>
          </p:nvGrpSpPr>
          <p:grpSpPr>
            <a:xfrm>
              <a:off x="7670880" y="2381400"/>
              <a:ext cx="228600" cy="207000"/>
              <a:chOff x="7670880" y="2381400"/>
              <a:chExt cx="228600" cy="207000"/>
            </a:xfrm>
          </p:grpSpPr>
          <p:sp>
            <p:nvSpPr>
              <p:cNvPr id="786" name="Freeform 236"/>
              <p:cNvSpPr/>
              <p:nvPr/>
            </p:nvSpPr>
            <p:spPr>
              <a:xfrm rot="254400">
                <a:off x="7686720" y="24465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37"/>
              <p:cNvSpPr/>
              <p:nvPr/>
            </p:nvSpPr>
            <p:spPr>
              <a:xfrm>
                <a:off x="7670880" y="23814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238"/>
            <p:cNvGrpSpPr/>
            <p:nvPr/>
          </p:nvGrpSpPr>
          <p:grpSpPr>
            <a:xfrm>
              <a:off x="7707960" y="2240640"/>
              <a:ext cx="299880" cy="197280"/>
              <a:chOff x="7707960" y="2240640"/>
              <a:chExt cx="299880" cy="197280"/>
            </a:xfrm>
          </p:grpSpPr>
          <p:sp>
            <p:nvSpPr>
              <p:cNvPr id="789" name="Freeform 239"/>
              <p:cNvSpPr/>
              <p:nvPr/>
            </p:nvSpPr>
            <p:spPr>
              <a:xfrm rot="1150200">
                <a:off x="7714800" y="228492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40"/>
              <p:cNvSpPr/>
              <p:nvPr/>
            </p:nvSpPr>
            <p:spPr>
              <a:xfrm rot="1150200">
                <a:off x="7714800" y="23137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Freeform 241"/>
            <p:cNvSpPr/>
            <p:nvPr/>
          </p:nvSpPr>
          <p:spPr>
            <a:xfrm>
              <a:off x="7870680" y="211464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42"/>
            <p:cNvSpPr/>
            <p:nvPr/>
          </p:nvSpPr>
          <p:spPr>
            <a:xfrm>
              <a:off x="7956360" y="17528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43"/>
            <p:cNvSpPr/>
            <p:nvPr/>
          </p:nvSpPr>
          <p:spPr>
            <a:xfrm>
              <a:off x="7861320" y="2009880"/>
              <a:ext cx="523800" cy="7142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44"/>
            <p:cNvSpPr/>
            <p:nvPr/>
          </p:nvSpPr>
          <p:spPr>
            <a:xfrm>
              <a:off x="8308800" y="2689200"/>
              <a:ext cx="203400" cy="29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Group 245"/>
            <p:cNvGrpSpPr/>
            <p:nvPr/>
          </p:nvGrpSpPr>
          <p:grpSpPr>
            <a:xfrm>
              <a:off x="8318520" y="2886120"/>
              <a:ext cx="190440" cy="457200"/>
              <a:chOff x="8318520" y="2886120"/>
              <a:chExt cx="190440" cy="457200"/>
            </a:xfrm>
          </p:grpSpPr>
          <p:sp>
            <p:nvSpPr>
              <p:cNvPr id="796" name="Oval 246"/>
              <p:cNvSpPr/>
              <p:nvPr/>
            </p:nvSpPr>
            <p:spPr>
              <a:xfrm>
                <a:off x="8394480" y="288612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47"/>
              <p:cNvSpPr/>
              <p:nvPr/>
            </p:nvSpPr>
            <p:spPr>
              <a:xfrm>
                <a:off x="8318520" y="295272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Freeform 249"/>
            <p:cNvSpPr/>
            <p:nvPr/>
          </p:nvSpPr>
          <p:spPr>
            <a:xfrm>
              <a:off x="1908000" y="4476960"/>
              <a:ext cx="1505160" cy="2085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50"/>
            <p:cNvSpPr/>
            <p:nvPr/>
          </p:nvSpPr>
          <p:spPr>
            <a:xfrm>
              <a:off x="1984320" y="556272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51"/>
            <p:cNvSpPr/>
            <p:nvPr/>
          </p:nvSpPr>
          <p:spPr>
            <a:xfrm rot="21032400">
              <a:off x="2039760" y="57592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52"/>
            <p:cNvSpPr/>
            <p:nvPr/>
          </p:nvSpPr>
          <p:spPr>
            <a:xfrm>
              <a:off x="2203560" y="523872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Group 253"/>
            <p:cNvGrpSpPr/>
            <p:nvPr/>
          </p:nvGrpSpPr>
          <p:grpSpPr>
            <a:xfrm>
              <a:off x="2193840" y="5095800"/>
              <a:ext cx="228600" cy="207000"/>
              <a:chOff x="2193840" y="5095800"/>
              <a:chExt cx="228600" cy="207000"/>
            </a:xfrm>
          </p:grpSpPr>
          <p:sp>
            <p:nvSpPr>
              <p:cNvPr id="803" name="Freeform 254"/>
              <p:cNvSpPr/>
              <p:nvPr/>
            </p:nvSpPr>
            <p:spPr>
              <a:xfrm rot="254400">
                <a:off x="2209680" y="516096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255"/>
              <p:cNvSpPr/>
              <p:nvPr/>
            </p:nvSpPr>
            <p:spPr>
              <a:xfrm>
                <a:off x="2193840" y="509580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256"/>
            <p:cNvGrpSpPr/>
            <p:nvPr/>
          </p:nvGrpSpPr>
          <p:grpSpPr>
            <a:xfrm>
              <a:off x="2231280" y="4955040"/>
              <a:ext cx="299880" cy="197280"/>
              <a:chOff x="2231280" y="4955040"/>
              <a:chExt cx="299880" cy="197280"/>
            </a:xfrm>
          </p:grpSpPr>
          <p:sp>
            <p:nvSpPr>
              <p:cNvPr id="806" name="Freeform 257"/>
              <p:cNvSpPr/>
              <p:nvPr/>
            </p:nvSpPr>
            <p:spPr>
              <a:xfrm rot="1150200">
                <a:off x="2238120" y="499932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58"/>
              <p:cNvSpPr/>
              <p:nvPr/>
            </p:nvSpPr>
            <p:spPr>
              <a:xfrm rot="1150200">
                <a:off x="2238120" y="502812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Freeform 259"/>
            <p:cNvSpPr/>
            <p:nvPr/>
          </p:nvSpPr>
          <p:spPr>
            <a:xfrm>
              <a:off x="2394000" y="48294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60"/>
            <p:cNvSpPr/>
            <p:nvPr/>
          </p:nvSpPr>
          <p:spPr>
            <a:xfrm>
              <a:off x="2479680" y="446724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61"/>
            <p:cNvSpPr/>
            <p:nvPr/>
          </p:nvSpPr>
          <p:spPr>
            <a:xfrm>
              <a:off x="2384280" y="472464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62"/>
            <p:cNvSpPr/>
            <p:nvPr/>
          </p:nvSpPr>
          <p:spPr>
            <a:xfrm>
              <a:off x="2832120" y="540396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263"/>
            <p:cNvGrpSpPr/>
            <p:nvPr/>
          </p:nvGrpSpPr>
          <p:grpSpPr>
            <a:xfrm>
              <a:off x="2841480" y="5600880"/>
              <a:ext cx="190800" cy="457200"/>
              <a:chOff x="2841480" y="5600880"/>
              <a:chExt cx="190800" cy="457200"/>
            </a:xfrm>
          </p:grpSpPr>
          <p:sp>
            <p:nvSpPr>
              <p:cNvPr id="813" name="Oval 264"/>
              <p:cNvSpPr/>
              <p:nvPr/>
            </p:nvSpPr>
            <p:spPr>
              <a:xfrm>
                <a:off x="2917800" y="560088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65"/>
              <p:cNvSpPr/>
              <p:nvPr/>
            </p:nvSpPr>
            <p:spPr>
              <a:xfrm>
                <a:off x="2841480" y="566748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Freeform 267"/>
            <p:cNvSpPr/>
            <p:nvPr/>
          </p:nvSpPr>
          <p:spPr>
            <a:xfrm>
              <a:off x="3279600" y="4486320"/>
              <a:ext cx="1505160" cy="2085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68"/>
            <p:cNvSpPr/>
            <p:nvPr/>
          </p:nvSpPr>
          <p:spPr>
            <a:xfrm>
              <a:off x="3355920" y="557208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69"/>
            <p:cNvSpPr/>
            <p:nvPr/>
          </p:nvSpPr>
          <p:spPr>
            <a:xfrm rot="21032400">
              <a:off x="3411360" y="576864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70"/>
            <p:cNvSpPr/>
            <p:nvPr/>
          </p:nvSpPr>
          <p:spPr>
            <a:xfrm>
              <a:off x="3575160" y="524844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271"/>
            <p:cNvGrpSpPr/>
            <p:nvPr/>
          </p:nvGrpSpPr>
          <p:grpSpPr>
            <a:xfrm>
              <a:off x="3565440" y="5105520"/>
              <a:ext cx="228600" cy="207000"/>
              <a:chOff x="3565440" y="5105520"/>
              <a:chExt cx="228600" cy="207000"/>
            </a:xfrm>
          </p:grpSpPr>
          <p:sp>
            <p:nvSpPr>
              <p:cNvPr id="820" name="Freeform 272"/>
              <p:cNvSpPr/>
              <p:nvPr/>
            </p:nvSpPr>
            <p:spPr>
              <a:xfrm rot="254400">
                <a:off x="3581280" y="517068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73"/>
              <p:cNvSpPr/>
              <p:nvPr/>
            </p:nvSpPr>
            <p:spPr>
              <a:xfrm>
                <a:off x="3565440" y="510552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274"/>
            <p:cNvGrpSpPr/>
            <p:nvPr/>
          </p:nvGrpSpPr>
          <p:grpSpPr>
            <a:xfrm>
              <a:off x="3602880" y="4964760"/>
              <a:ext cx="299880" cy="197280"/>
              <a:chOff x="3602880" y="4964760"/>
              <a:chExt cx="299880" cy="197280"/>
            </a:xfrm>
          </p:grpSpPr>
          <p:sp>
            <p:nvSpPr>
              <p:cNvPr id="823" name="Freeform 275"/>
              <p:cNvSpPr/>
              <p:nvPr/>
            </p:nvSpPr>
            <p:spPr>
              <a:xfrm rot="1150200">
                <a:off x="3609720" y="5009040"/>
                <a:ext cx="285840" cy="90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76"/>
              <p:cNvSpPr/>
              <p:nvPr/>
            </p:nvSpPr>
            <p:spPr>
              <a:xfrm rot="1150200">
                <a:off x="3609720" y="503784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Freeform 277"/>
            <p:cNvSpPr/>
            <p:nvPr/>
          </p:nvSpPr>
          <p:spPr>
            <a:xfrm>
              <a:off x="3765600" y="483876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78"/>
            <p:cNvSpPr/>
            <p:nvPr/>
          </p:nvSpPr>
          <p:spPr>
            <a:xfrm>
              <a:off x="3851280" y="447696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79"/>
            <p:cNvSpPr/>
            <p:nvPr/>
          </p:nvSpPr>
          <p:spPr>
            <a:xfrm>
              <a:off x="3755880" y="4734000"/>
              <a:ext cx="524160" cy="71424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0"/>
            <p:cNvSpPr/>
            <p:nvPr/>
          </p:nvSpPr>
          <p:spPr>
            <a:xfrm>
              <a:off x="4203720" y="5413320"/>
              <a:ext cx="203040" cy="2970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281"/>
            <p:cNvGrpSpPr/>
            <p:nvPr/>
          </p:nvGrpSpPr>
          <p:grpSpPr>
            <a:xfrm>
              <a:off x="4213080" y="5610240"/>
              <a:ext cx="190800" cy="457200"/>
              <a:chOff x="4213080" y="5610240"/>
              <a:chExt cx="190800" cy="457200"/>
            </a:xfrm>
          </p:grpSpPr>
          <p:sp>
            <p:nvSpPr>
              <p:cNvPr id="830" name="Oval 282"/>
              <p:cNvSpPr/>
              <p:nvPr/>
            </p:nvSpPr>
            <p:spPr>
              <a:xfrm>
                <a:off x="4289400" y="561024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83"/>
              <p:cNvSpPr/>
              <p:nvPr/>
            </p:nvSpPr>
            <p:spPr>
              <a:xfrm>
                <a:off x="4213080" y="567684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Freeform 285"/>
            <p:cNvSpPr/>
            <p:nvPr/>
          </p:nvSpPr>
          <p:spPr>
            <a:xfrm>
              <a:off x="4632480" y="4496040"/>
              <a:ext cx="1504800" cy="20858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86"/>
            <p:cNvSpPr/>
            <p:nvPr/>
          </p:nvSpPr>
          <p:spPr>
            <a:xfrm>
              <a:off x="4708440" y="5581800"/>
              <a:ext cx="127080" cy="127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87"/>
            <p:cNvSpPr/>
            <p:nvPr/>
          </p:nvSpPr>
          <p:spPr>
            <a:xfrm rot="21032400">
              <a:off x="4764240" y="5778360"/>
              <a:ext cx="223560" cy="1206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88"/>
            <p:cNvSpPr/>
            <p:nvPr/>
          </p:nvSpPr>
          <p:spPr>
            <a:xfrm>
              <a:off x="4927680" y="525780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289"/>
            <p:cNvGrpSpPr/>
            <p:nvPr/>
          </p:nvGrpSpPr>
          <p:grpSpPr>
            <a:xfrm>
              <a:off x="4917960" y="5114880"/>
              <a:ext cx="228600" cy="207000"/>
              <a:chOff x="4917960" y="5114880"/>
              <a:chExt cx="228600" cy="207000"/>
            </a:xfrm>
          </p:grpSpPr>
          <p:sp>
            <p:nvSpPr>
              <p:cNvPr id="837" name="Freeform 290"/>
              <p:cNvSpPr/>
              <p:nvPr/>
            </p:nvSpPr>
            <p:spPr>
              <a:xfrm rot="254400">
                <a:off x="4933800" y="518004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91"/>
              <p:cNvSpPr/>
              <p:nvPr/>
            </p:nvSpPr>
            <p:spPr>
              <a:xfrm>
                <a:off x="4917960" y="511488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292"/>
            <p:cNvGrpSpPr/>
            <p:nvPr/>
          </p:nvGrpSpPr>
          <p:grpSpPr>
            <a:xfrm>
              <a:off x="4955400" y="4974120"/>
              <a:ext cx="299880" cy="197280"/>
              <a:chOff x="4955400" y="4974120"/>
              <a:chExt cx="299880" cy="197280"/>
            </a:xfrm>
          </p:grpSpPr>
          <p:sp>
            <p:nvSpPr>
              <p:cNvPr id="840" name="Freeform 293"/>
              <p:cNvSpPr/>
              <p:nvPr/>
            </p:nvSpPr>
            <p:spPr>
              <a:xfrm rot="1150200">
                <a:off x="4962240" y="501840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94"/>
              <p:cNvSpPr/>
              <p:nvPr/>
            </p:nvSpPr>
            <p:spPr>
              <a:xfrm rot="1150200">
                <a:off x="4962240" y="504720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Freeform 295"/>
            <p:cNvSpPr/>
            <p:nvPr/>
          </p:nvSpPr>
          <p:spPr>
            <a:xfrm>
              <a:off x="5118120" y="4848120"/>
              <a:ext cx="619200" cy="6321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6"/>
            <p:cNvSpPr/>
            <p:nvPr/>
          </p:nvSpPr>
          <p:spPr>
            <a:xfrm>
              <a:off x="5203800" y="448632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97"/>
            <p:cNvSpPr/>
            <p:nvPr/>
          </p:nvSpPr>
          <p:spPr>
            <a:xfrm>
              <a:off x="5108400" y="4743360"/>
              <a:ext cx="524160" cy="71460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8"/>
            <p:cNvSpPr/>
            <p:nvPr/>
          </p:nvSpPr>
          <p:spPr>
            <a:xfrm>
              <a:off x="5556240" y="5423040"/>
              <a:ext cx="203040" cy="296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" name="Group 299"/>
            <p:cNvGrpSpPr/>
            <p:nvPr/>
          </p:nvGrpSpPr>
          <p:grpSpPr>
            <a:xfrm>
              <a:off x="5565600" y="5619960"/>
              <a:ext cx="190800" cy="457200"/>
              <a:chOff x="5565600" y="5619960"/>
              <a:chExt cx="190800" cy="457200"/>
            </a:xfrm>
          </p:grpSpPr>
          <p:sp>
            <p:nvSpPr>
              <p:cNvPr id="847" name="Oval 300"/>
              <p:cNvSpPr/>
              <p:nvPr/>
            </p:nvSpPr>
            <p:spPr>
              <a:xfrm>
                <a:off x="5641920" y="561996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301"/>
              <p:cNvSpPr/>
              <p:nvPr/>
            </p:nvSpPr>
            <p:spPr>
              <a:xfrm>
                <a:off x="5565600" y="5686560"/>
                <a:ext cx="190800" cy="390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Freeform 303"/>
            <p:cNvSpPr/>
            <p:nvPr/>
          </p:nvSpPr>
          <p:spPr>
            <a:xfrm>
              <a:off x="6013440" y="4514760"/>
              <a:ext cx="1504800" cy="208620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2370" h="3285">
                  <a:moveTo>
                    <a:pt x="195" y="1095"/>
                  </a:moveTo>
                  <a:lnTo>
                    <a:pt x="750" y="570"/>
                  </a:lnTo>
                  <a:lnTo>
                    <a:pt x="1095" y="360"/>
                  </a:lnTo>
                  <a:lnTo>
                    <a:pt x="930" y="30"/>
                  </a:lnTo>
                  <a:lnTo>
                    <a:pt x="1260" y="0"/>
                  </a:lnTo>
                  <a:lnTo>
                    <a:pt x="2085" y="300"/>
                  </a:lnTo>
                  <a:lnTo>
                    <a:pt x="2370" y="1095"/>
                  </a:lnTo>
                  <a:lnTo>
                    <a:pt x="2355" y="2190"/>
                  </a:lnTo>
                  <a:lnTo>
                    <a:pt x="1995" y="2205"/>
                  </a:lnTo>
                  <a:lnTo>
                    <a:pt x="2175" y="2655"/>
                  </a:lnTo>
                  <a:lnTo>
                    <a:pt x="1815" y="2730"/>
                  </a:lnTo>
                  <a:lnTo>
                    <a:pt x="1290" y="3285"/>
                  </a:lnTo>
                  <a:lnTo>
                    <a:pt x="1005" y="2460"/>
                  </a:lnTo>
                  <a:lnTo>
                    <a:pt x="195" y="2190"/>
                  </a:lnTo>
                  <a:lnTo>
                    <a:pt x="195" y="1905"/>
                  </a:lnTo>
                  <a:lnTo>
                    <a:pt x="0" y="1890"/>
                  </a:lnTo>
                  <a:lnTo>
                    <a:pt x="195" y="1095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4"/>
            <p:cNvSpPr/>
            <p:nvPr/>
          </p:nvSpPr>
          <p:spPr>
            <a:xfrm>
              <a:off x="6089760" y="5600880"/>
              <a:ext cx="126720" cy="126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05"/>
            <p:cNvSpPr/>
            <p:nvPr/>
          </p:nvSpPr>
          <p:spPr>
            <a:xfrm rot="21032400">
              <a:off x="6145200" y="579744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06"/>
            <p:cNvSpPr/>
            <p:nvPr/>
          </p:nvSpPr>
          <p:spPr>
            <a:xfrm>
              <a:off x="6308640" y="5276880"/>
              <a:ext cx="190440" cy="85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307"/>
            <p:cNvGrpSpPr/>
            <p:nvPr/>
          </p:nvGrpSpPr>
          <p:grpSpPr>
            <a:xfrm>
              <a:off x="6299280" y="5133960"/>
              <a:ext cx="228600" cy="207000"/>
              <a:chOff x="6299280" y="5133960"/>
              <a:chExt cx="228600" cy="207000"/>
            </a:xfrm>
          </p:grpSpPr>
          <p:sp>
            <p:nvSpPr>
              <p:cNvPr id="854" name="Freeform 308"/>
              <p:cNvSpPr/>
              <p:nvPr/>
            </p:nvSpPr>
            <p:spPr>
              <a:xfrm rot="254400">
                <a:off x="6315120" y="5199120"/>
                <a:ext cx="63360" cy="13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309"/>
              <p:cNvSpPr/>
              <p:nvPr/>
            </p:nvSpPr>
            <p:spPr>
              <a:xfrm>
                <a:off x="6299280" y="5133960"/>
                <a:ext cx="228600" cy="142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Group 310"/>
            <p:cNvGrpSpPr/>
            <p:nvPr/>
          </p:nvGrpSpPr>
          <p:grpSpPr>
            <a:xfrm>
              <a:off x="6336360" y="4993200"/>
              <a:ext cx="299880" cy="197280"/>
              <a:chOff x="6336360" y="4993200"/>
              <a:chExt cx="299880" cy="197280"/>
            </a:xfrm>
          </p:grpSpPr>
          <p:sp>
            <p:nvSpPr>
              <p:cNvPr id="857" name="Freeform 311"/>
              <p:cNvSpPr/>
              <p:nvPr/>
            </p:nvSpPr>
            <p:spPr>
              <a:xfrm rot="1150200">
                <a:off x="6343200" y="5037480"/>
                <a:ext cx="285840" cy="91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312"/>
              <p:cNvSpPr/>
              <p:nvPr/>
            </p:nvSpPr>
            <p:spPr>
              <a:xfrm rot="1150200">
                <a:off x="6343200" y="5066280"/>
                <a:ext cx="277560" cy="80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Freeform 313"/>
            <p:cNvSpPr/>
            <p:nvPr/>
          </p:nvSpPr>
          <p:spPr>
            <a:xfrm>
              <a:off x="6499080" y="4867200"/>
              <a:ext cx="619200" cy="6318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14"/>
            <p:cNvSpPr/>
            <p:nvPr/>
          </p:nvSpPr>
          <p:spPr>
            <a:xfrm>
              <a:off x="6584760" y="4505400"/>
              <a:ext cx="933480" cy="141912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15"/>
            <p:cNvSpPr/>
            <p:nvPr/>
          </p:nvSpPr>
          <p:spPr>
            <a:xfrm>
              <a:off x="6489720" y="4762440"/>
              <a:ext cx="523800" cy="7146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16"/>
            <p:cNvSpPr/>
            <p:nvPr/>
          </p:nvSpPr>
          <p:spPr>
            <a:xfrm>
              <a:off x="6937200" y="5442120"/>
              <a:ext cx="203400" cy="2966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317"/>
            <p:cNvGrpSpPr/>
            <p:nvPr/>
          </p:nvGrpSpPr>
          <p:grpSpPr>
            <a:xfrm>
              <a:off x="6946920" y="5639040"/>
              <a:ext cx="190440" cy="457200"/>
              <a:chOff x="6946920" y="5639040"/>
              <a:chExt cx="190440" cy="457200"/>
            </a:xfrm>
          </p:grpSpPr>
          <p:sp>
            <p:nvSpPr>
              <p:cNvPr id="864" name="Oval 318"/>
              <p:cNvSpPr/>
              <p:nvPr/>
            </p:nvSpPr>
            <p:spPr>
              <a:xfrm>
                <a:off x="7022880" y="5639040"/>
                <a:ext cx="4752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19"/>
              <p:cNvSpPr/>
              <p:nvPr/>
            </p:nvSpPr>
            <p:spPr>
              <a:xfrm>
                <a:off x="6946920" y="5705640"/>
                <a:ext cx="190440" cy="3906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6" name="Group 341"/>
          <p:cNvGrpSpPr/>
          <p:nvPr/>
        </p:nvGrpSpPr>
        <p:grpSpPr>
          <a:xfrm>
            <a:off x="258840" y="2997360"/>
            <a:ext cx="1576080" cy="2094840"/>
            <a:chOff x="258840" y="2997360"/>
            <a:chExt cx="1576080" cy="2094840"/>
          </a:xfrm>
        </p:grpSpPr>
        <p:sp>
          <p:nvSpPr>
            <p:cNvPr id="867" name="Freeform 321"/>
            <p:cNvSpPr/>
            <p:nvPr/>
          </p:nvSpPr>
          <p:spPr>
            <a:xfrm>
              <a:off x="258840" y="3006720"/>
              <a:ext cx="1576080" cy="2085480"/>
            </a:xfrm>
            <a:custGeom>
              <a:avLst/>
              <a:gdLst>
                <a:gd name="textAreaLeft" fmla="*/ 0 w 1576080"/>
                <a:gd name="textAreaRight" fmla="*/ 1576440 w 1576080"/>
                <a:gd name="textAreaTop" fmla="*/ 0 h 2085480"/>
                <a:gd name="textAreaBottom" fmla="*/ 2085840 h 2085480"/>
              </a:gdLst>
              <a:ahLst/>
              <a:rect l="textAreaLeft" t="textAreaTop" r="textAreaRight" b="textAreaBottom"/>
              <a:pathLst>
                <a:path w="948" h="1314">
                  <a:moveTo>
                    <a:pt x="78" y="438"/>
                  </a:moveTo>
                  <a:lnTo>
                    <a:pt x="300" y="228"/>
                  </a:lnTo>
                  <a:lnTo>
                    <a:pt x="438" y="144"/>
                  </a:lnTo>
                  <a:lnTo>
                    <a:pt x="372" y="12"/>
                  </a:lnTo>
                  <a:lnTo>
                    <a:pt x="504" y="0"/>
                  </a:lnTo>
                  <a:lnTo>
                    <a:pt x="834" y="120"/>
                  </a:lnTo>
                  <a:lnTo>
                    <a:pt x="948" y="438"/>
                  </a:lnTo>
                  <a:lnTo>
                    <a:pt x="857" y="771"/>
                  </a:lnTo>
                  <a:lnTo>
                    <a:pt x="942" y="876"/>
                  </a:lnTo>
                  <a:lnTo>
                    <a:pt x="798" y="882"/>
                  </a:lnTo>
                  <a:lnTo>
                    <a:pt x="870" y="1062"/>
                  </a:lnTo>
                  <a:lnTo>
                    <a:pt x="726" y="1092"/>
                  </a:lnTo>
                  <a:lnTo>
                    <a:pt x="516" y="1314"/>
                  </a:lnTo>
                  <a:lnTo>
                    <a:pt x="402" y="984"/>
                  </a:lnTo>
                  <a:lnTo>
                    <a:pt x="78" y="876"/>
                  </a:lnTo>
                  <a:lnTo>
                    <a:pt x="78" y="762"/>
                  </a:lnTo>
                  <a:lnTo>
                    <a:pt x="0" y="756"/>
                  </a:lnTo>
                  <a:lnTo>
                    <a:pt x="78" y="438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22"/>
            <p:cNvSpPr/>
            <p:nvPr/>
          </p:nvSpPr>
          <p:spPr>
            <a:xfrm>
              <a:off x="338400" y="4092480"/>
              <a:ext cx="132840" cy="126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23"/>
            <p:cNvSpPr/>
            <p:nvPr/>
          </p:nvSpPr>
          <p:spPr>
            <a:xfrm rot="21032400">
              <a:off x="396720" y="4289400"/>
              <a:ext cx="234000" cy="12024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24"/>
            <p:cNvSpPr/>
            <p:nvPr/>
          </p:nvSpPr>
          <p:spPr>
            <a:xfrm>
              <a:off x="568080" y="3768840"/>
              <a:ext cx="199440" cy="8532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Group 325"/>
            <p:cNvGrpSpPr/>
            <p:nvPr/>
          </p:nvGrpSpPr>
          <p:grpSpPr>
            <a:xfrm>
              <a:off x="557640" y="3625920"/>
              <a:ext cx="239400" cy="206640"/>
              <a:chOff x="557640" y="3625920"/>
              <a:chExt cx="239400" cy="206640"/>
            </a:xfrm>
          </p:grpSpPr>
          <p:sp>
            <p:nvSpPr>
              <p:cNvPr id="872" name="Freeform 326"/>
              <p:cNvSpPr/>
              <p:nvPr/>
            </p:nvSpPr>
            <p:spPr>
              <a:xfrm rot="254400">
                <a:off x="574200" y="3691080"/>
                <a:ext cx="66240" cy="13896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27"/>
              <p:cNvSpPr/>
              <p:nvPr/>
            </p:nvSpPr>
            <p:spPr>
              <a:xfrm>
                <a:off x="557640" y="3625920"/>
                <a:ext cx="239400" cy="1429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328"/>
            <p:cNvGrpSpPr/>
            <p:nvPr/>
          </p:nvGrpSpPr>
          <p:grpSpPr>
            <a:xfrm>
              <a:off x="597600" y="3483000"/>
              <a:ext cx="312480" cy="201600"/>
              <a:chOff x="597600" y="3483000"/>
              <a:chExt cx="312480" cy="201600"/>
            </a:xfrm>
          </p:grpSpPr>
          <p:sp>
            <p:nvSpPr>
              <p:cNvPr id="875" name="Freeform 329"/>
              <p:cNvSpPr/>
              <p:nvPr/>
            </p:nvSpPr>
            <p:spPr>
              <a:xfrm rot="1150200">
                <a:off x="604080" y="3529440"/>
                <a:ext cx="299160" cy="9072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30"/>
              <p:cNvSpPr/>
              <p:nvPr/>
            </p:nvSpPr>
            <p:spPr>
              <a:xfrm rot="1150200">
                <a:off x="604800" y="3558600"/>
                <a:ext cx="290520" cy="802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Freeform 331"/>
            <p:cNvSpPr/>
            <p:nvPr/>
          </p:nvSpPr>
          <p:spPr>
            <a:xfrm>
              <a:off x="767520" y="3359160"/>
              <a:ext cx="648360" cy="631440"/>
            </a:xfrm>
            <a:custGeom>
              <a:avLst/>
              <a:gdLst>
                <a:gd name="textAreaLeft" fmla="*/ 0 w 648360"/>
                <a:gd name="textAreaRight" fmla="*/ 648720 w 6483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32"/>
            <p:cNvSpPr/>
            <p:nvPr/>
          </p:nvSpPr>
          <p:spPr>
            <a:xfrm>
              <a:off x="857160" y="2997360"/>
              <a:ext cx="977760" cy="14191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33"/>
            <p:cNvSpPr/>
            <p:nvPr/>
          </p:nvSpPr>
          <p:spPr>
            <a:xfrm>
              <a:off x="757440" y="3254400"/>
              <a:ext cx="548640" cy="71388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34"/>
            <p:cNvSpPr/>
            <p:nvPr/>
          </p:nvSpPr>
          <p:spPr>
            <a:xfrm>
              <a:off x="1226520" y="3933720"/>
              <a:ext cx="212400" cy="296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Group 335"/>
            <p:cNvGrpSpPr/>
            <p:nvPr/>
          </p:nvGrpSpPr>
          <p:grpSpPr>
            <a:xfrm>
              <a:off x="1236600" y="4130640"/>
              <a:ext cx="199440" cy="456840"/>
              <a:chOff x="1236600" y="4130640"/>
              <a:chExt cx="199440" cy="456840"/>
            </a:xfrm>
          </p:grpSpPr>
          <p:sp>
            <p:nvSpPr>
              <p:cNvPr id="882" name="Oval 336"/>
              <p:cNvSpPr/>
              <p:nvPr/>
            </p:nvSpPr>
            <p:spPr>
              <a:xfrm>
                <a:off x="1316160" y="4130640"/>
                <a:ext cx="4968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37"/>
              <p:cNvSpPr/>
              <p:nvPr/>
            </p:nvSpPr>
            <p:spPr>
              <a:xfrm>
                <a:off x="1236600" y="4197240"/>
                <a:ext cx="199440" cy="3902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4" name="Group 343"/>
          <p:cNvGrpSpPr/>
          <p:nvPr/>
        </p:nvGrpSpPr>
        <p:grpSpPr>
          <a:xfrm>
            <a:off x="468360" y="476280"/>
            <a:ext cx="1510920" cy="2081880"/>
            <a:chOff x="468360" y="476280"/>
            <a:chExt cx="1510920" cy="2081880"/>
          </a:xfrm>
        </p:grpSpPr>
        <p:grpSp>
          <p:nvGrpSpPr>
            <p:cNvPr id="885" name="Group 344"/>
            <p:cNvGrpSpPr/>
            <p:nvPr/>
          </p:nvGrpSpPr>
          <p:grpSpPr>
            <a:xfrm>
              <a:off x="468360" y="476280"/>
              <a:ext cx="1510920" cy="2081880"/>
              <a:chOff x="468360" y="476280"/>
              <a:chExt cx="1510920" cy="2081880"/>
            </a:xfrm>
          </p:grpSpPr>
          <p:sp>
            <p:nvSpPr>
              <p:cNvPr id="886" name="Freeform 345"/>
              <p:cNvSpPr/>
              <p:nvPr/>
            </p:nvSpPr>
            <p:spPr>
              <a:xfrm>
                <a:off x="468360" y="486720"/>
                <a:ext cx="1510920" cy="2071440"/>
              </a:xfrm>
              <a:custGeom>
                <a:avLst/>
                <a:gdLst>
                  <a:gd name="textAreaLeft" fmla="*/ 0 w 1510920"/>
                  <a:gd name="textAreaRight" fmla="*/ 1511280 w 1510920"/>
                  <a:gd name="textAreaTop" fmla="*/ 0 h 2071440"/>
                  <a:gd name="textAreaBottom" fmla="*/ 2071800 h 2071440"/>
                </a:gdLst>
                <a:ahLst/>
                <a:rect l="textAreaLeft" t="textAreaTop" r="textAreaRight" b="textAreaBottom"/>
                <a:pathLst>
                  <a:path w="159" h="218">
                    <a:moveTo>
                      <a:pt x="86" y="0"/>
                    </a:moveTo>
                    <a:lnTo>
                      <a:pt x="73" y="1"/>
                    </a:lnTo>
                    <a:lnTo>
                      <a:pt x="79" y="25"/>
                    </a:lnTo>
                    <a:lnTo>
                      <a:pt x="76" y="26"/>
                    </a:lnTo>
                    <a:lnTo>
                      <a:pt x="47" y="37"/>
                    </a:lnTo>
                    <a:lnTo>
                      <a:pt x="13" y="73"/>
                    </a:lnTo>
                    <a:lnTo>
                      <a:pt x="0" y="129"/>
                    </a:lnTo>
                    <a:lnTo>
                      <a:pt x="13" y="128"/>
                    </a:lnTo>
                    <a:lnTo>
                      <a:pt x="13" y="146"/>
                    </a:lnTo>
                    <a:lnTo>
                      <a:pt x="64" y="162"/>
                    </a:lnTo>
                    <a:lnTo>
                      <a:pt x="86" y="218"/>
                    </a:lnTo>
                    <a:lnTo>
                      <a:pt x="119" y="181"/>
                    </a:lnTo>
                    <a:lnTo>
                      <a:pt x="153" y="170"/>
                    </a:lnTo>
                    <a:lnTo>
                      <a:pt x="144" y="145"/>
                    </a:lnTo>
                    <a:lnTo>
                      <a:pt x="154" y="145"/>
                    </a:lnTo>
                    <a:lnTo>
                      <a:pt x="159" y="145"/>
                    </a:lnTo>
                    <a:lnTo>
                      <a:pt x="159" y="129"/>
                    </a:lnTo>
                    <a:lnTo>
                      <a:pt x="146" y="129"/>
                    </a:lnTo>
                    <a:lnTo>
                      <a:pt x="158" y="73"/>
                    </a:lnTo>
                    <a:lnTo>
                      <a:pt x="136" y="15"/>
                    </a:lnTo>
                    <a:lnTo>
                      <a:pt x="86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46"/>
              <p:cNvSpPr/>
              <p:nvPr/>
            </p:nvSpPr>
            <p:spPr>
              <a:xfrm>
                <a:off x="1151280" y="476280"/>
                <a:ext cx="819000" cy="138816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388160"/>
                  <a:gd name="textAreaBottom" fmla="*/ 1388520 h 1388160"/>
                </a:gdLst>
                <a:ahLst/>
                <a:rect l="textAreaLeft" t="textAreaTop" r="textAreaRight" b="textAreaBottom"/>
                <a:pathLst>
                  <a:path w="86" h="146">
                    <a:moveTo>
                      <a:pt x="5" y="26"/>
                    </a:moveTo>
                    <a:lnTo>
                      <a:pt x="0" y="1"/>
                    </a:lnTo>
                    <a:lnTo>
                      <a:pt x="13" y="0"/>
                    </a:lnTo>
                    <a:lnTo>
                      <a:pt x="64" y="17"/>
                    </a:lnTo>
                    <a:lnTo>
                      <a:pt x="86" y="74"/>
                    </a:lnTo>
                    <a:lnTo>
                      <a:pt x="73" y="130"/>
                    </a:lnTo>
                    <a:lnTo>
                      <a:pt x="86" y="129"/>
                    </a:lnTo>
                    <a:lnTo>
                      <a:pt x="86" y="146"/>
                    </a:lnTo>
                    <a:lnTo>
                      <a:pt x="71" y="146"/>
                    </a:lnTo>
                    <a:lnTo>
                      <a:pt x="53" y="110"/>
                    </a:lnTo>
                    <a:lnTo>
                      <a:pt x="56" y="105"/>
                    </a:lnTo>
                    <a:lnTo>
                      <a:pt x="56" y="100"/>
                    </a:lnTo>
                    <a:lnTo>
                      <a:pt x="55" y="95"/>
                    </a:lnTo>
                    <a:lnTo>
                      <a:pt x="53" y="91"/>
                    </a:lnTo>
                    <a:lnTo>
                      <a:pt x="50" y="90"/>
                    </a:lnTo>
                    <a:lnTo>
                      <a:pt x="46" y="91"/>
                    </a:lnTo>
                    <a:lnTo>
                      <a:pt x="42" y="93"/>
                    </a:lnTo>
                    <a:lnTo>
                      <a:pt x="15" y="45"/>
                    </a:lnTo>
                    <a:lnTo>
                      <a:pt x="7" y="25"/>
                    </a:lnTo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47"/>
              <p:cNvSpPr/>
              <p:nvPr/>
            </p:nvSpPr>
            <p:spPr>
              <a:xfrm>
                <a:off x="1502640" y="1332000"/>
                <a:ext cx="191520" cy="3038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03840"/>
                  <a:gd name="textAreaBottom" fmla="*/ 304200 h 303840"/>
                </a:gdLst>
                <a:ahLst/>
                <a:rect l="textAreaLeft" t="textAreaTop" r="textAreaRight" b="textAreaBottom"/>
                <a:pathLst>
                  <a:path w="20" h="32">
                    <a:moveTo>
                      <a:pt x="0" y="13"/>
                    </a:moveTo>
                    <a:cubicBezTo>
                      <a:pt x="1" y="9"/>
                      <a:pt x="2" y="6"/>
                      <a:pt x="4" y="4"/>
                    </a:cubicBezTo>
                    <a:cubicBezTo>
                      <a:pt x="6" y="2"/>
                      <a:pt x="11" y="0"/>
                      <a:pt x="13" y="0"/>
                    </a:cubicBezTo>
                    <a:cubicBezTo>
                      <a:pt x="15" y="0"/>
                      <a:pt x="17" y="3"/>
                      <a:pt x="18" y="5"/>
                    </a:cubicBezTo>
                    <a:cubicBezTo>
                      <a:pt x="19" y="7"/>
                      <a:pt x="20" y="9"/>
                      <a:pt x="20" y="12"/>
                    </a:cubicBezTo>
                    <a:cubicBezTo>
                      <a:pt x="20" y="15"/>
                      <a:pt x="17" y="19"/>
                      <a:pt x="16" y="22"/>
                    </a:cubicBezTo>
                    <a:cubicBezTo>
                      <a:pt x="15" y="25"/>
                      <a:pt x="14" y="26"/>
                      <a:pt x="13" y="28"/>
                    </a:cubicBezTo>
                    <a:cubicBezTo>
                      <a:pt x="12" y="30"/>
                      <a:pt x="9" y="32"/>
                      <a:pt x="8" y="32"/>
                    </a:cubicBezTo>
                    <a:cubicBezTo>
                      <a:pt x="7" y="32"/>
                      <a:pt x="5" y="29"/>
                      <a:pt x="4" y="2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9" name="Group 348"/>
              <p:cNvGrpSpPr/>
              <p:nvPr/>
            </p:nvGrpSpPr>
            <p:grpSpPr>
              <a:xfrm>
                <a:off x="761400" y="1122840"/>
                <a:ext cx="226080" cy="198000"/>
                <a:chOff x="761400" y="1122840"/>
                <a:chExt cx="226080" cy="198000"/>
              </a:xfrm>
            </p:grpSpPr>
            <p:sp>
              <p:nvSpPr>
                <p:cNvPr id="890" name="AutoShape 349"/>
                <p:cNvSpPr/>
                <p:nvPr/>
              </p:nvSpPr>
              <p:spPr>
                <a:xfrm>
                  <a:off x="780480" y="1169640"/>
                  <a:ext cx="76680" cy="123480"/>
                </a:xfrm>
                <a:prstGeom prst="flowChartConnector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350"/>
                <p:cNvSpPr/>
                <p:nvPr/>
              </p:nvSpPr>
              <p:spPr>
                <a:xfrm>
                  <a:off x="780480" y="1122840"/>
                  <a:ext cx="207000" cy="93600"/>
                </a:xfrm>
                <a:custGeom>
                  <a:avLst/>
                  <a:gdLst>
                    <a:gd name="textAreaLeft" fmla="*/ 0 w 207000"/>
                    <a:gd name="textAreaRight" fmla="*/ 207360 w 2070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22" h="10">
                      <a:moveTo>
                        <a:pt x="0" y="0"/>
                      </a:moveTo>
                      <a:cubicBezTo>
                        <a:pt x="2" y="3"/>
                        <a:pt x="4" y="6"/>
                        <a:pt x="8" y="8"/>
                      </a:cubicBezTo>
                      <a:cubicBezTo>
                        <a:pt x="12" y="10"/>
                        <a:pt x="20" y="10"/>
                        <a:pt x="22" y="1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351"/>
                <p:cNvSpPr/>
                <p:nvPr/>
              </p:nvSpPr>
              <p:spPr>
                <a:xfrm>
                  <a:off x="761400" y="1216440"/>
                  <a:ext cx="217800" cy="1044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23" h="11">
                      <a:moveTo>
                        <a:pt x="23" y="0"/>
                      </a:moveTo>
                      <a:cubicBezTo>
                        <a:pt x="19" y="1"/>
                        <a:pt x="16" y="3"/>
                        <a:pt x="12" y="5"/>
                      </a:cubicBezTo>
                      <a:cubicBezTo>
                        <a:pt x="8" y="7"/>
                        <a:pt x="2" y="10"/>
                        <a:pt x="0" y="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Freeform 352"/>
              <p:cNvSpPr/>
              <p:nvPr/>
            </p:nvSpPr>
            <p:spPr>
              <a:xfrm>
                <a:off x="582480" y="1769400"/>
                <a:ext cx="245520" cy="13356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5"/>
                    </a:moveTo>
                    <a:cubicBezTo>
                      <a:pt x="3" y="2"/>
                      <a:pt x="6" y="0"/>
                      <a:pt x="9" y="0"/>
                    </a:cubicBezTo>
                    <a:cubicBezTo>
                      <a:pt x="12" y="0"/>
                      <a:pt x="16" y="5"/>
                      <a:pt x="19" y="5"/>
                    </a:cubicBezTo>
                    <a:cubicBezTo>
                      <a:pt x="22" y="5"/>
                      <a:pt x="26" y="1"/>
                      <a:pt x="25" y="2"/>
                    </a:cubicBezTo>
                    <a:cubicBezTo>
                      <a:pt x="24" y="3"/>
                      <a:pt x="15" y="12"/>
                      <a:pt x="12" y="14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53"/>
              <p:cNvSpPr/>
              <p:nvPr/>
            </p:nvSpPr>
            <p:spPr>
              <a:xfrm>
                <a:off x="989640" y="723960"/>
                <a:ext cx="570960" cy="674640"/>
              </a:xfrm>
              <a:custGeom>
                <a:avLst/>
                <a:gdLst>
                  <a:gd name="textAreaLeft" fmla="*/ 0 w 570960"/>
                  <a:gd name="textAreaRight" fmla="*/ 571320 w 57096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60" h="71">
                    <a:moveTo>
                      <a:pt x="24" y="0"/>
                    </a:moveTo>
                    <a:lnTo>
                      <a:pt x="0" y="9"/>
                    </a:lnTo>
                    <a:lnTo>
                      <a:pt x="2" y="19"/>
                    </a:lnTo>
                    <a:lnTo>
                      <a:pt x="5" y="31"/>
                    </a:lnTo>
                    <a:lnTo>
                      <a:pt x="11" y="44"/>
                    </a:lnTo>
                    <a:lnTo>
                      <a:pt x="17" y="52"/>
                    </a:lnTo>
                    <a:lnTo>
                      <a:pt x="27" y="60"/>
                    </a:lnTo>
                    <a:lnTo>
                      <a:pt x="42" y="67"/>
                    </a:lnTo>
                    <a:lnTo>
                      <a:pt x="56" y="71"/>
                    </a:lnTo>
                    <a:lnTo>
                      <a:pt x="60" y="67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6600"/>
                  </a:gs>
                  <a:gs pos="100000">
                    <a:srgbClr val="e3ac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5" name="Group 354"/>
              <p:cNvGrpSpPr/>
              <p:nvPr/>
            </p:nvGrpSpPr>
            <p:grpSpPr>
              <a:xfrm>
                <a:off x="810720" y="1055880"/>
                <a:ext cx="187560" cy="92520"/>
                <a:chOff x="810720" y="1055880"/>
                <a:chExt cx="187560" cy="92520"/>
              </a:xfrm>
            </p:grpSpPr>
            <p:sp>
              <p:nvSpPr>
                <p:cNvPr id="896" name="Freeform 355"/>
                <p:cNvSpPr/>
                <p:nvPr/>
              </p:nvSpPr>
              <p:spPr>
                <a:xfrm>
                  <a:off x="827640" y="1074600"/>
                  <a:ext cx="170280" cy="73800"/>
                </a:xfrm>
                <a:custGeom>
                  <a:avLst/>
                  <a:gdLst>
                    <a:gd name="textAreaLeft" fmla="*/ 0 w 170280"/>
                    <a:gd name="textAreaRight" fmla="*/ 170640 w 1702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18" h="8">
                      <a:moveTo>
                        <a:pt x="0" y="0"/>
                      </a:moveTo>
                      <a:cubicBezTo>
                        <a:pt x="2" y="0"/>
                        <a:pt x="4" y="0"/>
                        <a:pt x="7" y="1"/>
                      </a:cubicBezTo>
                      <a:cubicBezTo>
                        <a:pt x="10" y="2"/>
                        <a:pt x="16" y="7"/>
                        <a:pt x="18" y="8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356"/>
                <p:cNvSpPr/>
                <p:nvPr/>
              </p:nvSpPr>
              <p:spPr>
                <a:xfrm>
                  <a:off x="810720" y="1055880"/>
                  <a:ext cx="187560" cy="842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20" h="9">
                      <a:moveTo>
                        <a:pt x="20" y="9"/>
                      </a:moveTo>
                      <a:cubicBezTo>
                        <a:pt x="19" y="5"/>
                        <a:pt x="19" y="2"/>
                        <a:pt x="16" y="1"/>
                      </a:cubicBezTo>
                      <a:cubicBezTo>
                        <a:pt x="13" y="0"/>
                        <a:pt x="6" y="1"/>
                        <a:pt x="0" y="2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Group 357"/>
              <p:cNvGrpSpPr/>
              <p:nvPr/>
            </p:nvGrpSpPr>
            <p:grpSpPr>
              <a:xfrm>
                <a:off x="1513440" y="1540800"/>
                <a:ext cx="149040" cy="415800"/>
                <a:chOff x="1513440" y="1540800"/>
                <a:chExt cx="149040" cy="415800"/>
              </a:xfrm>
            </p:grpSpPr>
            <p:sp>
              <p:nvSpPr>
                <p:cNvPr id="899" name="AutoShape 358"/>
                <p:cNvSpPr/>
                <p:nvPr/>
              </p:nvSpPr>
              <p:spPr>
                <a:xfrm>
                  <a:off x="1559520" y="1540800"/>
                  <a:ext cx="64800" cy="85680"/>
                </a:xfrm>
                <a:prstGeom prst="flowChartConnector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359"/>
                <p:cNvSpPr/>
                <p:nvPr/>
              </p:nvSpPr>
              <p:spPr>
                <a:xfrm>
                  <a:off x="1513440" y="1637280"/>
                  <a:ext cx="149040" cy="31932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319320"/>
                    <a:gd name="textAreaBottom" fmla="*/ 319680 h 319320"/>
                  </a:gdLst>
                  <a:ahLst/>
                  <a:rect l="textAreaLeft" t="textAreaTop" r="textAreaRight" b="textAreaBottom"/>
                  <a:pathLst>
                    <a:path w="16" h="34">
                      <a:moveTo>
                        <a:pt x="8" y="0"/>
                      </a:move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16" y="2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1" name="Freeform 360"/>
            <p:cNvSpPr/>
            <p:nvPr/>
          </p:nvSpPr>
          <p:spPr>
            <a:xfrm>
              <a:off x="563040" y="1609920"/>
              <a:ext cx="114120" cy="111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10"/>
                  </a:moveTo>
                  <a:cubicBezTo>
                    <a:pt x="4" y="8"/>
                    <a:pt x="6" y="11"/>
                    <a:pt x="9" y="12"/>
                  </a:cubicBezTo>
                  <a:cubicBezTo>
                    <a:pt x="12" y="9"/>
                    <a:pt x="12" y="6"/>
                    <a:pt x="9" y="2"/>
                  </a:cubicBezTo>
                  <a:cubicBezTo>
                    <a:pt x="9" y="1"/>
                    <a:pt x="8" y="0"/>
                    <a:pt x="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1"/>
            <p:cNvSpPr/>
            <p:nvPr/>
          </p:nvSpPr>
          <p:spPr>
            <a:xfrm>
              <a:off x="593280" y="1800000"/>
              <a:ext cx="103320" cy="114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" h="12">
                  <a:moveTo>
                    <a:pt x="0" y="0"/>
                  </a:moveTo>
                  <a:lnTo>
                    <a:pt x="0" y="10"/>
                  </a:lnTo>
                  <a:lnTo>
                    <a:pt x="11" y="12"/>
                  </a:lnTo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Group 341"/>
          <p:cNvGrpSpPr/>
          <p:nvPr/>
        </p:nvGrpSpPr>
        <p:grpSpPr>
          <a:xfrm>
            <a:off x="285840" y="3000240"/>
            <a:ext cx="1576080" cy="2095560"/>
            <a:chOff x="285840" y="3000240"/>
            <a:chExt cx="1576080" cy="2095560"/>
          </a:xfrm>
        </p:grpSpPr>
        <p:sp>
          <p:nvSpPr>
            <p:cNvPr id="904" name="Freeform 321"/>
            <p:cNvSpPr/>
            <p:nvPr/>
          </p:nvSpPr>
          <p:spPr>
            <a:xfrm>
              <a:off x="285840" y="3009960"/>
              <a:ext cx="1576080" cy="2085840"/>
            </a:xfrm>
            <a:custGeom>
              <a:avLst/>
              <a:gdLst>
                <a:gd name="textAreaLeft" fmla="*/ 0 w 1576080"/>
                <a:gd name="textAreaRight" fmla="*/ 1576440 w 1576080"/>
                <a:gd name="textAreaTop" fmla="*/ 0 h 2085840"/>
                <a:gd name="textAreaBottom" fmla="*/ 2086200 h 2085840"/>
              </a:gdLst>
              <a:ahLst/>
              <a:rect l="textAreaLeft" t="textAreaTop" r="textAreaRight" b="textAreaBottom"/>
              <a:pathLst>
                <a:path w="948" h="1314">
                  <a:moveTo>
                    <a:pt x="78" y="438"/>
                  </a:moveTo>
                  <a:lnTo>
                    <a:pt x="300" y="228"/>
                  </a:lnTo>
                  <a:lnTo>
                    <a:pt x="438" y="144"/>
                  </a:lnTo>
                  <a:lnTo>
                    <a:pt x="372" y="12"/>
                  </a:lnTo>
                  <a:lnTo>
                    <a:pt x="504" y="0"/>
                  </a:lnTo>
                  <a:lnTo>
                    <a:pt x="834" y="120"/>
                  </a:lnTo>
                  <a:lnTo>
                    <a:pt x="948" y="438"/>
                  </a:lnTo>
                  <a:lnTo>
                    <a:pt x="857" y="771"/>
                  </a:lnTo>
                  <a:lnTo>
                    <a:pt x="942" y="876"/>
                  </a:lnTo>
                  <a:lnTo>
                    <a:pt x="798" y="882"/>
                  </a:lnTo>
                  <a:lnTo>
                    <a:pt x="870" y="1062"/>
                  </a:lnTo>
                  <a:lnTo>
                    <a:pt x="726" y="1092"/>
                  </a:lnTo>
                  <a:lnTo>
                    <a:pt x="516" y="1314"/>
                  </a:lnTo>
                  <a:lnTo>
                    <a:pt x="402" y="984"/>
                  </a:lnTo>
                  <a:lnTo>
                    <a:pt x="78" y="876"/>
                  </a:lnTo>
                  <a:lnTo>
                    <a:pt x="78" y="762"/>
                  </a:lnTo>
                  <a:lnTo>
                    <a:pt x="0" y="756"/>
                  </a:lnTo>
                  <a:lnTo>
                    <a:pt x="78" y="438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22"/>
            <p:cNvSpPr/>
            <p:nvPr/>
          </p:nvSpPr>
          <p:spPr>
            <a:xfrm>
              <a:off x="365400" y="4095720"/>
              <a:ext cx="132840" cy="12708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00" h="200">
                  <a:moveTo>
                    <a:pt x="0" y="195"/>
                  </a:moveTo>
                  <a:cubicBezTo>
                    <a:pt x="15" y="190"/>
                    <a:pt x="63" y="165"/>
                    <a:pt x="90" y="165"/>
                  </a:cubicBezTo>
                  <a:cubicBezTo>
                    <a:pt x="117" y="165"/>
                    <a:pt x="148" y="200"/>
                    <a:pt x="165" y="195"/>
                  </a:cubicBezTo>
                  <a:cubicBezTo>
                    <a:pt x="182" y="190"/>
                    <a:pt x="200" y="167"/>
                    <a:pt x="195" y="135"/>
                  </a:cubicBezTo>
                  <a:cubicBezTo>
                    <a:pt x="190" y="103"/>
                    <a:pt x="147" y="28"/>
                    <a:pt x="1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23"/>
            <p:cNvSpPr/>
            <p:nvPr/>
          </p:nvSpPr>
          <p:spPr>
            <a:xfrm rot="21032400">
              <a:off x="423720" y="4292640"/>
              <a:ext cx="234000" cy="12060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25" h="170">
                  <a:moveTo>
                    <a:pt x="0" y="50"/>
                  </a:moveTo>
                  <a:cubicBezTo>
                    <a:pt x="56" y="25"/>
                    <a:pt x="113" y="0"/>
                    <a:pt x="165" y="5"/>
                  </a:cubicBezTo>
                  <a:cubicBezTo>
                    <a:pt x="217" y="10"/>
                    <a:pt x="272" y="75"/>
                    <a:pt x="315" y="80"/>
                  </a:cubicBezTo>
                  <a:cubicBezTo>
                    <a:pt x="358" y="85"/>
                    <a:pt x="425" y="25"/>
                    <a:pt x="420" y="35"/>
                  </a:cubicBezTo>
                  <a:cubicBezTo>
                    <a:pt x="415" y="45"/>
                    <a:pt x="337" y="118"/>
                    <a:pt x="285" y="140"/>
                  </a:cubicBezTo>
                  <a:cubicBezTo>
                    <a:pt x="233" y="162"/>
                    <a:pt x="152" y="170"/>
                    <a:pt x="105" y="170"/>
                  </a:cubicBezTo>
                  <a:cubicBezTo>
                    <a:pt x="58" y="170"/>
                    <a:pt x="18" y="160"/>
                    <a:pt x="0" y="14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24"/>
            <p:cNvSpPr/>
            <p:nvPr/>
          </p:nvSpPr>
          <p:spPr>
            <a:xfrm>
              <a:off x="595080" y="3772080"/>
              <a:ext cx="199440" cy="856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0" h="135">
                  <a:moveTo>
                    <a:pt x="300" y="0"/>
                  </a:moveTo>
                  <a:cubicBezTo>
                    <a:pt x="212" y="19"/>
                    <a:pt x="125" y="38"/>
                    <a:pt x="75" y="60"/>
                  </a:cubicBezTo>
                  <a:cubicBezTo>
                    <a:pt x="25" y="82"/>
                    <a:pt x="12" y="108"/>
                    <a:pt x="0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Group 325"/>
            <p:cNvGrpSpPr/>
            <p:nvPr/>
          </p:nvGrpSpPr>
          <p:grpSpPr>
            <a:xfrm>
              <a:off x="584640" y="3629160"/>
              <a:ext cx="239400" cy="207360"/>
              <a:chOff x="584640" y="3629160"/>
              <a:chExt cx="239400" cy="207360"/>
            </a:xfrm>
          </p:grpSpPr>
          <p:sp>
            <p:nvSpPr>
              <p:cNvPr id="909" name="Freeform 326"/>
              <p:cNvSpPr/>
              <p:nvPr/>
            </p:nvSpPr>
            <p:spPr>
              <a:xfrm rot="254400">
                <a:off x="601200" y="3694680"/>
                <a:ext cx="66240" cy="13932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85" h="174">
                    <a:moveTo>
                      <a:pt x="5" y="17"/>
                    </a:moveTo>
                    <a:cubicBezTo>
                      <a:pt x="0" y="34"/>
                      <a:pt x="38" y="160"/>
                      <a:pt x="50" y="167"/>
                    </a:cubicBezTo>
                    <a:cubicBezTo>
                      <a:pt x="62" y="174"/>
                      <a:pt x="85" y="97"/>
                      <a:pt x="80" y="62"/>
                    </a:cubicBezTo>
                    <a:cubicBezTo>
                      <a:pt x="75" y="27"/>
                      <a:pt x="10" y="0"/>
                      <a:pt x="5" y="17"/>
                    </a:cubicBez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27"/>
              <p:cNvSpPr/>
              <p:nvPr/>
            </p:nvSpPr>
            <p:spPr>
              <a:xfrm>
                <a:off x="584640" y="3629160"/>
                <a:ext cx="239400" cy="1429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0" h="225">
                    <a:moveTo>
                      <a:pt x="0" y="0"/>
                    </a:moveTo>
                    <a:cubicBezTo>
                      <a:pt x="22" y="56"/>
                      <a:pt x="45" y="113"/>
                      <a:pt x="105" y="150"/>
                    </a:cubicBezTo>
                    <a:cubicBezTo>
                      <a:pt x="165" y="187"/>
                      <a:pt x="320" y="213"/>
                      <a:pt x="360" y="22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328"/>
            <p:cNvGrpSpPr/>
            <p:nvPr/>
          </p:nvGrpSpPr>
          <p:grpSpPr>
            <a:xfrm>
              <a:off x="624600" y="3486240"/>
              <a:ext cx="312480" cy="201960"/>
              <a:chOff x="624600" y="3486240"/>
              <a:chExt cx="312480" cy="201960"/>
            </a:xfrm>
          </p:grpSpPr>
          <p:sp>
            <p:nvSpPr>
              <p:cNvPr id="912" name="Freeform 329"/>
              <p:cNvSpPr/>
              <p:nvPr/>
            </p:nvSpPr>
            <p:spPr>
              <a:xfrm rot="1150200">
                <a:off x="631080" y="3532680"/>
                <a:ext cx="299160" cy="9072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90720"/>
                  <a:gd name="textAreaBottom" fmla="*/ 90720 h 90720"/>
                </a:gdLst>
                <a:ahLst/>
                <a:rect l="textAreaLeft" t="textAreaTop" r="textAreaRight" b="textAreaBottom"/>
                <a:pathLst>
                  <a:path w="510" h="220">
                    <a:moveTo>
                      <a:pt x="0" y="70"/>
                    </a:moveTo>
                    <a:cubicBezTo>
                      <a:pt x="115" y="35"/>
                      <a:pt x="230" y="0"/>
                      <a:pt x="315" y="25"/>
                    </a:cubicBezTo>
                    <a:cubicBezTo>
                      <a:pt x="400" y="50"/>
                      <a:pt x="473" y="188"/>
                      <a:pt x="510" y="220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30"/>
              <p:cNvSpPr/>
              <p:nvPr/>
            </p:nvSpPr>
            <p:spPr>
              <a:xfrm rot="1150200">
                <a:off x="631440" y="3561840"/>
                <a:ext cx="290520" cy="8064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80640"/>
                  <a:gd name="textAreaBottom" fmla="*/ 80640 h 80640"/>
                </a:gdLst>
                <a:ahLst/>
                <a:rect l="textAreaLeft" t="textAreaTop" r="textAreaRight" b="textAreaBottom"/>
                <a:pathLst>
                  <a:path w="495" h="195">
                    <a:moveTo>
                      <a:pt x="0" y="0"/>
                    </a:moveTo>
                    <a:cubicBezTo>
                      <a:pt x="101" y="6"/>
                      <a:pt x="203" y="13"/>
                      <a:pt x="285" y="45"/>
                    </a:cubicBezTo>
                    <a:cubicBezTo>
                      <a:pt x="367" y="77"/>
                      <a:pt x="431" y="136"/>
                      <a:pt x="495" y="195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Freeform 331"/>
            <p:cNvSpPr/>
            <p:nvPr/>
          </p:nvSpPr>
          <p:spPr>
            <a:xfrm>
              <a:off x="794520" y="3362400"/>
              <a:ext cx="648360" cy="631800"/>
            </a:xfrm>
            <a:custGeom>
              <a:avLst/>
              <a:gdLst>
                <a:gd name="textAreaLeft" fmla="*/ 0 w 648360"/>
                <a:gd name="textAreaRight" fmla="*/ 648720 w 6483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975" h="995">
                  <a:moveTo>
                    <a:pt x="0" y="0"/>
                  </a:moveTo>
                  <a:cubicBezTo>
                    <a:pt x="159" y="342"/>
                    <a:pt x="318" y="685"/>
                    <a:pt x="480" y="840"/>
                  </a:cubicBezTo>
                  <a:cubicBezTo>
                    <a:pt x="642" y="995"/>
                    <a:pt x="808" y="962"/>
                    <a:pt x="975" y="930"/>
                  </a:cubicBez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32"/>
            <p:cNvSpPr/>
            <p:nvPr/>
          </p:nvSpPr>
          <p:spPr>
            <a:xfrm>
              <a:off x="884160" y="3000240"/>
              <a:ext cx="977760" cy="141948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1419480"/>
                <a:gd name="textAreaBottom" fmla="*/ 1419840 h 1419480"/>
              </a:gdLst>
              <a:ahLst/>
              <a:rect l="textAreaLeft" t="textAreaTop" r="textAreaRight" b="textAreaBottom"/>
              <a:pathLst>
                <a:path w="1470" h="2235">
                  <a:moveTo>
                    <a:pt x="165" y="375"/>
                  </a:moveTo>
                  <a:lnTo>
                    <a:pt x="690" y="1515"/>
                  </a:lnTo>
                  <a:lnTo>
                    <a:pt x="840" y="1515"/>
                  </a:lnTo>
                  <a:lnTo>
                    <a:pt x="900" y="1665"/>
                  </a:lnTo>
                  <a:lnTo>
                    <a:pt x="840" y="1785"/>
                  </a:lnTo>
                  <a:lnTo>
                    <a:pt x="930" y="1965"/>
                  </a:lnTo>
                  <a:lnTo>
                    <a:pt x="1005" y="2100"/>
                  </a:lnTo>
                  <a:lnTo>
                    <a:pt x="1110" y="2235"/>
                  </a:lnTo>
                  <a:lnTo>
                    <a:pt x="1470" y="2205"/>
                  </a:lnTo>
                  <a:lnTo>
                    <a:pt x="1455" y="1935"/>
                  </a:lnTo>
                  <a:lnTo>
                    <a:pt x="1260" y="1950"/>
                  </a:lnTo>
                  <a:lnTo>
                    <a:pt x="1455" y="1095"/>
                  </a:lnTo>
                  <a:lnTo>
                    <a:pt x="1155" y="300"/>
                  </a:lnTo>
                  <a:lnTo>
                    <a:pt x="375" y="0"/>
                  </a:lnTo>
                  <a:lnTo>
                    <a:pt x="0" y="60"/>
                  </a:lnTo>
                  <a:lnTo>
                    <a:pt x="165" y="375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33"/>
            <p:cNvSpPr/>
            <p:nvPr/>
          </p:nvSpPr>
          <p:spPr>
            <a:xfrm>
              <a:off x="784440" y="3257640"/>
              <a:ext cx="548640" cy="71424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825" h="1125">
                  <a:moveTo>
                    <a:pt x="0" y="150"/>
                  </a:moveTo>
                  <a:lnTo>
                    <a:pt x="300" y="0"/>
                  </a:lnTo>
                  <a:lnTo>
                    <a:pt x="825" y="1125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4"/>
            <p:cNvSpPr/>
            <p:nvPr/>
          </p:nvSpPr>
          <p:spPr>
            <a:xfrm>
              <a:off x="1253520" y="3936960"/>
              <a:ext cx="212400" cy="2970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20" h="467">
                  <a:moveTo>
                    <a:pt x="0" y="190"/>
                  </a:moveTo>
                  <a:cubicBezTo>
                    <a:pt x="64" y="105"/>
                    <a:pt x="128" y="20"/>
                    <a:pt x="180" y="10"/>
                  </a:cubicBezTo>
                  <a:cubicBezTo>
                    <a:pt x="232" y="0"/>
                    <a:pt x="310" y="63"/>
                    <a:pt x="315" y="130"/>
                  </a:cubicBezTo>
                  <a:cubicBezTo>
                    <a:pt x="320" y="197"/>
                    <a:pt x="245" y="363"/>
                    <a:pt x="210" y="415"/>
                  </a:cubicBezTo>
                  <a:cubicBezTo>
                    <a:pt x="175" y="467"/>
                    <a:pt x="125" y="440"/>
                    <a:pt x="105" y="4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Group 335"/>
            <p:cNvGrpSpPr/>
            <p:nvPr/>
          </p:nvGrpSpPr>
          <p:grpSpPr>
            <a:xfrm>
              <a:off x="1263600" y="4133880"/>
              <a:ext cx="199440" cy="457200"/>
              <a:chOff x="1263600" y="4133880"/>
              <a:chExt cx="199440" cy="457200"/>
            </a:xfrm>
          </p:grpSpPr>
          <p:sp>
            <p:nvSpPr>
              <p:cNvPr id="919" name="Oval 336"/>
              <p:cNvSpPr/>
              <p:nvPr/>
            </p:nvSpPr>
            <p:spPr>
              <a:xfrm>
                <a:off x="1343160" y="4133880"/>
                <a:ext cx="49680" cy="66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37"/>
              <p:cNvSpPr/>
              <p:nvPr/>
            </p:nvSpPr>
            <p:spPr>
              <a:xfrm>
                <a:off x="1263600" y="4200480"/>
                <a:ext cx="199440" cy="3906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00" h="615">
                    <a:moveTo>
                      <a:pt x="150" y="0"/>
                    </a:moveTo>
                    <a:lnTo>
                      <a:pt x="0" y="420"/>
                    </a:lnTo>
                    <a:lnTo>
                      <a:pt x="150" y="615"/>
                    </a:lnTo>
                    <a:lnTo>
                      <a:pt x="300" y="42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250920" y="4105080"/>
            <a:ext cx="8388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Ящерицы, изображенные голландским худож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. Эшером, образуют, как говорят математики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«п а р к е 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ждая ящерица плотно прилегает к своим соседям без малейших зазоров, как плашки паркетного п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4" descr="lizards"/>
          <p:cNvPicPr/>
          <p:nvPr/>
        </p:nvPicPr>
        <p:blipFill>
          <a:blip r:embed="rId1"/>
          <a:stretch/>
        </p:blipFill>
        <p:spPr>
          <a:xfrm>
            <a:off x="1187280" y="476280"/>
            <a:ext cx="310356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23" name="Group 11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924" name="Freeform 12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3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4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5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6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7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8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9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b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3"/>
          <p:cNvPicPr/>
          <p:nvPr/>
        </p:nvPicPr>
        <p:blipFill>
          <a:blip r:embed="rId1"/>
          <a:stretch/>
        </p:blipFill>
        <p:spPr>
          <a:xfrm>
            <a:off x="1258920" y="260280"/>
            <a:ext cx="6408720" cy="6276960"/>
          </a:xfrm>
          <a:prstGeom prst="rect">
            <a:avLst/>
          </a:prstGeom>
          <a:ln w="0">
            <a:noFill/>
          </a:ln>
        </p:spPr>
      </p:pic>
      <p:sp>
        <p:nvSpPr>
          <p:cNvPr id="933" name="AutoShape 3"/>
          <p:cNvSpPr/>
          <p:nvPr/>
        </p:nvSpPr>
        <p:spPr>
          <a:xfrm rot="5400000">
            <a:off x="3068280" y="1564920"/>
            <a:ext cx="4159080" cy="3600360"/>
          </a:xfrm>
          <a:prstGeom prst="hexagon">
            <a:avLst>
              <a:gd name="adj" fmla="val 28880"/>
              <a:gd name="vf" fmla="val 115470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4"/>
          <p:cNvSpPr/>
          <p:nvPr/>
        </p:nvSpPr>
        <p:spPr>
          <a:xfrm>
            <a:off x="5956200" y="3562200"/>
            <a:ext cx="997200" cy="912960"/>
          </a:xfrm>
          <a:custGeom>
            <a:avLst/>
            <a:gdLst>
              <a:gd name="textAreaLeft" fmla="*/ 0 w 997200"/>
              <a:gd name="textAreaRight" fmla="*/ 997560 w 99720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628" h="575">
                <a:moveTo>
                  <a:pt x="625" y="575"/>
                </a:moveTo>
                <a:lnTo>
                  <a:pt x="340" y="384"/>
                </a:lnTo>
                <a:lnTo>
                  <a:pt x="244" y="510"/>
                </a:lnTo>
                <a:lnTo>
                  <a:pt x="76" y="510"/>
                </a:lnTo>
                <a:lnTo>
                  <a:pt x="0" y="159"/>
                </a:lnTo>
                <a:lnTo>
                  <a:pt x="88" y="0"/>
                </a:lnTo>
                <a:lnTo>
                  <a:pt x="628" y="222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5"/>
          <p:cNvSpPr/>
          <p:nvPr/>
        </p:nvSpPr>
        <p:spPr>
          <a:xfrm>
            <a:off x="5611680" y="1590840"/>
            <a:ext cx="1392480" cy="990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877" h="624">
                <a:moveTo>
                  <a:pt x="0" y="0"/>
                </a:moveTo>
                <a:lnTo>
                  <a:pt x="47" y="528"/>
                </a:lnTo>
                <a:lnTo>
                  <a:pt x="209" y="624"/>
                </a:lnTo>
                <a:lnTo>
                  <a:pt x="877" y="466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6"/>
          <p:cNvSpPr/>
          <p:nvPr/>
        </p:nvSpPr>
        <p:spPr>
          <a:xfrm>
            <a:off x="6926400" y="2317680"/>
            <a:ext cx="731880" cy="1587600"/>
          </a:xfrm>
          <a:custGeom>
            <a:avLst/>
            <a:gdLst>
              <a:gd name="textAreaLeft" fmla="*/ 0 w 731880"/>
              <a:gd name="textAreaRight" fmla="*/ 732240 w 73188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461" h="1000">
                <a:moveTo>
                  <a:pt x="5" y="1000"/>
                </a:moveTo>
                <a:lnTo>
                  <a:pt x="461" y="658"/>
                </a:lnTo>
                <a:lnTo>
                  <a:pt x="455" y="47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5148360" y="549360"/>
            <a:ext cx="1162080" cy="10317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732" h="650">
                <a:moveTo>
                  <a:pt x="0" y="444"/>
                </a:moveTo>
                <a:lnTo>
                  <a:pt x="249" y="278"/>
                </a:lnTo>
                <a:lnTo>
                  <a:pt x="183" y="134"/>
                </a:lnTo>
                <a:lnTo>
                  <a:pt x="264" y="0"/>
                </a:lnTo>
                <a:lnTo>
                  <a:pt x="630" y="103"/>
                </a:lnTo>
                <a:lnTo>
                  <a:pt x="732" y="273"/>
                </a:lnTo>
                <a:lnTo>
                  <a:pt x="275" y="650"/>
                </a:lnTo>
              </a:path>
            </a:pathLst>
          </a:cu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8"/>
          <p:cNvSpPr/>
          <p:nvPr/>
        </p:nvSpPr>
        <p:spPr>
          <a:xfrm rot="5400000">
            <a:off x="3067920" y="1547640"/>
            <a:ext cx="4159440" cy="3600360"/>
          </a:xfrm>
          <a:prstGeom prst="hexagon">
            <a:avLst>
              <a:gd name="adj" fmla="val 28882"/>
              <a:gd name="vf" fmla="val 115470"/>
            </a:avLst>
          </a:prstGeom>
          <a:solidFill>
            <a:srgbClr val="ff99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93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54"/>
          <p:cNvPicPr/>
          <p:nvPr/>
        </p:nvPicPr>
        <p:blipFill>
          <a:blip r:embed="rId1"/>
          <a:stretch/>
        </p:blipFill>
        <p:spPr>
          <a:xfrm>
            <a:off x="914400" y="190440"/>
            <a:ext cx="6629400" cy="649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0" name="Freeform 29"/>
          <p:cNvSpPr/>
          <p:nvPr/>
        </p:nvSpPr>
        <p:spPr>
          <a:xfrm>
            <a:off x="165240" y="3581280"/>
            <a:ext cx="2946240" cy="3106800"/>
          </a:xfrm>
          <a:custGeom>
            <a:avLst/>
            <a:gdLst>
              <a:gd name="textAreaLeft" fmla="*/ 0 w 2946240"/>
              <a:gd name="textAreaRight" fmla="*/ 2946600 w 2946240"/>
              <a:gd name="textAreaTop" fmla="*/ 0 h 3106800"/>
              <a:gd name="textAreaBottom" fmla="*/ 3107160 h 3106800"/>
            </a:gdLst>
            <a:ahLst/>
            <a:rect l="textAreaLeft" t="textAreaTop" r="textAreaRight" b="textAreaBottom"/>
            <a:pathLst>
              <a:path w="1856" h="1957">
                <a:moveTo>
                  <a:pt x="254" y="451"/>
                </a:moveTo>
                <a:lnTo>
                  <a:pt x="344" y="511"/>
                </a:lnTo>
                <a:lnTo>
                  <a:pt x="441" y="602"/>
                </a:lnTo>
                <a:lnTo>
                  <a:pt x="658" y="524"/>
                </a:lnTo>
                <a:lnTo>
                  <a:pt x="680" y="664"/>
                </a:lnTo>
                <a:lnTo>
                  <a:pt x="593" y="757"/>
                </a:lnTo>
                <a:lnTo>
                  <a:pt x="567" y="913"/>
                </a:lnTo>
                <a:lnTo>
                  <a:pt x="557" y="973"/>
                </a:lnTo>
                <a:lnTo>
                  <a:pt x="458" y="1036"/>
                </a:lnTo>
                <a:lnTo>
                  <a:pt x="203" y="997"/>
                </a:lnTo>
                <a:lnTo>
                  <a:pt x="0" y="800"/>
                </a:lnTo>
                <a:lnTo>
                  <a:pt x="32" y="841"/>
                </a:lnTo>
                <a:lnTo>
                  <a:pt x="140" y="1111"/>
                </a:lnTo>
                <a:lnTo>
                  <a:pt x="462" y="1238"/>
                </a:lnTo>
                <a:lnTo>
                  <a:pt x="602" y="1231"/>
                </a:lnTo>
                <a:lnTo>
                  <a:pt x="665" y="1369"/>
                </a:lnTo>
                <a:lnTo>
                  <a:pt x="791" y="1501"/>
                </a:lnTo>
                <a:lnTo>
                  <a:pt x="807" y="1489"/>
                </a:lnTo>
                <a:lnTo>
                  <a:pt x="671" y="1678"/>
                </a:lnTo>
                <a:lnTo>
                  <a:pt x="575" y="1785"/>
                </a:lnTo>
                <a:lnTo>
                  <a:pt x="653" y="1870"/>
                </a:lnTo>
                <a:lnTo>
                  <a:pt x="743" y="1957"/>
                </a:lnTo>
                <a:lnTo>
                  <a:pt x="803" y="1801"/>
                </a:lnTo>
                <a:lnTo>
                  <a:pt x="1007" y="1625"/>
                </a:lnTo>
                <a:lnTo>
                  <a:pt x="980" y="1444"/>
                </a:lnTo>
                <a:lnTo>
                  <a:pt x="959" y="1337"/>
                </a:lnTo>
                <a:lnTo>
                  <a:pt x="866" y="1195"/>
                </a:lnTo>
                <a:lnTo>
                  <a:pt x="999" y="1152"/>
                </a:lnTo>
                <a:lnTo>
                  <a:pt x="1128" y="1126"/>
                </a:lnTo>
                <a:lnTo>
                  <a:pt x="1199" y="1369"/>
                </a:lnTo>
                <a:lnTo>
                  <a:pt x="1247" y="1489"/>
                </a:lnTo>
                <a:lnTo>
                  <a:pt x="1429" y="1421"/>
                </a:lnTo>
                <a:lnTo>
                  <a:pt x="1567" y="1441"/>
                </a:lnTo>
                <a:lnTo>
                  <a:pt x="1664" y="1268"/>
                </a:lnTo>
                <a:lnTo>
                  <a:pt x="1551" y="1204"/>
                </a:lnTo>
                <a:lnTo>
                  <a:pt x="1486" y="1171"/>
                </a:lnTo>
                <a:lnTo>
                  <a:pt x="1431" y="1247"/>
                </a:lnTo>
                <a:lnTo>
                  <a:pt x="1347" y="1240"/>
                </a:lnTo>
                <a:lnTo>
                  <a:pt x="1301" y="1041"/>
                </a:lnTo>
                <a:lnTo>
                  <a:pt x="1343" y="968"/>
                </a:lnTo>
                <a:lnTo>
                  <a:pt x="1518" y="1041"/>
                </a:lnTo>
                <a:lnTo>
                  <a:pt x="1631" y="1077"/>
                </a:lnTo>
                <a:lnTo>
                  <a:pt x="1856" y="904"/>
                </a:lnTo>
                <a:lnTo>
                  <a:pt x="1848" y="824"/>
                </a:lnTo>
                <a:lnTo>
                  <a:pt x="1614" y="568"/>
                </a:lnTo>
                <a:lnTo>
                  <a:pt x="1274" y="666"/>
                </a:lnTo>
                <a:lnTo>
                  <a:pt x="1208" y="612"/>
                </a:lnTo>
                <a:lnTo>
                  <a:pt x="1164" y="352"/>
                </a:lnTo>
                <a:lnTo>
                  <a:pt x="1340" y="181"/>
                </a:lnTo>
                <a:lnTo>
                  <a:pt x="1394" y="135"/>
                </a:lnTo>
                <a:lnTo>
                  <a:pt x="1337" y="51"/>
                </a:lnTo>
                <a:lnTo>
                  <a:pt x="1151" y="0"/>
                </a:lnTo>
                <a:lnTo>
                  <a:pt x="1110" y="82"/>
                </a:lnTo>
                <a:lnTo>
                  <a:pt x="1145" y="156"/>
                </a:lnTo>
                <a:lnTo>
                  <a:pt x="1097" y="202"/>
                </a:lnTo>
                <a:lnTo>
                  <a:pt x="961" y="275"/>
                </a:lnTo>
                <a:lnTo>
                  <a:pt x="987" y="336"/>
                </a:lnTo>
                <a:lnTo>
                  <a:pt x="1014" y="571"/>
                </a:lnTo>
                <a:lnTo>
                  <a:pt x="827" y="811"/>
                </a:lnTo>
                <a:lnTo>
                  <a:pt x="886" y="584"/>
                </a:lnTo>
                <a:lnTo>
                  <a:pt x="884" y="584"/>
                </a:lnTo>
                <a:lnTo>
                  <a:pt x="796" y="365"/>
                </a:lnTo>
                <a:lnTo>
                  <a:pt x="688" y="307"/>
                </a:lnTo>
                <a:lnTo>
                  <a:pt x="518" y="373"/>
                </a:lnTo>
                <a:lnTo>
                  <a:pt x="386" y="340"/>
                </a:lnTo>
                <a:lnTo>
                  <a:pt x="254" y="451"/>
                </a:lnTo>
                <a:close/>
              </a:path>
            </a:pathLst>
          </a:custGeom>
          <a:solidFill>
            <a:srgbClr val="6600cc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10"/>
          <p:cNvGrpSpPr/>
          <p:nvPr/>
        </p:nvGrpSpPr>
        <p:grpSpPr>
          <a:xfrm>
            <a:off x="2959200" y="-415800"/>
            <a:ext cx="5680800" cy="5990400"/>
            <a:chOff x="2959200" y="-415800"/>
            <a:chExt cx="5680800" cy="5990400"/>
          </a:xfrm>
        </p:grpSpPr>
        <p:sp>
          <p:nvSpPr>
            <p:cNvPr id="942" name="Freeform 6"/>
            <p:cNvSpPr/>
            <p:nvPr/>
          </p:nvSpPr>
          <p:spPr>
            <a:xfrm>
              <a:off x="2959200" y="1949400"/>
              <a:ext cx="2949840" cy="3048120"/>
            </a:xfrm>
            <a:custGeom>
              <a:avLst/>
              <a:gdLst>
                <a:gd name="textAreaLeft" fmla="*/ 0 w 2949840"/>
                <a:gd name="textAreaRight" fmla="*/ 2950200 w 29498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1858" h="1920">
                  <a:moveTo>
                    <a:pt x="244" y="432"/>
                  </a:moveTo>
                  <a:lnTo>
                    <a:pt x="334" y="504"/>
                  </a:lnTo>
                  <a:lnTo>
                    <a:pt x="448" y="576"/>
                  </a:lnTo>
                  <a:lnTo>
                    <a:pt x="668" y="506"/>
                  </a:lnTo>
                  <a:lnTo>
                    <a:pt x="700" y="642"/>
                  </a:lnTo>
                  <a:lnTo>
                    <a:pt x="600" y="762"/>
                  </a:lnTo>
                  <a:lnTo>
                    <a:pt x="580" y="946"/>
                  </a:lnTo>
                  <a:lnTo>
                    <a:pt x="494" y="1006"/>
                  </a:lnTo>
                  <a:lnTo>
                    <a:pt x="190" y="964"/>
                  </a:lnTo>
                  <a:lnTo>
                    <a:pt x="0" y="758"/>
                  </a:lnTo>
                  <a:lnTo>
                    <a:pt x="68" y="842"/>
                  </a:lnTo>
                  <a:lnTo>
                    <a:pt x="158" y="1094"/>
                  </a:lnTo>
                  <a:lnTo>
                    <a:pt x="446" y="1212"/>
                  </a:lnTo>
                  <a:lnTo>
                    <a:pt x="610" y="1212"/>
                  </a:lnTo>
                  <a:lnTo>
                    <a:pt x="686" y="1334"/>
                  </a:lnTo>
                  <a:lnTo>
                    <a:pt x="830" y="1478"/>
                  </a:lnTo>
                  <a:lnTo>
                    <a:pt x="590" y="1766"/>
                  </a:lnTo>
                  <a:lnTo>
                    <a:pt x="696" y="1878"/>
                  </a:lnTo>
                  <a:lnTo>
                    <a:pt x="754" y="1920"/>
                  </a:lnTo>
                  <a:lnTo>
                    <a:pt x="826" y="1780"/>
                  </a:lnTo>
                  <a:lnTo>
                    <a:pt x="1026" y="1608"/>
                  </a:lnTo>
                  <a:lnTo>
                    <a:pt x="1030" y="1572"/>
                  </a:lnTo>
                  <a:lnTo>
                    <a:pt x="974" y="1334"/>
                  </a:lnTo>
                  <a:lnTo>
                    <a:pt x="878" y="1190"/>
                  </a:lnTo>
                  <a:lnTo>
                    <a:pt x="986" y="1146"/>
                  </a:lnTo>
                  <a:lnTo>
                    <a:pt x="1116" y="1124"/>
                  </a:lnTo>
                  <a:lnTo>
                    <a:pt x="1214" y="1382"/>
                  </a:lnTo>
                  <a:lnTo>
                    <a:pt x="1242" y="1472"/>
                  </a:lnTo>
                  <a:lnTo>
                    <a:pt x="1406" y="1430"/>
                  </a:lnTo>
                  <a:lnTo>
                    <a:pt x="1572" y="1426"/>
                  </a:lnTo>
                  <a:lnTo>
                    <a:pt x="1646" y="1286"/>
                  </a:lnTo>
                  <a:lnTo>
                    <a:pt x="1536" y="1218"/>
                  </a:lnTo>
                  <a:lnTo>
                    <a:pt x="1472" y="1182"/>
                  </a:lnTo>
                  <a:lnTo>
                    <a:pt x="1414" y="1256"/>
                  </a:lnTo>
                  <a:lnTo>
                    <a:pt x="1330" y="1246"/>
                  </a:lnTo>
                  <a:lnTo>
                    <a:pt x="1292" y="1046"/>
                  </a:lnTo>
                  <a:lnTo>
                    <a:pt x="1336" y="974"/>
                  </a:lnTo>
                  <a:lnTo>
                    <a:pt x="1508" y="1054"/>
                  </a:lnTo>
                  <a:lnTo>
                    <a:pt x="1620" y="1094"/>
                  </a:lnTo>
                  <a:lnTo>
                    <a:pt x="1838" y="950"/>
                  </a:lnTo>
                  <a:lnTo>
                    <a:pt x="1858" y="842"/>
                  </a:lnTo>
                  <a:lnTo>
                    <a:pt x="1622" y="584"/>
                  </a:lnTo>
                  <a:lnTo>
                    <a:pt x="1278" y="670"/>
                  </a:lnTo>
                  <a:lnTo>
                    <a:pt x="1214" y="614"/>
                  </a:lnTo>
                  <a:lnTo>
                    <a:pt x="1180" y="352"/>
                  </a:lnTo>
                  <a:lnTo>
                    <a:pt x="1362" y="188"/>
                  </a:lnTo>
                  <a:lnTo>
                    <a:pt x="1418" y="144"/>
                  </a:lnTo>
                  <a:lnTo>
                    <a:pt x="1364" y="58"/>
                  </a:lnTo>
                  <a:lnTo>
                    <a:pt x="1180" y="0"/>
                  </a:lnTo>
                  <a:lnTo>
                    <a:pt x="1136" y="80"/>
                  </a:lnTo>
                  <a:lnTo>
                    <a:pt x="1168" y="156"/>
                  </a:lnTo>
                  <a:lnTo>
                    <a:pt x="980" y="268"/>
                  </a:lnTo>
                  <a:lnTo>
                    <a:pt x="1004" y="330"/>
                  </a:lnTo>
                  <a:lnTo>
                    <a:pt x="1022" y="566"/>
                  </a:lnTo>
                  <a:lnTo>
                    <a:pt x="842" y="804"/>
                  </a:lnTo>
                  <a:lnTo>
                    <a:pt x="894" y="574"/>
                  </a:lnTo>
                  <a:lnTo>
                    <a:pt x="892" y="574"/>
                  </a:lnTo>
                  <a:lnTo>
                    <a:pt x="812" y="352"/>
                  </a:lnTo>
                  <a:lnTo>
                    <a:pt x="706" y="290"/>
                  </a:lnTo>
                  <a:lnTo>
                    <a:pt x="490" y="368"/>
                  </a:lnTo>
                  <a:lnTo>
                    <a:pt x="390" y="326"/>
                  </a:lnTo>
                  <a:lnTo>
                    <a:pt x="244" y="432"/>
                  </a:lnTo>
                  <a:close/>
                </a:path>
              </a:pathLst>
            </a:custGeom>
            <a:solidFill>
              <a:srgbClr val="000000">
                <a:alpha val="5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"/>
            <p:cNvSpPr/>
            <p:nvPr/>
          </p:nvSpPr>
          <p:spPr>
            <a:xfrm flipH="1" flipV="1" rot="3634800">
              <a:off x="5113440" y="2017080"/>
              <a:ext cx="2949120" cy="3047760"/>
            </a:xfrm>
            <a:custGeom>
              <a:avLst/>
              <a:gdLst>
                <a:gd name="textAreaLeft" fmla="*/ 360 w 2949120"/>
                <a:gd name="textAreaRight" fmla="*/ 2949840 w 2949120"/>
                <a:gd name="textAreaTop" fmla="*/ 360 h 3047760"/>
                <a:gd name="textAreaBottom" fmla="*/ 3048480 h 3047760"/>
              </a:gdLst>
              <a:ahLst/>
              <a:rect l="textAreaLeft" t="textAreaTop" r="textAreaRight" b="textAreaBottom"/>
              <a:pathLst>
                <a:path w="1858" h="1920">
                  <a:moveTo>
                    <a:pt x="244" y="432"/>
                  </a:moveTo>
                  <a:lnTo>
                    <a:pt x="334" y="504"/>
                  </a:lnTo>
                  <a:lnTo>
                    <a:pt x="448" y="576"/>
                  </a:lnTo>
                  <a:lnTo>
                    <a:pt x="668" y="506"/>
                  </a:lnTo>
                  <a:lnTo>
                    <a:pt x="700" y="642"/>
                  </a:lnTo>
                  <a:lnTo>
                    <a:pt x="600" y="762"/>
                  </a:lnTo>
                  <a:lnTo>
                    <a:pt x="580" y="946"/>
                  </a:lnTo>
                  <a:lnTo>
                    <a:pt x="494" y="1006"/>
                  </a:lnTo>
                  <a:lnTo>
                    <a:pt x="190" y="964"/>
                  </a:lnTo>
                  <a:lnTo>
                    <a:pt x="0" y="758"/>
                  </a:lnTo>
                  <a:lnTo>
                    <a:pt x="68" y="842"/>
                  </a:lnTo>
                  <a:lnTo>
                    <a:pt x="158" y="1094"/>
                  </a:lnTo>
                  <a:lnTo>
                    <a:pt x="446" y="1212"/>
                  </a:lnTo>
                  <a:lnTo>
                    <a:pt x="610" y="1212"/>
                  </a:lnTo>
                  <a:lnTo>
                    <a:pt x="686" y="1334"/>
                  </a:lnTo>
                  <a:lnTo>
                    <a:pt x="830" y="1478"/>
                  </a:lnTo>
                  <a:lnTo>
                    <a:pt x="590" y="1766"/>
                  </a:lnTo>
                  <a:lnTo>
                    <a:pt x="696" y="1878"/>
                  </a:lnTo>
                  <a:lnTo>
                    <a:pt x="754" y="1920"/>
                  </a:lnTo>
                  <a:lnTo>
                    <a:pt x="826" y="1780"/>
                  </a:lnTo>
                  <a:lnTo>
                    <a:pt x="1026" y="1608"/>
                  </a:lnTo>
                  <a:lnTo>
                    <a:pt x="1030" y="1572"/>
                  </a:lnTo>
                  <a:lnTo>
                    <a:pt x="974" y="1334"/>
                  </a:lnTo>
                  <a:lnTo>
                    <a:pt x="878" y="1190"/>
                  </a:lnTo>
                  <a:lnTo>
                    <a:pt x="986" y="1146"/>
                  </a:lnTo>
                  <a:lnTo>
                    <a:pt x="1116" y="1124"/>
                  </a:lnTo>
                  <a:lnTo>
                    <a:pt x="1214" y="1382"/>
                  </a:lnTo>
                  <a:lnTo>
                    <a:pt x="1242" y="1472"/>
                  </a:lnTo>
                  <a:lnTo>
                    <a:pt x="1406" y="1430"/>
                  </a:lnTo>
                  <a:lnTo>
                    <a:pt x="1572" y="1426"/>
                  </a:lnTo>
                  <a:lnTo>
                    <a:pt x="1646" y="1286"/>
                  </a:lnTo>
                  <a:lnTo>
                    <a:pt x="1536" y="1218"/>
                  </a:lnTo>
                  <a:lnTo>
                    <a:pt x="1472" y="1182"/>
                  </a:lnTo>
                  <a:lnTo>
                    <a:pt x="1414" y="1256"/>
                  </a:lnTo>
                  <a:lnTo>
                    <a:pt x="1330" y="1246"/>
                  </a:lnTo>
                  <a:lnTo>
                    <a:pt x="1292" y="1046"/>
                  </a:lnTo>
                  <a:lnTo>
                    <a:pt x="1336" y="974"/>
                  </a:lnTo>
                  <a:lnTo>
                    <a:pt x="1508" y="1054"/>
                  </a:lnTo>
                  <a:lnTo>
                    <a:pt x="1620" y="1094"/>
                  </a:lnTo>
                  <a:lnTo>
                    <a:pt x="1838" y="950"/>
                  </a:lnTo>
                  <a:lnTo>
                    <a:pt x="1858" y="842"/>
                  </a:lnTo>
                  <a:lnTo>
                    <a:pt x="1622" y="584"/>
                  </a:lnTo>
                  <a:lnTo>
                    <a:pt x="1278" y="670"/>
                  </a:lnTo>
                  <a:lnTo>
                    <a:pt x="1214" y="614"/>
                  </a:lnTo>
                  <a:lnTo>
                    <a:pt x="1180" y="352"/>
                  </a:lnTo>
                  <a:lnTo>
                    <a:pt x="1362" y="188"/>
                  </a:lnTo>
                  <a:lnTo>
                    <a:pt x="1418" y="144"/>
                  </a:lnTo>
                  <a:lnTo>
                    <a:pt x="1364" y="58"/>
                  </a:lnTo>
                  <a:lnTo>
                    <a:pt x="1180" y="0"/>
                  </a:lnTo>
                  <a:lnTo>
                    <a:pt x="1136" y="80"/>
                  </a:lnTo>
                  <a:lnTo>
                    <a:pt x="1168" y="156"/>
                  </a:lnTo>
                  <a:lnTo>
                    <a:pt x="980" y="268"/>
                  </a:lnTo>
                  <a:lnTo>
                    <a:pt x="1004" y="330"/>
                  </a:lnTo>
                  <a:lnTo>
                    <a:pt x="1022" y="566"/>
                  </a:lnTo>
                  <a:lnTo>
                    <a:pt x="842" y="804"/>
                  </a:lnTo>
                  <a:lnTo>
                    <a:pt x="894" y="574"/>
                  </a:lnTo>
                  <a:lnTo>
                    <a:pt x="892" y="574"/>
                  </a:lnTo>
                  <a:lnTo>
                    <a:pt x="812" y="352"/>
                  </a:lnTo>
                  <a:lnTo>
                    <a:pt x="706" y="290"/>
                  </a:lnTo>
                  <a:lnTo>
                    <a:pt x="490" y="368"/>
                  </a:lnTo>
                  <a:lnTo>
                    <a:pt x="390" y="326"/>
                  </a:lnTo>
                  <a:lnTo>
                    <a:pt x="244" y="43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 flipH="1" flipV="1" rot="18020400">
              <a:off x="4084560" y="102600"/>
              <a:ext cx="2949840" cy="3048120"/>
            </a:xfrm>
            <a:custGeom>
              <a:avLst/>
              <a:gdLst>
                <a:gd name="textAreaLeft" fmla="*/ 360 w 2949840"/>
                <a:gd name="textAreaRight" fmla="*/ 2950560 w 2949840"/>
                <a:gd name="textAreaTop" fmla="*/ -360 h 3048120"/>
                <a:gd name="textAreaBottom" fmla="*/ 3048120 h 3048120"/>
              </a:gdLst>
              <a:ahLst/>
              <a:rect l="textAreaLeft" t="textAreaTop" r="textAreaRight" b="textAreaBottom"/>
              <a:pathLst>
                <a:path w="1858" h="1920">
                  <a:moveTo>
                    <a:pt x="244" y="432"/>
                  </a:moveTo>
                  <a:lnTo>
                    <a:pt x="334" y="504"/>
                  </a:lnTo>
                  <a:lnTo>
                    <a:pt x="448" y="576"/>
                  </a:lnTo>
                  <a:lnTo>
                    <a:pt x="668" y="506"/>
                  </a:lnTo>
                  <a:lnTo>
                    <a:pt x="700" y="642"/>
                  </a:lnTo>
                  <a:lnTo>
                    <a:pt x="600" y="762"/>
                  </a:lnTo>
                  <a:lnTo>
                    <a:pt x="580" y="946"/>
                  </a:lnTo>
                  <a:lnTo>
                    <a:pt x="494" y="1006"/>
                  </a:lnTo>
                  <a:lnTo>
                    <a:pt x="190" y="964"/>
                  </a:lnTo>
                  <a:lnTo>
                    <a:pt x="0" y="758"/>
                  </a:lnTo>
                  <a:lnTo>
                    <a:pt x="68" y="842"/>
                  </a:lnTo>
                  <a:lnTo>
                    <a:pt x="158" y="1094"/>
                  </a:lnTo>
                  <a:lnTo>
                    <a:pt x="446" y="1212"/>
                  </a:lnTo>
                  <a:lnTo>
                    <a:pt x="610" y="1212"/>
                  </a:lnTo>
                  <a:lnTo>
                    <a:pt x="686" y="1334"/>
                  </a:lnTo>
                  <a:lnTo>
                    <a:pt x="830" y="1478"/>
                  </a:lnTo>
                  <a:lnTo>
                    <a:pt x="590" y="1766"/>
                  </a:lnTo>
                  <a:lnTo>
                    <a:pt x="696" y="1878"/>
                  </a:lnTo>
                  <a:lnTo>
                    <a:pt x="754" y="1920"/>
                  </a:lnTo>
                  <a:lnTo>
                    <a:pt x="826" y="1780"/>
                  </a:lnTo>
                  <a:lnTo>
                    <a:pt x="1026" y="1608"/>
                  </a:lnTo>
                  <a:lnTo>
                    <a:pt x="1030" y="1572"/>
                  </a:lnTo>
                  <a:lnTo>
                    <a:pt x="974" y="1334"/>
                  </a:lnTo>
                  <a:lnTo>
                    <a:pt x="878" y="1190"/>
                  </a:lnTo>
                  <a:lnTo>
                    <a:pt x="986" y="1146"/>
                  </a:lnTo>
                  <a:lnTo>
                    <a:pt x="1116" y="1124"/>
                  </a:lnTo>
                  <a:lnTo>
                    <a:pt x="1214" y="1382"/>
                  </a:lnTo>
                  <a:lnTo>
                    <a:pt x="1242" y="1472"/>
                  </a:lnTo>
                  <a:lnTo>
                    <a:pt x="1406" y="1430"/>
                  </a:lnTo>
                  <a:lnTo>
                    <a:pt x="1572" y="1426"/>
                  </a:lnTo>
                  <a:lnTo>
                    <a:pt x="1646" y="1286"/>
                  </a:lnTo>
                  <a:lnTo>
                    <a:pt x="1536" y="1218"/>
                  </a:lnTo>
                  <a:lnTo>
                    <a:pt x="1472" y="1182"/>
                  </a:lnTo>
                  <a:lnTo>
                    <a:pt x="1414" y="1256"/>
                  </a:lnTo>
                  <a:lnTo>
                    <a:pt x="1330" y="1246"/>
                  </a:lnTo>
                  <a:lnTo>
                    <a:pt x="1292" y="1046"/>
                  </a:lnTo>
                  <a:lnTo>
                    <a:pt x="1336" y="974"/>
                  </a:lnTo>
                  <a:lnTo>
                    <a:pt x="1508" y="1054"/>
                  </a:lnTo>
                  <a:lnTo>
                    <a:pt x="1620" y="1094"/>
                  </a:lnTo>
                  <a:lnTo>
                    <a:pt x="1838" y="950"/>
                  </a:lnTo>
                  <a:lnTo>
                    <a:pt x="1858" y="842"/>
                  </a:lnTo>
                  <a:lnTo>
                    <a:pt x="1622" y="584"/>
                  </a:lnTo>
                  <a:lnTo>
                    <a:pt x="1278" y="670"/>
                  </a:lnTo>
                  <a:lnTo>
                    <a:pt x="1214" y="614"/>
                  </a:lnTo>
                  <a:lnTo>
                    <a:pt x="1180" y="352"/>
                  </a:lnTo>
                  <a:lnTo>
                    <a:pt x="1362" y="188"/>
                  </a:lnTo>
                  <a:lnTo>
                    <a:pt x="1418" y="144"/>
                  </a:lnTo>
                  <a:lnTo>
                    <a:pt x="1364" y="58"/>
                  </a:lnTo>
                  <a:lnTo>
                    <a:pt x="1180" y="0"/>
                  </a:lnTo>
                  <a:lnTo>
                    <a:pt x="1136" y="80"/>
                  </a:lnTo>
                  <a:lnTo>
                    <a:pt x="1168" y="156"/>
                  </a:lnTo>
                  <a:lnTo>
                    <a:pt x="980" y="268"/>
                  </a:lnTo>
                  <a:lnTo>
                    <a:pt x="1004" y="330"/>
                  </a:lnTo>
                  <a:lnTo>
                    <a:pt x="1022" y="566"/>
                  </a:lnTo>
                  <a:lnTo>
                    <a:pt x="842" y="804"/>
                  </a:lnTo>
                  <a:lnTo>
                    <a:pt x="894" y="574"/>
                  </a:lnTo>
                  <a:lnTo>
                    <a:pt x="892" y="574"/>
                  </a:lnTo>
                  <a:lnTo>
                    <a:pt x="812" y="352"/>
                  </a:lnTo>
                  <a:lnTo>
                    <a:pt x="706" y="290"/>
                  </a:lnTo>
                  <a:lnTo>
                    <a:pt x="490" y="368"/>
                  </a:lnTo>
                  <a:lnTo>
                    <a:pt x="390" y="326"/>
                  </a:lnTo>
                  <a:lnTo>
                    <a:pt x="244" y="43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946" name="Freeform 12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3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4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6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7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8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9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Freeform 21"/>
          <p:cNvSpPr/>
          <p:nvPr/>
        </p:nvSpPr>
        <p:spPr>
          <a:xfrm>
            <a:off x="154080" y="3548160"/>
            <a:ext cx="2993760" cy="3132000"/>
          </a:xfrm>
          <a:custGeom>
            <a:avLst/>
            <a:gdLst>
              <a:gd name="textAreaLeft" fmla="*/ 0 w 2993760"/>
              <a:gd name="textAreaRight" fmla="*/ 2994120 w 2993760"/>
              <a:gd name="textAreaTop" fmla="*/ 0 h 3132000"/>
              <a:gd name="textAreaBottom" fmla="*/ 3132360 h 3132000"/>
            </a:gdLst>
            <a:ahLst/>
            <a:rect l="textAreaLeft" t="textAreaTop" r="textAreaRight" b="textAreaBottom"/>
            <a:pathLst>
              <a:path w="1886" h="1973">
                <a:moveTo>
                  <a:pt x="232" y="478"/>
                </a:moveTo>
                <a:lnTo>
                  <a:pt x="324" y="546"/>
                </a:lnTo>
                <a:lnTo>
                  <a:pt x="441" y="614"/>
                </a:lnTo>
                <a:lnTo>
                  <a:pt x="658" y="536"/>
                </a:lnTo>
                <a:lnTo>
                  <a:pt x="695" y="671"/>
                </a:lnTo>
                <a:lnTo>
                  <a:pt x="590" y="780"/>
                </a:lnTo>
                <a:lnTo>
                  <a:pt x="587" y="783"/>
                </a:lnTo>
                <a:lnTo>
                  <a:pt x="567" y="925"/>
                </a:lnTo>
                <a:lnTo>
                  <a:pt x="502" y="1042"/>
                </a:lnTo>
                <a:lnTo>
                  <a:pt x="197" y="1011"/>
                </a:lnTo>
                <a:lnTo>
                  <a:pt x="0" y="812"/>
                </a:lnTo>
                <a:lnTo>
                  <a:pt x="71" y="894"/>
                </a:lnTo>
                <a:lnTo>
                  <a:pt x="170" y="1143"/>
                </a:lnTo>
                <a:lnTo>
                  <a:pt x="462" y="1250"/>
                </a:lnTo>
                <a:lnTo>
                  <a:pt x="608" y="1245"/>
                </a:lnTo>
                <a:lnTo>
                  <a:pt x="679" y="1373"/>
                </a:lnTo>
                <a:lnTo>
                  <a:pt x="806" y="1512"/>
                </a:lnTo>
                <a:lnTo>
                  <a:pt x="575" y="1797"/>
                </a:lnTo>
                <a:lnTo>
                  <a:pt x="647" y="1925"/>
                </a:lnTo>
                <a:lnTo>
                  <a:pt x="711" y="1973"/>
                </a:lnTo>
                <a:lnTo>
                  <a:pt x="833" y="1809"/>
                </a:lnTo>
                <a:lnTo>
                  <a:pt x="1007" y="1637"/>
                </a:lnTo>
                <a:lnTo>
                  <a:pt x="991" y="1461"/>
                </a:lnTo>
                <a:lnTo>
                  <a:pt x="959" y="1349"/>
                </a:lnTo>
                <a:lnTo>
                  <a:pt x="893" y="1212"/>
                </a:lnTo>
                <a:lnTo>
                  <a:pt x="1001" y="1188"/>
                </a:lnTo>
                <a:lnTo>
                  <a:pt x="1118" y="1158"/>
                </a:lnTo>
                <a:lnTo>
                  <a:pt x="1199" y="1381"/>
                </a:lnTo>
                <a:lnTo>
                  <a:pt x="1235" y="1497"/>
                </a:lnTo>
                <a:lnTo>
                  <a:pt x="1424" y="1449"/>
                </a:lnTo>
                <a:lnTo>
                  <a:pt x="1567" y="1453"/>
                </a:lnTo>
                <a:lnTo>
                  <a:pt x="1664" y="1280"/>
                </a:lnTo>
                <a:lnTo>
                  <a:pt x="1551" y="1216"/>
                </a:lnTo>
                <a:lnTo>
                  <a:pt x="1486" y="1183"/>
                </a:lnTo>
                <a:lnTo>
                  <a:pt x="1431" y="1259"/>
                </a:lnTo>
                <a:lnTo>
                  <a:pt x="1331" y="1266"/>
                </a:lnTo>
                <a:lnTo>
                  <a:pt x="1286" y="1074"/>
                </a:lnTo>
                <a:lnTo>
                  <a:pt x="1346" y="987"/>
                </a:lnTo>
                <a:lnTo>
                  <a:pt x="1518" y="1053"/>
                </a:lnTo>
                <a:lnTo>
                  <a:pt x="1631" y="1089"/>
                </a:lnTo>
                <a:lnTo>
                  <a:pt x="1886" y="918"/>
                </a:lnTo>
                <a:lnTo>
                  <a:pt x="1860" y="829"/>
                </a:lnTo>
                <a:lnTo>
                  <a:pt x="1619" y="597"/>
                </a:lnTo>
                <a:lnTo>
                  <a:pt x="1274" y="678"/>
                </a:lnTo>
                <a:lnTo>
                  <a:pt x="1208" y="624"/>
                </a:lnTo>
                <a:lnTo>
                  <a:pt x="1164" y="364"/>
                </a:lnTo>
                <a:lnTo>
                  <a:pt x="1343" y="210"/>
                </a:lnTo>
                <a:lnTo>
                  <a:pt x="1409" y="144"/>
                </a:lnTo>
                <a:lnTo>
                  <a:pt x="1382" y="78"/>
                </a:lnTo>
                <a:lnTo>
                  <a:pt x="1187" y="0"/>
                </a:lnTo>
                <a:lnTo>
                  <a:pt x="1127" y="93"/>
                </a:lnTo>
                <a:lnTo>
                  <a:pt x="1172" y="174"/>
                </a:lnTo>
                <a:lnTo>
                  <a:pt x="1127" y="201"/>
                </a:lnTo>
                <a:lnTo>
                  <a:pt x="968" y="294"/>
                </a:lnTo>
                <a:lnTo>
                  <a:pt x="987" y="348"/>
                </a:lnTo>
                <a:lnTo>
                  <a:pt x="1019" y="489"/>
                </a:lnTo>
                <a:lnTo>
                  <a:pt x="1022" y="609"/>
                </a:lnTo>
                <a:lnTo>
                  <a:pt x="843" y="828"/>
                </a:lnTo>
                <a:lnTo>
                  <a:pt x="884" y="570"/>
                </a:lnTo>
                <a:lnTo>
                  <a:pt x="884" y="596"/>
                </a:lnTo>
                <a:lnTo>
                  <a:pt x="866" y="534"/>
                </a:lnTo>
                <a:lnTo>
                  <a:pt x="796" y="377"/>
                </a:lnTo>
                <a:lnTo>
                  <a:pt x="688" y="319"/>
                </a:lnTo>
                <a:lnTo>
                  <a:pt x="475" y="405"/>
                </a:lnTo>
                <a:lnTo>
                  <a:pt x="374" y="367"/>
                </a:lnTo>
                <a:lnTo>
                  <a:pt x="232" y="478"/>
                </a:lnTo>
                <a:close/>
              </a:path>
            </a:pathLst>
          </a:custGeom>
          <a:solidFill>
            <a:srgbClr val="6600cc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31"/>
          <p:cNvSpPr/>
          <p:nvPr/>
        </p:nvSpPr>
        <p:spPr>
          <a:xfrm>
            <a:off x="1676520" y="5029200"/>
            <a:ext cx="5486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32"/>
          <p:cNvSpPr/>
          <p:nvPr/>
        </p:nvSpPr>
        <p:spPr>
          <a:xfrm>
            <a:off x="4356000" y="457200"/>
            <a:ext cx="2519640" cy="255276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2552760"/>
              <a:gd name="textAreaBottom" fmla="*/ 2553120 h 2552760"/>
            </a:gdLst>
            <a:ahLst/>
            <a:rect l="textAreaLeft" t="textAreaTop" r="textAreaRight" b="textAreaBottom"/>
            <a:pathLst>
              <a:path w="1587" h="1608">
                <a:moveTo>
                  <a:pt x="1555" y="411"/>
                </a:moveTo>
                <a:lnTo>
                  <a:pt x="1435" y="456"/>
                </a:lnTo>
                <a:lnTo>
                  <a:pt x="1336" y="492"/>
                </a:lnTo>
                <a:lnTo>
                  <a:pt x="1326" y="476"/>
                </a:lnTo>
                <a:lnTo>
                  <a:pt x="1287" y="738"/>
                </a:lnTo>
                <a:lnTo>
                  <a:pt x="1151" y="668"/>
                </a:lnTo>
                <a:lnTo>
                  <a:pt x="1110" y="549"/>
                </a:lnTo>
                <a:lnTo>
                  <a:pt x="1107" y="519"/>
                </a:lnTo>
                <a:lnTo>
                  <a:pt x="939" y="438"/>
                </a:lnTo>
                <a:lnTo>
                  <a:pt x="945" y="336"/>
                </a:lnTo>
                <a:lnTo>
                  <a:pt x="990" y="270"/>
                </a:lnTo>
                <a:lnTo>
                  <a:pt x="1098" y="123"/>
                </a:lnTo>
                <a:lnTo>
                  <a:pt x="1413" y="39"/>
                </a:lnTo>
                <a:lnTo>
                  <a:pt x="1269" y="63"/>
                </a:lnTo>
                <a:lnTo>
                  <a:pt x="1021" y="0"/>
                </a:lnTo>
                <a:lnTo>
                  <a:pt x="835" y="138"/>
                </a:lnTo>
                <a:lnTo>
                  <a:pt x="760" y="210"/>
                </a:lnTo>
                <a:lnTo>
                  <a:pt x="691" y="324"/>
                </a:lnTo>
                <a:lnTo>
                  <a:pt x="684" y="336"/>
                </a:lnTo>
                <a:lnTo>
                  <a:pt x="528" y="342"/>
                </a:lnTo>
                <a:lnTo>
                  <a:pt x="348" y="396"/>
                </a:lnTo>
                <a:lnTo>
                  <a:pt x="219" y="45"/>
                </a:lnTo>
                <a:lnTo>
                  <a:pt x="102" y="57"/>
                </a:lnTo>
                <a:lnTo>
                  <a:pt x="0" y="66"/>
                </a:lnTo>
                <a:lnTo>
                  <a:pt x="93" y="226"/>
                </a:lnTo>
                <a:lnTo>
                  <a:pt x="162" y="501"/>
                </a:lnTo>
                <a:lnTo>
                  <a:pt x="261" y="546"/>
                </a:lnTo>
                <a:lnTo>
                  <a:pt x="411" y="588"/>
                </a:lnTo>
                <a:lnTo>
                  <a:pt x="583" y="573"/>
                </a:lnTo>
                <a:lnTo>
                  <a:pt x="550" y="679"/>
                </a:lnTo>
                <a:lnTo>
                  <a:pt x="518" y="795"/>
                </a:lnTo>
                <a:lnTo>
                  <a:pt x="284" y="755"/>
                </a:lnTo>
                <a:lnTo>
                  <a:pt x="151" y="729"/>
                </a:lnTo>
                <a:lnTo>
                  <a:pt x="103" y="921"/>
                </a:lnTo>
                <a:lnTo>
                  <a:pt x="30" y="1071"/>
                </a:lnTo>
                <a:lnTo>
                  <a:pt x="105" y="1203"/>
                </a:lnTo>
                <a:lnTo>
                  <a:pt x="210" y="1152"/>
                </a:lnTo>
                <a:lnTo>
                  <a:pt x="282" y="1101"/>
                </a:lnTo>
                <a:lnTo>
                  <a:pt x="249" y="1029"/>
                </a:lnTo>
                <a:lnTo>
                  <a:pt x="285" y="942"/>
                </a:lnTo>
                <a:lnTo>
                  <a:pt x="495" y="996"/>
                </a:lnTo>
                <a:lnTo>
                  <a:pt x="543" y="1068"/>
                </a:lnTo>
                <a:lnTo>
                  <a:pt x="406" y="1182"/>
                </a:lnTo>
                <a:lnTo>
                  <a:pt x="289" y="1281"/>
                </a:lnTo>
                <a:lnTo>
                  <a:pt x="337" y="1554"/>
                </a:lnTo>
                <a:lnTo>
                  <a:pt x="412" y="1608"/>
                </a:lnTo>
                <a:lnTo>
                  <a:pt x="730" y="1527"/>
                </a:lnTo>
                <a:lnTo>
                  <a:pt x="852" y="1188"/>
                </a:lnTo>
                <a:lnTo>
                  <a:pt x="924" y="1158"/>
                </a:lnTo>
                <a:lnTo>
                  <a:pt x="1200" y="1266"/>
                </a:lnTo>
                <a:lnTo>
                  <a:pt x="1224" y="1443"/>
                </a:lnTo>
                <a:lnTo>
                  <a:pt x="1239" y="1560"/>
                </a:lnTo>
                <a:lnTo>
                  <a:pt x="1326" y="1566"/>
                </a:lnTo>
                <a:lnTo>
                  <a:pt x="1485" y="1446"/>
                </a:lnTo>
                <a:lnTo>
                  <a:pt x="1440" y="1353"/>
                </a:lnTo>
                <a:lnTo>
                  <a:pt x="1350" y="1353"/>
                </a:lnTo>
                <a:lnTo>
                  <a:pt x="1346" y="1276"/>
                </a:lnTo>
                <a:lnTo>
                  <a:pt x="1341" y="1140"/>
                </a:lnTo>
                <a:lnTo>
                  <a:pt x="1290" y="1110"/>
                </a:lnTo>
                <a:lnTo>
                  <a:pt x="1278" y="1110"/>
                </a:lnTo>
                <a:lnTo>
                  <a:pt x="1173" y="1068"/>
                </a:lnTo>
                <a:lnTo>
                  <a:pt x="1044" y="1023"/>
                </a:lnTo>
                <a:lnTo>
                  <a:pt x="951" y="771"/>
                </a:lnTo>
                <a:lnTo>
                  <a:pt x="891" y="681"/>
                </a:lnTo>
                <a:lnTo>
                  <a:pt x="1080" y="873"/>
                </a:lnTo>
                <a:lnTo>
                  <a:pt x="1145" y="882"/>
                </a:lnTo>
                <a:lnTo>
                  <a:pt x="1074" y="876"/>
                </a:lnTo>
                <a:lnTo>
                  <a:pt x="1206" y="894"/>
                </a:lnTo>
                <a:lnTo>
                  <a:pt x="1386" y="918"/>
                </a:lnTo>
                <a:lnTo>
                  <a:pt x="1464" y="855"/>
                </a:lnTo>
                <a:lnTo>
                  <a:pt x="1497" y="672"/>
                </a:lnTo>
                <a:lnTo>
                  <a:pt x="1587" y="567"/>
                </a:lnTo>
                <a:lnTo>
                  <a:pt x="1574" y="539"/>
                </a:lnTo>
                <a:lnTo>
                  <a:pt x="1555" y="411"/>
                </a:lnTo>
                <a:close/>
              </a:path>
            </a:pathLst>
          </a:custGeom>
          <a:solidFill>
            <a:srgbClr val="000000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140000">
                                      <p:cBhvr>
                                        <p:cTn id="298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7 L 0.01667 0.03333 L 0.03038 0.06389 E">
                                      <p:cBhvr>
                                        <p:cTn id="300" dur="2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50139 0.0088 L 0.6125 -0.00185 E">
                                      <p:cBhvr>
                                        <p:cTn id="316" dur="2000" fill="hold"/>
                                        <p:tgtEl>
                                          <p:spTgt spid="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55556E-006 L -0.2875 0.22408 L -0.30556 0.23889 E">
                                      <p:cBhvr>
                                        <p:cTn id="322" dur="2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Содержимое 2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2695680" cy="190512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3" descr=""/>
          <p:cNvPicPr/>
          <p:nvPr/>
        </p:nvPicPr>
        <p:blipFill>
          <a:blip r:embed="rId2"/>
          <a:stretch/>
        </p:blipFill>
        <p:spPr>
          <a:xfrm>
            <a:off x="5286240" y="2143080"/>
            <a:ext cx="243864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99680" y="1017360"/>
            <a:ext cx="8258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Геометрия есть познание всего сущего.</a:t>
            </a: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Group 2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960" name="Freeform 3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5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8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8" name="Picture 14" descr="30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969" name="Freeform 20"/>
          <p:cNvSpPr/>
          <p:nvPr/>
        </p:nvSpPr>
        <p:spPr>
          <a:xfrm>
            <a:off x="3286080" y="2857680"/>
            <a:ext cx="2324160" cy="157932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1464" h="995">
                <a:moveTo>
                  <a:pt x="24" y="305"/>
                </a:moveTo>
                <a:cubicBezTo>
                  <a:pt x="22" y="296"/>
                  <a:pt x="31" y="300"/>
                  <a:pt x="54" y="299"/>
                </a:cubicBezTo>
                <a:cubicBezTo>
                  <a:pt x="77" y="298"/>
                  <a:pt x="117" y="300"/>
                  <a:pt x="162" y="301"/>
                </a:cubicBezTo>
                <a:cubicBezTo>
                  <a:pt x="207" y="302"/>
                  <a:pt x="287" y="308"/>
                  <a:pt x="324" y="305"/>
                </a:cubicBezTo>
                <a:cubicBezTo>
                  <a:pt x="361" y="302"/>
                  <a:pt x="373" y="294"/>
                  <a:pt x="382" y="285"/>
                </a:cubicBezTo>
                <a:cubicBezTo>
                  <a:pt x="391" y="276"/>
                  <a:pt x="384" y="265"/>
                  <a:pt x="378" y="253"/>
                </a:cubicBezTo>
                <a:cubicBezTo>
                  <a:pt x="372" y="241"/>
                  <a:pt x="380" y="245"/>
                  <a:pt x="348" y="213"/>
                </a:cubicBezTo>
                <a:cubicBezTo>
                  <a:pt x="316" y="181"/>
                  <a:pt x="222" y="92"/>
                  <a:pt x="186" y="61"/>
                </a:cubicBezTo>
                <a:cubicBezTo>
                  <a:pt x="150" y="30"/>
                  <a:pt x="143" y="38"/>
                  <a:pt x="132" y="29"/>
                </a:cubicBezTo>
                <a:cubicBezTo>
                  <a:pt x="121" y="20"/>
                  <a:pt x="115" y="14"/>
                  <a:pt x="120" y="9"/>
                </a:cubicBezTo>
                <a:cubicBezTo>
                  <a:pt x="125" y="4"/>
                  <a:pt x="125" y="0"/>
                  <a:pt x="160" y="1"/>
                </a:cubicBezTo>
                <a:cubicBezTo>
                  <a:pt x="195" y="2"/>
                  <a:pt x="282" y="7"/>
                  <a:pt x="330" y="13"/>
                </a:cubicBezTo>
                <a:cubicBezTo>
                  <a:pt x="378" y="19"/>
                  <a:pt x="408" y="24"/>
                  <a:pt x="450" y="35"/>
                </a:cubicBezTo>
                <a:cubicBezTo>
                  <a:pt x="492" y="46"/>
                  <a:pt x="540" y="63"/>
                  <a:pt x="582" y="77"/>
                </a:cubicBezTo>
                <a:cubicBezTo>
                  <a:pt x="624" y="91"/>
                  <a:pt x="672" y="92"/>
                  <a:pt x="704" y="117"/>
                </a:cubicBezTo>
                <a:cubicBezTo>
                  <a:pt x="736" y="142"/>
                  <a:pt x="748" y="188"/>
                  <a:pt x="774" y="227"/>
                </a:cubicBezTo>
                <a:cubicBezTo>
                  <a:pt x="800" y="266"/>
                  <a:pt x="814" y="323"/>
                  <a:pt x="858" y="349"/>
                </a:cubicBezTo>
                <a:cubicBezTo>
                  <a:pt x="902" y="375"/>
                  <a:pt x="992" y="380"/>
                  <a:pt x="1039" y="385"/>
                </a:cubicBezTo>
                <a:cubicBezTo>
                  <a:pt x="1086" y="390"/>
                  <a:pt x="1111" y="384"/>
                  <a:pt x="1141" y="379"/>
                </a:cubicBezTo>
                <a:cubicBezTo>
                  <a:pt x="1171" y="374"/>
                  <a:pt x="1199" y="356"/>
                  <a:pt x="1222" y="355"/>
                </a:cubicBezTo>
                <a:cubicBezTo>
                  <a:pt x="1245" y="354"/>
                  <a:pt x="1254" y="360"/>
                  <a:pt x="1279" y="373"/>
                </a:cubicBezTo>
                <a:cubicBezTo>
                  <a:pt x="1304" y="386"/>
                  <a:pt x="1347" y="416"/>
                  <a:pt x="1372" y="431"/>
                </a:cubicBezTo>
                <a:cubicBezTo>
                  <a:pt x="1397" y="446"/>
                  <a:pt x="1413" y="456"/>
                  <a:pt x="1428" y="463"/>
                </a:cubicBezTo>
                <a:cubicBezTo>
                  <a:pt x="1443" y="470"/>
                  <a:pt x="1460" y="468"/>
                  <a:pt x="1462" y="471"/>
                </a:cubicBezTo>
                <a:cubicBezTo>
                  <a:pt x="1464" y="474"/>
                  <a:pt x="1455" y="479"/>
                  <a:pt x="1442" y="483"/>
                </a:cubicBezTo>
                <a:cubicBezTo>
                  <a:pt x="1429" y="487"/>
                  <a:pt x="1418" y="488"/>
                  <a:pt x="1386" y="493"/>
                </a:cubicBezTo>
                <a:cubicBezTo>
                  <a:pt x="1354" y="498"/>
                  <a:pt x="1290" y="508"/>
                  <a:pt x="1248" y="512"/>
                </a:cubicBezTo>
                <a:cubicBezTo>
                  <a:pt x="1206" y="516"/>
                  <a:pt x="1179" y="510"/>
                  <a:pt x="1136" y="520"/>
                </a:cubicBezTo>
                <a:cubicBezTo>
                  <a:pt x="1093" y="530"/>
                  <a:pt x="1029" y="562"/>
                  <a:pt x="990" y="575"/>
                </a:cubicBezTo>
                <a:cubicBezTo>
                  <a:pt x="951" y="588"/>
                  <a:pt x="923" y="598"/>
                  <a:pt x="900" y="601"/>
                </a:cubicBezTo>
                <a:cubicBezTo>
                  <a:pt x="877" y="604"/>
                  <a:pt x="865" y="590"/>
                  <a:pt x="854" y="593"/>
                </a:cubicBezTo>
                <a:cubicBezTo>
                  <a:pt x="843" y="596"/>
                  <a:pt x="841" y="606"/>
                  <a:pt x="834" y="621"/>
                </a:cubicBezTo>
                <a:cubicBezTo>
                  <a:pt x="827" y="636"/>
                  <a:pt x="830" y="642"/>
                  <a:pt x="810" y="685"/>
                </a:cubicBezTo>
                <a:cubicBezTo>
                  <a:pt x="790" y="728"/>
                  <a:pt x="743" y="842"/>
                  <a:pt x="714" y="877"/>
                </a:cubicBezTo>
                <a:cubicBezTo>
                  <a:pt x="685" y="912"/>
                  <a:pt x="673" y="889"/>
                  <a:pt x="636" y="893"/>
                </a:cubicBezTo>
                <a:cubicBezTo>
                  <a:pt x="599" y="897"/>
                  <a:pt x="541" y="904"/>
                  <a:pt x="490" y="901"/>
                </a:cubicBezTo>
                <a:cubicBezTo>
                  <a:pt x="439" y="898"/>
                  <a:pt x="378" y="872"/>
                  <a:pt x="330" y="877"/>
                </a:cubicBezTo>
                <a:cubicBezTo>
                  <a:pt x="282" y="882"/>
                  <a:pt x="240" y="914"/>
                  <a:pt x="200" y="929"/>
                </a:cubicBezTo>
                <a:cubicBezTo>
                  <a:pt x="160" y="944"/>
                  <a:pt x="118" y="959"/>
                  <a:pt x="92" y="969"/>
                </a:cubicBezTo>
                <a:cubicBezTo>
                  <a:pt x="66" y="979"/>
                  <a:pt x="61" y="986"/>
                  <a:pt x="46" y="989"/>
                </a:cubicBezTo>
                <a:cubicBezTo>
                  <a:pt x="31" y="992"/>
                  <a:pt x="8" y="995"/>
                  <a:pt x="4" y="989"/>
                </a:cubicBezTo>
                <a:cubicBezTo>
                  <a:pt x="0" y="983"/>
                  <a:pt x="5" y="983"/>
                  <a:pt x="20" y="955"/>
                </a:cubicBezTo>
                <a:cubicBezTo>
                  <a:pt x="35" y="927"/>
                  <a:pt x="56" y="864"/>
                  <a:pt x="92" y="819"/>
                </a:cubicBezTo>
                <a:cubicBezTo>
                  <a:pt x="128" y="774"/>
                  <a:pt x="189" y="719"/>
                  <a:pt x="234" y="685"/>
                </a:cubicBezTo>
                <a:cubicBezTo>
                  <a:pt x="279" y="651"/>
                  <a:pt x="336" y="631"/>
                  <a:pt x="360" y="615"/>
                </a:cubicBezTo>
                <a:cubicBezTo>
                  <a:pt x="384" y="599"/>
                  <a:pt x="384" y="597"/>
                  <a:pt x="378" y="589"/>
                </a:cubicBezTo>
                <a:cubicBezTo>
                  <a:pt x="372" y="581"/>
                  <a:pt x="351" y="583"/>
                  <a:pt x="322" y="567"/>
                </a:cubicBezTo>
                <a:cubicBezTo>
                  <a:pt x="293" y="551"/>
                  <a:pt x="249" y="527"/>
                  <a:pt x="206" y="491"/>
                </a:cubicBezTo>
                <a:cubicBezTo>
                  <a:pt x="163" y="455"/>
                  <a:pt x="96" y="382"/>
                  <a:pt x="66" y="351"/>
                </a:cubicBezTo>
                <a:cubicBezTo>
                  <a:pt x="36" y="320"/>
                  <a:pt x="27" y="313"/>
                  <a:pt x="24" y="305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L 0.10954 -0.01203 L 0.19965 -0.028 E">
                                      <p:cBhvr>
                                        <p:cTn id="332" dur="2000" fill="hold"/>
                                        <p:tgtEl>
                                          <p:spTgt spid="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Рисунок 1" descr=""/>
          <p:cNvPicPr/>
          <p:nvPr/>
        </p:nvPicPr>
        <p:blipFill>
          <a:blip r:embed="rId1"/>
          <a:stretch/>
        </p:blipFill>
        <p:spPr>
          <a:xfrm rot="18461400">
            <a:off x="1768320" y="1596600"/>
            <a:ext cx="1352520" cy="1885680"/>
          </a:xfrm>
          <a:prstGeom prst="rect">
            <a:avLst/>
          </a:prstGeom>
          <a:ln w="0">
            <a:noFill/>
          </a:ln>
        </p:spPr>
      </p:pic>
      <p:pic>
        <p:nvPicPr>
          <p:cNvPr id="971" name="Рисунок 2" descr=""/>
          <p:cNvPicPr/>
          <p:nvPr/>
        </p:nvPicPr>
        <p:blipFill>
          <a:blip r:embed="rId2"/>
          <a:stretch/>
        </p:blipFill>
        <p:spPr>
          <a:xfrm rot="11287800">
            <a:off x="5338440" y="1626480"/>
            <a:ext cx="1933560" cy="1886040"/>
          </a:xfrm>
          <a:prstGeom prst="rect">
            <a:avLst/>
          </a:prstGeom>
          <a:ln w="0">
            <a:noFill/>
          </a:ln>
        </p:spPr>
      </p:pic>
      <p:pic>
        <p:nvPicPr>
          <p:cNvPr id="972" name="Рисунок 3" descr=""/>
          <p:cNvPicPr/>
          <p:nvPr/>
        </p:nvPicPr>
        <p:blipFill>
          <a:blip r:embed="rId3"/>
          <a:stretch/>
        </p:blipFill>
        <p:spPr>
          <a:xfrm rot="11097000">
            <a:off x="3573360" y="3722040"/>
            <a:ext cx="191448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2" descr="60"/>
          <p:cNvPicPr/>
          <p:nvPr/>
        </p:nvPicPr>
        <p:blipFill>
          <a:blip r:embed="rId1"/>
          <a:stretch/>
        </p:blipFill>
        <p:spPr>
          <a:xfrm>
            <a:off x="1143000" y="76320"/>
            <a:ext cx="6813720" cy="6753240"/>
          </a:xfrm>
          <a:prstGeom prst="rect">
            <a:avLst/>
          </a:prstGeom>
          <a:ln w="0">
            <a:noFill/>
          </a:ln>
        </p:spPr>
      </p:pic>
      <p:grpSp>
        <p:nvGrpSpPr>
          <p:cNvPr id="974" name="Group 4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975" name="Freeform 5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6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7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9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0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1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2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5"/>
          <p:cNvGrpSpPr/>
          <p:nvPr/>
        </p:nvGrpSpPr>
        <p:grpSpPr>
          <a:xfrm>
            <a:off x="1028880" y="2471760"/>
            <a:ext cx="3619440" cy="1893600"/>
            <a:chOff x="1028880" y="2471760"/>
            <a:chExt cx="3619440" cy="1893600"/>
          </a:xfrm>
        </p:grpSpPr>
        <p:sp>
          <p:nvSpPr>
            <p:cNvPr id="984" name="Freeform 13"/>
            <p:cNvSpPr/>
            <p:nvPr/>
          </p:nvSpPr>
          <p:spPr>
            <a:xfrm>
              <a:off x="2819520" y="247176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"/>
            <p:cNvSpPr/>
            <p:nvPr/>
          </p:nvSpPr>
          <p:spPr>
            <a:xfrm flipH="1" flipV="1">
              <a:off x="1028520" y="264096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27"/>
          <p:cNvGrpSpPr/>
          <p:nvPr/>
        </p:nvGrpSpPr>
        <p:grpSpPr>
          <a:xfrm>
            <a:off x="3606840" y="1218960"/>
            <a:ext cx="3581280" cy="4480200"/>
            <a:chOff x="3606840" y="1218960"/>
            <a:chExt cx="3581280" cy="4480200"/>
          </a:xfrm>
        </p:grpSpPr>
        <p:sp>
          <p:nvSpPr>
            <p:cNvPr id="987" name="Freeform 17"/>
            <p:cNvSpPr/>
            <p:nvPr/>
          </p:nvSpPr>
          <p:spPr>
            <a:xfrm>
              <a:off x="5359320" y="397512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600cc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9"/>
            <p:cNvSpPr/>
            <p:nvPr/>
          </p:nvSpPr>
          <p:spPr>
            <a:xfrm flipH="1" flipV="1">
              <a:off x="3606840" y="121860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600cc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Line 20"/>
          <p:cNvSpPr/>
          <p:nvPr/>
        </p:nvSpPr>
        <p:spPr>
          <a:xfrm>
            <a:off x="3962520" y="2895480"/>
            <a:ext cx="2819160" cy="106704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1"/>
          <p:cNvSpPr/>
          <p:nvPr/>
        </p:nvSpPr>
        <p:spPr>
          <a:xfrm flipH="1">
            <a:off x="5333760" y="1981080"/>
            <a:ext cx="75960" cy="29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28"/>
          <p:cNvGrpSpPr/>
          <p:nvPr/>
        </p:nvGrpSpPr>
        <p:grpSpPr>
          <a:xfrm>
            <a:off x="4648320" y="1219320"/>
            <a:ext cx="1460520" cy="4432320"/>
            <a:chOff x="4648320" y="1219320"/>
            <a:chExt cx="1460520" cy="4432320"/>
          </a:xfrm>
        </p:grpSpPr>
        <p:sp>
          <p:nvSpPr>
            <p:cNvPr id="992" name="Freeform 22"/>
            <p:cNvSpPr/>
            <p:nvPr/>
          </p:nvSpPr>
          <p:spPr>
            <a:xfrm>
              <a:off x="4648320" y="1219320"/>
              <a:ext cx="723960" cy="2222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222280"/>
                <a:gd name="textAreaBottom" fmla="*/ 2222640 h 2222280"/>
              </a:gdLst>
              <a:ahLst/>
              <a:rect l="textAreaLeft" t="textAreaTop" r="textAreaRight" b="textAreaBottom"/>
              <a:pathLst>
                <a:path w="456" h="1400">
                  <a:moveTo>
                    <a:pt x="0" y="0"/>
                  </a:moveTo>
                  <a:lnTo>
                    <a:pt x="456" y="140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3"/>
            <p:cNvSpPr/>
            <p:nvPr/>
          </p:nvSpPr>
          <p:spPr>
            <a:xfrm>
              <a:off x="5384880" y="3429000"/>
              <a:ext cx="723960" cy="22226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456" h="1400">
                  <a:moveTo>
                    <a:pt x="0" y="0"/>
                  </a:moveTo>
                  <a:lnTo>
                    <a:pt x="456" y="140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Group 29"/>
          <p:cNvGrpSpPr/>
          <p:nvPr/>
        </p:nvGrpSpPr>
        <p:grpSpPr>
          <a:xfrm>
            <a:off x="3733920" y="1981080"/>
            <a:ext cx="3352680" cy="2895840"/>
            <a:chOff x="3733920" y="1981080"/>
            <a:chExt cx="3352680" cy="2895840"/>
          </a:xfrm>
        </p:grpSpPr>
        <p:sp>
          <p:nvSpPr>
            <p:cNvPr id="995" name="Line 24"/>
            <p:cNvSpPr/>
            <p:nvPr/>
          </p:nvSpPr>
          <p:spPr>
            <a:xfrm>
              <a:off x="3733920" y="1981080"/>
              <a:ext cx="167616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25"/>
            <p:cNvSpPr/>
            <p:nvPr/>
          </p:nvSpPr>
          <p:spPr>
            <a:xfrm>
              <a:off x="5410080" y="3429000"/>
              <a:ext cx="167652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Oval 26"/>
          <p:cNvSpPr/>
          <p:nvPr/>
        </p:nvSpPr>
        <p:spPr>
          <a:xfrm>
            <a:off x="5359320" y="3390840"/>
            <a:ext cx="1270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34"/>
          <p:cNvGrpSpPr/>
          <p:nvPr/>
        </p:nvGrpSpPr>
        <p:grpSpPr>
          <a:xfrm>
            <a:off x="-379800" y="1431720"/>
            <a:ext cx="6458400" cy="3981960"/>
            <a:chOff x="-379800" y="1431720"/>
            <a:chExt cx="6458400" cy="3981960"/>
          </a:xfrm>
        </p:grpSpPr>
        <p:sp>
          <p:nvSpPr>
            <p:cNvPr id="999" name="Freeform 31"/>
            <p:cNvSpPr/>
            <p:nvPr/>
          </p:nvSpPr>
          <p:spPr>
            <a:xfrm rot="14403600">
              <a:off x="3960720" y="332892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ff0000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3"/>
            <p:cNvSpPr/>
            <p:nvPr/>
          </p:nvSpPr>
          <p:spPr>
            <a:xfrm flipH="1" flipV="1" rot="14403600">
              <a:off x="-91080" y="179208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Freeform 36"/>
          <p:cNvSpPr/>
          <p:nvPr/>
        </p:nvSpPr>
        <p:spPr>
          <a:xfrm rot="7159800">
            <a:off x="1559880" y="432720"/>
            <a:ext cx="1828800" cy="17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24040"/>
              <a:gd name="textAreaBottom" fmla="*/ 1724400 h 1724040"/>
            </a:gdLst>
            <a:ahLst/>
            <a:rect l="textAreaLeft" t="textAreaTop" r="textAreaRight" b="textAreaBottom"/>
            <a:pathLst>
              <a:path w="1152" h="1086">
                <a:moveTo>
                  <a:pt x="0" y="603"/>
                </a:moveTo>
                <a:lnTo>
                  <a:pt x="240" y="555"/>
                </a:lnTo>
                <a:lnTo>
                  <a:pt x="408" y="525"/>
                </a:lnTo>
                <a:lnTo>
                  <a:pt x="522" y="522"/>
                </a:lnTo>
                <a:lnTo>
                  <a:pt x="498" y="492"/>
                </a:lnTo>
                <a:lnTo>
                  <a:pt x="495" y="441"/>
                </a:lnTo>
                <a:lnTo>
                  <a:pt x="480" y="363"/>
                </a:lnTo>
                <a:lnTo>
                  <a:pt x="630" y="417"/>
                </a:lnTo>
                <a:lnTo>
                  <a:pt x="672" y="459"/>
                </a:lnTo>
                <a:lnTo>
                  <a:pt x="693" y="360"/>
                </a:lnTo>
                <a:lnTo>
                  <a:pt x="750" y="234"/>
                </a:lnTo>
                <a:lnTo>
                  <a:pt x="933" y="0"/>
                </a:lnTo>
                <a:lnTo>
                  <a:pt x="954" y="51"/>
                </a:lnTo>
                <a:lnTo>
                  <a:pt x="1008" y="123"/>
                </a:lnTo>
                <a:lnTo>
                  <a:pt x="1125" y="231"/>
                </a:lnTo>
                <a:lnTo>
                  <a:pt x="1002" y="330"/>
                </a:lnTo>
                <a:lnTo>
                  <a:pt x="1056" y="363"/>
                </a:lnTo>
                <a:lnTo>
                  <a:pt x="1152" y="375"/>
                </a:lnTo>
                <a:lnTo>
                  <a:pt x="1104" y="459"/>
                </a:lnTo>
                <a:lnTo>
                  <a:pt x="1086" y="540"/>
                </a:lnTo>
                <a:lnTo>
                  <a:pt x="1089" y="615"/>
                </a:lnTo>
                <a:lnTo>
                  <a:pt x="1053" y="642"/>
                </a:lnTo>
                <a:lnTo>
                  <a:pt x="969" y="669"/>
                </a:lnTo>
                <a:lnTo>
                  <a:pt x="885" y="678"/>
                </a:lnTo>
                <a:lnTo>
                  <a:pt x="906" y="762"/>
                </a:lnTo>
                <a:lnTo>
                  <a:pt x="912" y="843"/>
                </a:lnTo>
                <a:lnTo>
                  <a:pt x="804" y="810"/>
                </a:lnTo>
                <a:lnTo>
                  <a:pt x="750" y="771"/>
                </a:lnTo>
                <a:lnTo>
                  <a:pt x="729" y="864"/>
                </a:lnTo>
                <a:lnTo>
                  <a:pt x="681" y="984"/>
                </a:lnTo>
                <a:lnTo>
                  <a:pt x="651" y="1038"/>
                </a:lnTo>
                <a:lnTo>
                  <a:pt x="540" y="1056"/>
                </a:lnTo>
                <a:lnTo>
                  <a:pt x="468" y="1086"/>
                </a:lnTo>
                <a:lnTo>
                  <a:pt x="465" y="963"/>
                </a:lnTo>
                <a:lnTo>
                  <a:pt x="432" y="891"/>
                </a:lnTo>
                <a:lnTo>
                  <a:pt x="378" y="936"/>
                </a:lnTo>
                <a:lnTo>
                  <a:pt x="336" y="987"/>
                </a:lnTo>
                <a:lnTo>
                  <a:pt x="309" y="993"/>
                </a:lnTo>
                <a:lnTo>
                  <a:pt x="228" y="852"/>
                </a:lnTo>
                <a:lnTo>
                  <a:pt x="189" y="807"/>
                </a:lnTo>
                <a:lnTo>
                  <a:pt x="96" y="717"/>
                </a:lnTo>
                <a:lnTo>
                  <a:pt x="0" y="603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38"/>
          <p:cNvSpPr/>
          <p:nvPr/>
        </p:nvSpPr>
        <p:spPr>
          <a:xfrm>
            <a:off x="2755800" y="3365640"/>
            <a:ext cx="1270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3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42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46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50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54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35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367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371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375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375 0.01667 L 0.5625 0.01482 E">
                                      <p:cBhvr>
                                        <p:cTn id="384" dur="2000" fill="hold"/>
                                        <p:tgtEl>
                                          <p:spTgt spid="10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4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1004" name="Freeform 5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7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9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0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2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2" name="Picture 17" descr="18"/>
          <p:cNvPicPr/>
          <p:nvPr/>
        </p:nvPicPr>
        <p:blipFill>
          <a:blip r:embed="rId1"/>
          <a:stretch/>
        </p:blipFill>
        <p:spPr>
          <a:xfrm>
            <a:off x="380880" y="76320"/>
            <a:ext cx="8347320" cy="650700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8"/>
          <p:cNvSpPr/>
          <p:nvPr/>
        </p:nvSpPr>
        <p:spPr>
          <a:xfrm>
            <a:off x="5872320" y="1943280"/>
            <a:ext cx="3030480" cy="2363760"/>
          </a:xfrm>
          <a:custGeom>
            <a:avLst/>
            <a:gdLst>
              <a:gd name="textAreaLeft" fmla="*/ 0 w 3030480"/>
              <a:gd name="textAreaRight" fmla="*/ 3030840 w 303048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1909" h="1489">
                <a:moveTo>
                  <a:pt x="76" y="742"/>
                </a:moveTo>
                <a:cubicBezTo>
                  <a:pt x="112" y="750"/>
                  <a:pt x="228" y="767"/>
                  <a:pt x="295" y="790"/>
                </a:cubicBezTo>
                <a:cubicBezTo>
                  <a:pt x="362" y="813"/>
                  <a:pt x="417" y="840"/>
                  <a:pt x="481" y="883"/>
                </a:cubicBezTo>
                <a:cubicBezTo>
                  <a:pt x="545" y="926"/>
                  <a:pt x="627" y="1003"/>
                  <a:pt x="679" y="1051"/>
                </a:cubicBezTo>
                <a:cubicBezTo>
                  <a:pt x="731" y="1099"/>
                  <a:pt x="779" y="1132"/>
                  <a:pt x="796" y="1174"/>
                </a:cubicBezTo>
                <a:cubicBezTo>
                  <a:pt x="813" y="1216"/>
                  <a:pt x="797" y="1271"/>
                  <a:pt x="782" y="1305"/>
                </a:cubicBezTo>
                <a:cubicBezTo>
                  <a:pt x="767" y="1339"/>
                  <a:pt x="725" y="1352"/>
                  <a:pt x="703" y="1378"/>
                </a:cubicBezTo>
                <a:cubicBezTo>
                  <a:pt x="681" y="1404"/>
                  <a:pt x="648" y="1447"/>
                  <a:pt x="652" y="1462"/>
                </a:cubicBezTo>
                <a:cubicBezTo>
                  <a:pt x="656" y="1477"/>
                  <a:pt x="706" y="1468"/>
                  <a:pt x="730" y="1471"/>
                </a:cubicBezTo>
                <a:cubicBezTo>
                  <a:pt x="754" y="1474"/>
                  <a:pt x="776" y="1474"/>
                  <a:pt x="799" y="1477"/>
                </a:cubicBezTo>
                <a:cubicBezTo>
                  <a:pt x="822" y="1480"/>
                  <a:pt x="842" y="1489"/>
                  <a:pt x="865" y="1486"/>
                </a:cubicBezTo>
                <a:cubicBezTo>
                  <a:pt x="888" y="1483"/>
                  <a:pt x="910" y="1476"/>
                  <a:pt x="937" y="1459"/>
                </a:cubicBezTo>
                <a:cubicBezTo>
                  <a:pt x="964" y="1442"/>
                  <a:pt x="1007" y="1414"/>
                  <a:pt x="1030" y="1384"/>
                </a:cubicBezTo>
                <a:cubicBezTo>
                  <a:pt x="1053" y="1354"/>
                  <a:pt x="1060" y="1310"/>
                  <a:pt x="1075" y="1276"/>
                </a:cubicBezTo>
                <a:cubicBezTo>
                  <a:pt x="1090" y="1242"/>
                  <a:pt x="1084" y="1207"/>
                  <a:pt x="1117" y="1177"/>
                </a:cubicBezTo>
                <a:cubicBezTo>
                  <a:pt x="1150" y="1147"/>
                  <a:pt x="1220" y="1123"/>
                  <a:pt x="1273" y="1096"/>
                </a:cubicBezTo>
                <a:cubicBezTo>
                  <a:pt x="1326" y="1069"/>
                  <a:pt x="1406" y="1023"/>
                  <a:pt x="1438" y="1012"/>
                </a:cubicBezTo>
                <a:cubicBezTo>
                  <a:pt x="1470" y="1001"/>
                  <a:pt x="1462" y="1013"/>
                  <a:pt x="1468" y="1030"/>
                </a:cubicBezTo>
                <a:cubicBezTo>
                  <a:pt x="1474" y="1047"/>
                  <a:pt x="1472" y="1084"/>
                  <a:pt x="1474" y="1114"/>
                </a:cubicBezTo>
                <a:cubicBezTo>
                  <a:pt x="1476" y="1144"/>
                  <a:pt x="1460" y="1185"/>
                  <a:pt x="1477" y="1210"/>
                </a:cubicBezTo>
                <a:cubicBezTo>
                  <a:pt x="1494" y="1235"/>
                  <a:pt x="1550" y="1242"/>
                  <a:pt x="1579" y="1267"/>
                </a:cubicBezTo>
                <a:cubicBezTo>
                  <a:pt x="1608" y="1292"/>
                  <a:pt x="1648" y="1335"/>
                  <a:pt x="1651" y="1360"/>
                </a:cubicBezTo>
                <a:cubicBezTo>
                  <a:pt x="1654" y="1385"/>
                  <a:pt x="1610" y="1400"/>
                  <a:pt x="1597" y="1417"/>
                </a:cubicBezTo>
                <a:cubicBezTo>
                  <a:pt x="1584" y="1434"/>
                  <a:pt x="1568" y="1455"/>
                  <a:pt x="1570" y="1462"/>
                </a:cubicBezTo>
                <a:cubicBezTo>
                  <a:pt x="1572" y="1469"/>
                  <a:pt x="1590" y="1462"/>
                  <a:pt x="1612" y="1462"/>
                </a:cubicBezTo>
                <a:cubicBezTo>
                  <a:pt x="1634" y="1462"/>
                  <a:pt x="1672" y="1462"/>
                  <a:pt x="1702" y="1465"/>
                </a:cubicBezTo>
                <a:cubicBezTo>
                  <a:pt x="1732" y="1468"/>
                  <a:pt x="1767" y="1480"/>
                  <a:pt x="1792" y="1480"/>
                </a:cubicBezTo>
                <a:cubicBezTo>
                  <a:pt x="1817" y="1480"/>
                  <a:pt x="1839" y="1469"/>
                  <a:pt x="1852" y="1462"/>
                </a:cubicBezTo>
                <a:cubicBezTo>
                  <a:pt x="1865" y="1455"/>
                  <a:pt x="1865" y="1455"/>
                  <a:pt x="1873" y="1438"/>
                </a:cubicBezTo>
                <a:cubicBezTo>
                  <a:pt x="1881" y="1421"/>
                  <a:pt x="1909" y="1375"/>
                  <a:pt x="1903" y="1357"/>
                </a:cubicBezTo>
                <a:cubicBezTo>
                  <a:pt x="1897" y="1339"/>
                  <a:pt x="1861" y="1357"/>
                  <a:pt x="1837" y="1327"/>
                </a:cubicBezTo>
                <a:cubicBezTo>
                  <a:pt x="1813" y="1297"/>
                  <a:pt x="1775" y="1232"/>
                  <a:pt x="1756" y="1174"/>
                </a:cubicBezTo>
                <a:cubicBezTo>
                  <a:pt x="1737" y="1116"/>
                  <a:pt x="1733" y="1023"/>
                  <a:pt x="1726" y="979"/>
                </a:cubicBezTo>
                <a:cubicBezTo>
                  <a:pt x="1719" y="935"/>
                  <a:pt x="1723" y="934"/>
                  <a:pt x="1714" y="910"/>
                </a:cubicBezTo>
                <a:cubicBezTo>
                  <a:pt x="1705" y="886"/>
                  <a:pt x="1682" y="853"/>
                  <a:pt x="1669" y="832"/>
                </a:cubicBezTo>
                <a:cubicBezTo>
                  <a:pt x="1656" y="811"/>
                  <a:pt x="1620" y="788"/>
                  <a:pt x="1636" y="784"/>
                </a:cubicBezTo>
                <a:cubicBezTo>
                  <a:pt x="1652" y="780"/>
                  <a:pt x="1731" y="798"/>
                  <a:pt x="1768" y="805"/>
                </a:cubicBezTo>
                <a:cubicBezTo>
                  <a:pt x="1805" y="812"/>
                  <a:pt x="1852" y="834"/>
                  <a:pt x="1861" y="829"/>
                </a:cubicBezTo>
                <a:cubicBezTo>
                  <a:pt x="1870" y="824"/>
                  <a:pt x="1847" y="788"/>
                  <a:pt x="1825" y="772"/>
                </a:cubicBezTo>
                <a:cubicBezTo>
                  <a:pt x="1803" y="756"/>
                  <a:pt x="1755" y="742"/>
                  <a:pt x="1729" y="736"/>
                </a:cubicBezTo>
                <a:cubicBezTo>
                  <a:pt x="1703" y="730"/>
                  <a:pt x="1689" y="734"/>
                  <a:pt x="1666" y="736"/>
                </a:cubicBezTo>
                <a:cubicBezTo>
                  <a:pt x="1643" y="738"/>
                  <a:pt x="1619" y="748"/>
                  <a:pt x="1588" y="748"/>
                </a:cubicBezTo>
                <a:cubicBezTo>
                  <a:pt x="1557" y="748"/>
                  <a:pt x="1508" y="734"/>
                  <a:pt x="1480" y="733"/>
                </a:cubicBezTo>
                <a:cubicBezTo>
                  <a:pt x="1452" y="732"/>
                  <a:pt x="1430" y="747"/>
                  <a:pt x="1420" y="742"/>
                </a:cubicBezTo>
                <a:cubicBezTo>
                  <a:pt x="1410" y="737"/>
                  <a:pt x="1422" y="721"/>
                  <a:pt x="1420" y="703"/>
                </a:cubicBezTo>
                <a:cubicBezTo>
                  <a:pt x="1418" y="685"/>
                  <a:pt x="1415" y="651"/>
                  <a:pt x="1411" y="634"/>
                </a:cubicBezTo>
                <a:cubicBezTo>
                  <a:pt x="1407" y="617"/>
                  <a:pt x="1393" y="607"/>
                  <a:pt x="1393" y="601"/>
                </a:cubicBezTo>
                <a:cubicBezTo>
                  <a:pt x="1393" y="595"/>
                  <a:pt x="1398" y="605"/>
                  <a:pt x="1412" y="599"/>
                </a:cubicBezTo>
                <a:cubicBezTo>
                  <a:pt x="1426" y="593"/>
                  <a:pt x="1458" y="581"/>
                  <a:pt x="1476" y="566"/>
                </a:cubicBezTo>
                <a:cubicBezTo>
                  <a:pt x="1494" y="551"/>
                  <a:pt x="1507" y="537"/>
                  <a:pt x="1520" y="507"/>
                </a:cubicBezTo>
                <a:cubicBezTo>
                  <a:pt x="1533" y="477"/>
                  <a:pt x="1544" y="431"/>
                  <a:pt x="1552" y="388"/>
                </a:cubicBezTo>
                <a:cubicBezTo>
                  <a:pt x="1560" y="345"/>
                  <a:pt x="1561" y="290"/>
                  <a:pt x="1570" y="247"/>
                </a:cubicBezTo>
                <a:cubicBezTo>
                  <a:pt x="1579" y="204"/>
                  <a:pt x="1590" y="162"/>
                  <a:pt x="1609" y="127"/>
                </a:cubicBezTo>
                <a:cubicBezTo>
                  <a:pt x="1628" y="92"/>
                  <a:pt x="1691" y="42"/>
                  <a:pt x="1687" y="34"/>
                </a:cubicBezTo>
                <a:cubicBezTo>
                  <a:pt x="1683" y="26"/>
                  <a:pt x="1612" y="67"/>
                  <a:pt x="1585" y="76"/>
                </a:cubicBezTo>
                <a:cubicBezTo>
                  <a:pt x="1558" y="85"/>
                  <a:pt x="1547" y="81"/>
                  <a:pt x="1525" y="88"/>
                </a:cubicBezTo>
                <a:cubicBezTo>
                  <a:pt x="1503" y="95"/>
                  <a:pt x="1462" y="117"/>
                  <a:pt x="1450" y="118"/>
                </a:cubicBezTo>
                <a:cubicBezTo>
                  <a:pt x="1438" y="119"/>
                  <a:pt x="1437" y="115"/>
                  <a:pt x="1450" y="97"/>
                </a:cubicBezTo>
                <a:cubicBezTo>
                  <a:pt x="1463" y="79"/>
                  <a:pt x="1539" y="20"/>
                  <a:pt x="1528" y="10"/>
                </a:cubicBezTo>
                <a:cubicBezTo>
                  <a:pt x="1517" y="0"/>
                  <a:pt x="1428" y="20"/>
                  <a:pt x="1381" y="34"/>
                </a:cubicBezTo>
                <a:cubicBezTo>
                  <a:pt x="1334" y="48"/>
                  <a:pt x="1289" y="71"/>
                  <a:pt x="1243" y="97"/>
                </a:cubicBezTo>
                <a:cubicBezTo>
                  <a:pt x="1197" y="123"/>
                  <a:pt x="1146" y="155"/>
                  <a:pt x="1102" y="193"/>
                </a:cubicBezTo>
                <a:cubicBezTo>
                  <a:pt x="1058" y="231"/>
                  <a:pt x="1014" y="288"/>
                  <a:pt x="979" y="322"/>
                </a:cubicBezTo>
                <a:cubicBezTo>
                  <a:pt x="944" y="356"/>
                  <a:pt x="926" y="375"/>
                  <a:pt x="895" y="397"/>
                </a:cubicBezTo>
                <a:cubicBezTo>
                  <a:pt x="864" y="419"/>
                  <a:pt x="801" y="426"/>
                  <a:pt x="796" y="454"/>
                </a:cubicBezTo>
                <a:cubicBezTo>
                  <a:pt x="791" y="482"/>
                  <a:pt x="838" y="536"/>
                  <a:pt x="862" y="568"/>
                </a:cubicBezTo>
                <a:cubicBezTo>
                  <a:pt x="886" y="600"/>
                  <a:pt x="919" y="624"/>
                  <a:pt x="940" y="646"/>
                </a:cubicBezTo>
                <a:cubicBezTo>
                  <a:pt x="961" y="668"/>
                  <a:pt x="980" y="681"/>
                  <a:pt x="988" y="697"/>
                </a:cubicBezTo>
                <a:cubicBezTo>
                  <a:pt x="996" y="713"/>
                  <a:pt x="1003" y="735"/>
                  <a:pt x="988" y="742"/>
                </a:cubicBezTo>
                <a:cubicBezTo>
                  <a:pt x="973" y="749"/>
                  <a:pt x="931" y="736"/>
                  <a:pt x="899" y="738"/>
                </a:cubicBezTo>
                <a:cubicBezTo>
                  <a:pt x="867" y="740"/>
                  <a:pt x="836" y="761"/>
                  <a:pt x="796" y="757"/>
                </a:cubicBezTo>
                <a:cubicBezTo>
                  <a:pt x="756" y="753"/>
                  <a:pt x="700" y="744"/>
                  <a:pt x="661" y="715"/>
                </a:cubicBezTo>
                <a:cubicBezTo>
                  <a:pt x="622" y="686"/>
                  <a:pt x="584" y="630"/>
                  <a:pt x="562" y="586"/>
                </a:cubicBezTo>
                <a:cubicBezTo>
                  <a:pt x="540" y="542"/>
                  <a:pt x="559" y="486"/>
                  <a:pt x="526" y="448"/>
                </a:cubicBezTo>
                <a:cubicBezTo>
                  <a:pt x="493" y="410"/>
                  <a:pt x="407" y="389"/>
                  <a:pt x="364" y="358"/>
                </a:cubicBezTo>
                <a:cubicBezTo>
                  <a:pt x="321" y="327"/>
                  <a:pt x="284" y="262"/>
                  <a:pt x="268" y="262"/>
                </a:cubicBezTo>
                <a:cubicBezTo>
                  <a:pt x="252" y="262"/>
                  <a:pt x="284" y="350"/>
                  <a:pt x="268" y="358"/>
                </a:cubicBezTo>
                <a:cubicBezTo>
                  <a:pt x="252" y="366"/>
                  <a:pt x="187" y="312"/>
                  <a:pt x="172" y="310"/>
                </a:cubicBezTo>
                <a:cubicBezTo>
                  <a:pt x="157" y="308"/>
                  <a:pt x="178" y="319"/>
                  <a:pt x="178" y="343"/>
                </a:cubicBezTo>
                <a:cubicBezTo>
                  <a:pt x="178" y="367"/>
                  <a:pt x="183" y="428"/>
                  <a:pt x="172" y="454"/>
                </a:cubicBezTo>
                <a:cubicBezTo>
                  <a:pt x="161" y="480"/>
                  <a:pt x="136" y="486"/>
                  <a:pt x="112" y="502"/>
                </a:cubicBezTo>
                <a:cubicBezTo>
                  <a:pt x="88" y="518"/>
                  <a:pt x="46" y="535"/>
                  <a:pt x="28" y="550"/>
                </a:cubicBezTo>
                <a:cubicBezTo>
                  <a:pt x="10" y="565"/>
                  <a:pt x="0" y="576"/>
                  <a:pt x="1" y="595"/>
                </a:cubicBezTo>
                <a:cubicBezTo>
                  <a:pt x="2" y="614"/>
                  <a:pt x="23" y="648"/>
                  <a:pt x="34" y="667"/>
                </a:cubicBezTo>
                <a:cubicBezTo>
                  <a:pt x="45" y="686"/>
                  <a:pt x="59" y="700"/>
                  <a:pt x="67" y="712"/>
                </a:cubicBezTo>
                <a:cubicBezTo>
                  <a:pt x="75" y="724"/>
                  <a:pt x="73" y="737"/>
                  <a:pt x="82" y="742"/>
                </a:cubicBezTo>
                <a:cubicBezTo>
                  <a:pt x="91" y="747"/>
                  <a:pt x="115" y="742"/>
                  <a:pt x="124" y="742"/>
                </a:cubicBezTo>
              </a:path>
            </a:pathLst>
          </a:custGeom>
          <a:solidFill>
            <a:srgbClr val="ffff00">
              <a:alpha val="6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31666 -0.02222 L -0.575 0 E">
                                      <p:cBhvr>
                                        <p:cTn id="435" dur="1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17"/>
          <p:cNvGrpSpPr/>
          <p:nvPr/>
        </p:nvGrpSpPr>
        <p:grpSpPr>
          <a:xfrm>
            <a:off x="282600" y="-12600"/>
            <a:ext cx="8709120" cy="6870600"/>
            <a:chOff x="282600" y="-12600"/>
            <a:chExt cx="8709120" cy="6870600"/>
          </a:xfrm>
        </p:grpSpPr>
        <p:pic>
          <p:nvPicPr>
            <p:cNvPr id="1015" name="Picture 15" descr="слайд 11"/>
            <p:cNvPicPr/>
            <p:nvPr/>
          </p:nvPicPr>
          <p:blipFill>
            <a:blip r:embed="rId1"/>
            <a:stretch/>
          </p:blipFill>
          <p:spPr>
            <a:xfrm>
              <a:off x="282600" y="0"/>
              <a:ext cx="52419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16" descr="слайд 11"/>
            <p:cNvPicPr/>
            <p:nvPr/>
          </p:nvPicPr>
          <p:blipFill>
            <a:blip r:embed="rId2"/>
            <a:srcRect l="2905" t="0" r="0" b="0"/>
            <a:stretch/>
          </p:blipFill>
          <p:spPr>
            <a:xfrm>
              <a:off x="3902040" y="-12600"/>
              <a:ext cx="508968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2"/>
          <p:cNvGrpSpPr/>
          <p:nvPr/>
        </p:nvGrpSpPr>
        <p:grpSpPr>
          <a:xfrm>
            <a:off x="75960" y="50760"/>
            <a:ext cx="9004320" cy="6705360"/>
            <a:chOff x="75960" y="50760"/>
            <a:chExt cx="9004320" cy="6705360"/>
          </a:xfrm>
        </p:grpSpPr>
        <p:sp>
          <p:nvSpPr>
            <p:cNvPr id="1018" name="Freeform 3"/>
            <p:cNvSpPr/>
            <p:nvPr/>
          </p:nvSpPr>
          <p:spPr>
            <a:xfrm>
              <a:off x="542520" y="7812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"/>
            <p:cNvSpPr/>
            <p:nvPr/>
          </p:nvSpPr>
          <p:spPr>
            <a:xfrm>
              <a:off x="582120" y="67424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5"/>
            <p:cNvSpPr/>
            <p:nvPr/>
          </p:nvSpPr>
          <p:spPr>
            <a:xfrm>
              <a:off x="904032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"/>
            <p:cNvSpPr/>
            <p:nvPr/>
          </p:nvSpPr>
          <p:spPr>
            <a:xfrm>
              <a:off x="1292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7"/>
            <p:cNvSpPr/>
            <p:nvPr/>
          </p:nvSpPr>
          <p:spPr>
            <a:xfrm>
              <a:off x="129240" y="62647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"/>
            <p:cNvSpPr/>
            <p:nvPr/>
          </p:nvSpPr>
          <p:spPr>
            <a:xfrm flipH="1">
              <a:off x="8627400" y="62506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"/>
            <p:cNvSpPr/>
            <p:nvPr/>
          </p:nvSpPr>
          <p:spPr>
            <a:xfrm flipH="1" rot="16200000">
              <a:off x="8606880" y="4320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"/>
            <p:cNvSpPr/>
            <p:nvPr/>
          </p:nvSpPr>
          <p:spPr>
            <a:xfrm rot="5400000">
              <a:off x="83160" y="4320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Freeform 19"/>
          <p:cNvSpPr/>
          <p:nvPr/>
        </p:nvSpPr>
        <p:spPr>
          <a:xfrm>
            <a:off x="3238560" y="2184480"/>
            <a:ext cx="2504880" cy="199368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1578" h="1256">
                <a:moveTo>
                  <a:pt x="364" y="1120"/>
                </a:moveTo>
                <a:lnTo>
                  <a:pt x="454" y="1130"/>
                </a:lnTo>
                <a:lnTo>
                  <a:pt x="550" y="1156"/>
                </a:lnTo>
                <a:lnTo>
                  <a:pt x="642" y="1190"/>
                </a:lnTo>
                <a:lnTo>
                  <a:pt x="752" y="1226"/>
                </a:lnTo>
                <a:lnTo>
                  <a:pt x="838" y="1252"/>
                </a:lnTo>
                <a:lnTo>
                  <a:pt x="940" y="1256"/>
                </a:lnTo>
                <a:lnTo>
                  <a:pt x="1040" y="1226"/>
                </a:lnTo>
                <a:lnTo>
                  <a:pt x="1132" y="1194"/>
                </a:lnTo>
                <a:lnTo>
                  <a:pt x="1210" y="1158"/>
                </a:lnTo>
                <a:lnTo>
                  <a:pt x="1332" y="1144"/>
                </a:lnTo>
                <a:lnTo>
                  <a:pt x="1366" y="1090"/>
                </a:lnTo>
                <a:lnTo>
                  <a:pt x="1408" y="1028"/>
                </a:lnTo>
                <a:lnTo>
                  <a:pt x="1450" y="984"/>
                </a:lnTo>
                <a:lnTo>
                  <a:pt x="1520" y="948"/>
                </a:lnTo>
                <a:lnTo>
                  <a:pt x="1562" y="912"/>
                </a:lnTo>
                <a:lnTo>
                  <a:pt x="1578" y="888"/>
                </a:lnTo>
                <a:lnTo>
                  <a:pt x="1566" y="862"/>
                </a:lnTo>
                <a:lnTo>
                  <a:pt x="1515" y="843"/>
                </a:lnTo>
                <a:lnTo>
                  <a:pt x="1436" y="840"/>
                </a:lnTo>
                <a:lnTo>
                  <a:pt x="1353" y="864"/>
                </a:lnTo>
                <a:lnTo>
                  <a:pt x="1294" y="878"/>
                </a:lnTo>
                <a:lnTo>
                  <a:pt x="1218" y="891"/>
                </a:lnTo>
                <a:lnTo>
                  <a:pt x="1107" y="903"/>
                </a:lnTo>
                <a:lnTo>
                  <a:pt x="1092" y="870"/>
                </a:lnTo>
                <a:lnTo>
                  <a:pt x="1092" y="750"/>
                </a:lnTo>
                <a:lnTo>
                  <a:pt x="1125" y="576"/>
                </a:lnTo>
                <a:lnTo>
                  <a:pt x="1206" y="375"/>
                </a:lnTo>
                <a:lnTo>
                  <a:pt x="1323" y="195"/>
                </a:lnTo>
                <a:lnTo>
                  <a:pt x="1500" y="0"/>
                </a:lnTo>
                <a:lnTo>
                  <a:pt x="891" y="171"/>
                </a:lnTo>
                <a:lnTo>
                  <a:pt x="519" y="312"/>
                </a:lnTo>
                <a:lnTo>
                  <a:pt x="507" y="507"/>
                </a:lnTo>
                <a:lnTo>
                  <a:pt x="528" y="678"/>
                </a:lnTo>
                <a:lnTo>
                  <a:pt x="604" y="876"/>
                </a:lnTo>
                <a:lnTo>
                  <a:pt x="500" y="794"/>
                </a:lnTo>
                <a:lnTo>
                  <a:pt x="388" y="702"/>
                </a:lnTo>
                <a:lnTo>
                  <a:pt x="318" y="650"/>
                </a:lnTo>
                <a:lnTo>
                  <a:pt x="240" y="618"/>
                </a:lnTo>
                <a:lnTo>
                  <a:pt x="171" y="603"/>
                </a:lnTo>
                <a:lnTo>
                  <a:pt x="60" y="609"/>
                </a:lnTo>
                <a:lnTo>
                  <a:pt x="0" y="642"/>
                </a:lnTo>
                <a:lnTo>
                  <a:pt x="123" y="699"/>
                </a:lnTo>
                <a:lnTo>
                  <a:pt x="228" y="798"/>
                </a:lnTo>
                <a:lnTo>
                  <a:pt x="300" y="909"/>
                </a:lnTo>
                <a:lnTo>
                  <a:pt x="339" y="1020"/>
                </a:lnTo>
                <a:lnTo>
                  <a:pt x="364" y="1120"/>
                </a:lnTo>
                <a:close/>
              </a:path>
            </a:pathLst>
          </a:custGeom>
          <a:solidFill>
            <a:srgbClr val="00cc00">
              <a:alpha val="4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20"/>
          <p:cNvSpPr/>
          <p:nvPr/>
        </p:nvSpPr>
        <p:spPr>
          <a:xfrm>
            <a:off x="6705720" y="2171880"/>
            <a:ext cx="2504880" cy="199368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1993680"/>
              <a:gd name="textAreaBottom" fmla="*/ 1994040 h 1993680"/>
            </a:gdLst>
            <a:ahLst/>
            <a:rect l="textAreaLeft" t="textAreaTop" r="textAreaRight" b="textAreaBottom"/>
            <a:pathLst>
              <a:path w="1578" h="1256">
                <a:moveTo>
                  <a:pt x="364" y="1120"/>
                </a:moveTo>
                <a:lnTo>
                  <a:pt x="454" y="1130"/>
                </a:lnTo>
                <a:lnTo>
                  <a:pt x="550" y="1156"/>
                </a:lnTo>
                <a:lnTo>
                  <a:pt x="642" y="1190"/>
                </a:lnTo>
                <a:lnTo>
                  <a:pt x="752" y="1226"/>
                </a:lnTo>
                <a:lnTo>
                  <a:pt x="838" y="1252"/>
                </a:lnTo>
                <a:lnTo>
                  <a:pt x="940" y="1256"/>
                </a:lnTo>
                <a:lnTo>
                  <a:pt x="1040" y="1226"/>
                </a:lnTo>
                <a:lnTo>
                  <a:pt x="1132" y="1194"/>
                </a:lnTo>
                <a:lnTo>
                  <a:pt x="1210" y="1158"/>
                </a:lnTo>
                <a:lnTo>
                  <a:pt x="1332" y="1144"/>
                </a:lnTo>
                <a:lnTo>
                  <a:pt x="1366" y="1090"/>
                </a:lnTo>
                <a:lnTo>
                  <a:pt x="1408" y="1028"/>
                </a:lnTo>
                <a:lnTo>
                  <a:pt x="1450" y="984"/>
                </a:lnTo>
                <a:lnTo>
                  <a:pt x="1520" y="948"/>
                </a:lnTo>
                <a:lnTo>
                  <a:pt x="1562" y="912"/>
                </a:lnTo>
                <a:lnTo>
                  <a:pt x="1578" y="888"/>
                </a:lnTo>
                <a:lnTo>
                  <a:pt x="1566" y="862"/>
                </a:lnTo>
                <a:lnTo>
                  <a:pt x="1515" y="843"/>
                </a:lnTo>
                <a:lnTo>
                  <a:pt x="1436" y="840"/>
                </a:lnTo>
                <a:lnTo>
                  <a:pt x="1353" y="864"/>
                </a:lnTo>
                <a:lnTo>
                  <a:pt x="1294" y="878"/>
                </a:lnTo>
                <a:lnTo>
                  <a:pt x="1218" y="891"/>
                </a:lnTo>
                <a:lnTo>
                  <a:pt x="1107" y="903"/>
                </a:lnTo>
                <a:lnTo>
                  <a:pt x="1092" y="870"/>
                </a:lnTo>
                <a:lnTo>
                  <a:pt x="1092" y="750"/>
                </a:lnTo>
                <a:lnTo>
                  <a:pt x="1125" y="576"/>
                </a:lnTo>
                <a:lnTo>
                  <a:pt x="1206" y="375"/>
                </a:lnTo>
                <a:lnTo>
                  <a:pt x="1323" y="195"/>
                </a:lnTo>
                <a:lnTo>
                  <a:pt x="1500" y="0"/>
                </a:lnTo>
                <a:lnTo>
                  <a:pt x="891" y="171"/>
                </a:lnTo>
                <a:lnTo>
                  <a:pt x="519" y="312"/>
                </a:lnTo>
                <a:lnTo>
                  <a:pt x="507" y="507"/>
                </a:lnTo>
                <a:lnTo>
                  <a:pt x="528" y="678"/>
                </a:lnTo>
                <a:lnTo>
                  <a:pt x="604" y="876"/>
                </a:lnTo>
                <a:lnTo>
                  <a:pt x="500" y="794"/>
                </a:lnTo>
                <a:lnTo>
                  <a:pt x="388" y="702"/>
                </a:lnTo>
                <a:lnTo>
                  <a:pt x="318" y="650"/>
                </a:lnTo>
                <a:lnTo>
                  <a:pt x="240" y="618"/>
                </a:lnTo>
                <a:lnTo>
                  <a:pt x="171" y="603"/>
                </a:lnTo>
                <a:lnTo>
                  <a:pt x="60" y="609"/>
                </a:lnTo>
                <a:lnTo>
                  <a:pt x="0" y="642"/>
                </a:lnTo>
                <a:lnTo>
                  <a:pt x="123" y="699"/>
                </a:lnTo>
                <a:lnTo>
                  <a:pt x="228" y="798"/>
                </a:lnTo>
                <a:lnTo>
                  <a:pt x="300" y="909"/>
                </a:lnTo>
                <a:lnTo>
                  <a:pt x="339" y="1020"/>
                </a:lnTo>
                <a:lnTo>
                  <a:pt x="364" y="1120"/>
                </a:lnTo>
                <a:close/>
              </a:path>
            </a:pathLst>
          </a:custGeom>
          <a:solidFill>
            <a:srgbClr val="00cc00">
              <a:alpha val="4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21"/>
          <p:cNvSpPr/>
          <p:nvPr/>
        </p:nvSpPr>
        <p:spPr>
          <a:xfrm>
            <a:off x="4998960" y="2178000"/>
            <a:ext cx="2535480" cy="184140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597" h="1160">
                <a:moveTo>
                  <a:pt x="269" y="1160"/>
                </a:moveTo>
                <a:cubicBezTo>
                  <a:pt x="277" y="1160"/>
                  <a:pt x="275" y="1152"/>
                  <a:pt x="313" y="1138"/>
                </a:cubicBezTo>
                <a:cubicBezTo>
                  <a:pt x="351" y="1124"/>
                  <a:pt x="431" y="1100"/>
                  <a:pt x="499" y="1076"/>
                </a:cubicBezTo>
                <a:cubicBezTo>
                  <a:pt x="567" y="1052"/>
                  <a:pt x="637" y="1020"/>
                  <a:pt x="723" y="994"/>
                </a:cubicBezTo>
                <a:cubicBezTo>
                  <a:pt x="809" y="968"/>
                  <a:pt x="933" y="941"/>
                  <a:pt x="1017" y="920"/>
                </a:cubicBezTo>
                <a:cubicBezTo>
                  <a:pt x="1101" y="899"/>
                  <a:pt x="1181" y="880"/>
                  <a:pt x="1225" y="870"/>
                </a:cubicBezTo>
                <a:cubicBezTo>
                  <a:pt x="1269" y="860"/>
                  <a:pt x="1276" y="867"/>
                  <a:pt x="1283" y="858"/>
                </a:cubicBezTo>
                <a:cubicBezTo>
                  <a:pt x="1290" y="849"/>
                  <a:pt x="1292" y="844"/>
                  <a:pt x="1267" y="818"/>
                </a:cubicBezTo>
                <a:cubicBezTo>
                  <a:pt x="1242" y="792"/>
                  <a:pt x="1169" y="729"/>
                  <a:pt x="1131" y="704"/>
                </a:cubicBezTo>
                <a:cubicBezTo>
                  <a:pt x="1093" y="679"/>
                  <a:pt x="1060" y="677"/>
                  <a:pt x="1037" y="670"/>
                </a:cubicBezTo>
                <a:cubicBezTo>
                  <a:pt x="1014" y="663"/>
                  <a:pt x="987" y="672"/>
                  <a:pt x="993" y="660"/>
                </a:cubicBezTo>
                <a:cubicBezTo>
                  <a:pt x="999" y="648"/>
                  <a:pt x="1037" y="613"/>
                  <a:pt x="1075" y="596"/>
                </a:cubicBezTo>
                <a:cubicBezTo>
                  <a:pt x="1113" y="579"/>
                  <a:pt x="1165" y="555"/>
                  <a:pt x="1219" y="558"/>
                </a:cubicBezTo>
                <a:cubicBezTo>
                  <a:pt x="1273" y="561"/>
                  <a:pt x="1340" y="585"/>
                  <a:pt x="1397" y="614"/>
                </a:cubicBezTo>
                <a:cubicBezTo>
                  <a:pt x="1454" y="643"/>
                  <a:pt x="1530" y="710"/>
                  <a:pt x="1563" y="734"/>
                </a:cubicBezTo>
                <a:cubicBezTo>
                  <a:pt x="1596" y="758"/>
                  <a:pt x="1589" y="759"/>
                  <a:pt x="1593" y="758"/>
                </a:cubicBezTo>
                <a:cubicBezTo>
                  <a:pt x="1597" y="757"/>
                  <a:pt x="1595" y="747"/>
                  <a:pt x="1589" y="728"/>
                </a:cubicBezTo>
                <a:cubicBezTo>
                  <a:pt x="1583" y="709"/>
                  <a:pt x="1564" y="689"/>
                  <a:pt x="1555" y="644"/>
                </a:cubicBezTo>
                <a:cubicBezTo>
                  <a:pt x="1546" y="599"/>
                  <a:pt x="1537" y="505"/>
                  <a:pt x="1535" y="458"/>
                </a:cubicBezTo>
                <a:cubicBezTo>
                  <a:pt x="1533" y="411"/>
                  <a:pt x="1540" y="385"/>
                  <a:pt x="1543" y="360"/>
                </a:cubicBezTo>
                <a:cubicBezTo>
                  <a:pt x="1546" y="335"/>
                  <a:pt x="1557" y="319"/>
                  <a:pt x="1555" y="308"/>
                </a:cubicBezTo>
                <a:cubicBezTo>
                  <a:pt x="1553" y="297"/>
                  <a:pt x="1555" y="296"/>
                  <a:pt x="1531" y="296"/>
                </a:cubicBezTo>
                <a:cubicBezTo>
                  <a:pt x="1507" y="296"/>
                  <a:pt x="1471" y="290"/>
                  <a:pt x="1411" y="308"/>
                </a:cubicBezTo>
                <a:cubicBezTo>
                  <a:pt x="1351" y="326"/>
                  <a:pt x="1251" y="396"/>
                  <a:pt x="1171" y="404"/>
                </a:cubicBezTo>
                <a:cubicBezTo>
                  <a:pt x="1091" y="412"/>
                  <a:pt x="1006" y="377"/>
                  <a:pt x="931" y="356"/>
                </a:cubicBezTo>
                <a:cubicBezTo>
                  <a:pt x="856" y="335"/>
                  <a:pt x="779" y="296"/>
                  <a:pt x="723" y="280"/>
                </a:cubicBezTo>
                <a:cubicBezTo>
                  <a:pt x="667" y="264"/>
                  <a:pt x="624" y="263"/>
                  <a:pt x="595" y="260"/>
                </a:cubicBezTo>
                <a:cubicBezTo>
                  <a:pt x="566" y="257"/>
                  <a:pt x="554" y="261"/>
                  <a:pt x="547" y="260"/>
                </a:cubicBezTo>
                <a:cubicBezTo>
                  <a:pt x="540" y="259"/>
                  <a:pt x="555" y="270"/>
                  <a:pt x="555" y="254"/>
                </a:cubicBezTo>
                <a:cubicBezTo>
                  <a:pt x="555" y="238"/>
                  <a:pt x="555" y="198"/>
                  <a:pt x="547" y="164"/>
                </a:cubicBezTo>
                <a:cubicBezTo>
                  <a:pt x="539" y="130"/>
                  <a:pt x="516" y="79"/>
                  <a:pt x="505" y="52"/>
                </a:cubicBezTo>
                <a:cubicBezTo>
                  <a:pt x="494" y="25"/>
                  <a:pt x="491" y="8"/>
                  <a:pt x="481" y="4"/>
                </a:cubicBezTo>
                <a:cubicBezTo>
                  <a:pt x="471" y="0"/>
                  <a:pt x="461" y="16"/>
                  <a:pt x="445" y="26"/>
                </a:cubicBezTo>
                <a:cubicBezTo>
                  <a:pt x="429" y="36"/>
                  <a:pt x="420" y="33"/>
                  <a:pt x="387" y="64"/>
                </a:cubicBezTo>
                <a:cubicBezTo>
                  <a:pt x="354" y="95"/>
                  <a:pt x="292" y="154"/>
                  <a:pt x="247" y="214"/>
                </a:cubicBezTo>
                <a:cubicBezTo>
                  <a:pt x="202" y="274"/>
                  <a:pt x="157" y="342"/>
                  <a:pt x="119" y="422"/>
                </a:cubicBezTo>
                <a:cubicBezTo>
                  <a:pt x="81" y="502"/>
                  <a:pt x="38" y="625"/>
                  <a:pt x="19" y="692"/>
                </a:cubicBezTo>
                <a:cubicBezTo>
                  <a:pt x="0" y="759"/>
                  <a:pt x="9" y="797"/>
                  <a:pt x="7" y="822"/>
                </a:cubicBezTo>
                <a:cubicBezTo>
                  <a:pt x="5" y="847"/>
                  <a:pt x="7" y="837"/>
                  <a:pt x="9" y="844"/>
                </a:cubicBezTo>
                <a:cubicBezTo>
                  <a:pt x="11" y="851"/>
                  <a:pt x="8" y="861"/>
                  <a:pt x="19" y="864"/>
                </a:cubicBezTo>
                <a:cubicBezTo>
                  <a:pt x="30" y="867"/>
                  <a:pt x="42" y="866"/>
                  <a:pt x="75" y="862"/>
                </a:cubicBezTo>
                <a:cubicBezTo>
                  <a:pt x="108" y="858"/>
                  <a:pt x="174" y="849"/>
                  <a:pt x="217" y="842"/>
                </a:cubicBezTo>
                <a:cubicBezTo>
                  <a:pt x="260" y="835"/>
                  <a:pt x="297" y="826"/>
                  <a:pt x="331" y="822"/>
                </a:cubicBezTo>
                <a:cubicBezTo>
                  <a:pt x="365" y="818"/>
                  <a:pt x="397" y="812"/>
                  <a:pt x="423" y="816"/>
                </a:cubicBezTo>
                <a:cubicBezTo>
                  <a:pt x="449" y="820"/>
                  <a:pt x="472" y="837"/>
                  <a:pt x="485" y="848"/>
                </a:cubicBezTo>
                <a:cubicBezTo>
                  <a:pt x="498" y="859"/>
                  <a:pt x="504" y="866"/>
                  <a:pt x="499" y="884"/>
                </a:cubicBezTo>
                <a:cubicBezTo>
                  <a:pt x="494" y="902"/>
                  <a:pt x="488" y="924"/>
                  <a:pt x="455" y="956"/>
                </a:cubicBezTo>
                <a:cubicBezTo>
                  <a:pt x="422" y="988"/>
                  <a:pt x="332" y="1044"/>
                  <a:pt x="301" y="1074"/>
                </a:cubicBezTo>
                <a:cubicBezTo>
                  <a:pt x="270" y="1104"/>
                  <a:pt x="270" y="1126"/>
                  <a:pt x="265" y="1140"/>
                </a:cubicBezTo>
                <a:cubicBezTo>
                  <a:pt x="260" y="1154"/>
                  <a:pt x="264" y="1158"/>
                  <a:pt x="269" y="1160"/>
                </a:cubicBezTo>
                <a:close/>
              </a:path>
            </a:pathLst>
          </a:custGeom>
          <a:solidFill>
            <a:srgbClr val="0066ff">
              <a:alpha val="5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717 0.00092 L -0.38003 0.00092 E">
                                      <p:cBhvr>
                                        <p:cTn id="446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L -0.275 -1.85185E-006 L -0.37968 0.00185 E">
                                      <p:cBhvr>
                                        <p:cTn id="454" dur="20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1666 0.15555 L 0.14635 0.20648 E">
                                      <p:cBhvr>
                                        <p:cTn id="461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ГАРМОНИЯ И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343040" y="166536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ы погрузились в мир орнаментов, познакомились со способом построения математического паркета и увидели, как геометрия служит созданию красоты и удобства, т. е.того, что объединяют одним словом-</a:t>
            </a:r>
            <a:r>
              <a:rPr b="0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гармония</a:t>
            </a: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7" descr="nota3"/>
          <p:cNvPicPr/>
          <p:nvPr/>
        </p:nvPicPr>
        <p:blipFill>
          <a:blip r:embed="rId1"/>
          <a:stretch/>
        </p:blipFill>
        <p:spPr>
          <a:xfrm>
            <a:off x="914400" y="2209680"/>
            <a:ext cx="3111480" cy="3111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8" descr="nota1"/>
          <p:cNvPicPr/>
          <p:nvPr/>
        </p:nvPicPr>
        <p:blipFill>
          <a:blip r:embed="rId2"/>
          <a:stretch/>
        </p:blipFill>
        <p:spPr>
          <a:xfrm>
            <a:off x="8153280" y="380880"/>
            <a:ext cx="639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1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Узлы", изображающие замкнутые фигур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54840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 известные невозможные фигуры — невозможный треугольник Пенроуза и невозможный х-зубец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56272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возможные треуго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возможная ле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двигаться по лестнице против часовой стрелки, то мы будем постоянно подниматься, а если будем двигаться по часовой стрелке, то – спускаться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" descr="Бесконечная лестница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28800" y="500040"/>
          <a:ext cx="6357960" cy="3286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  <a:gridCol w="453960"/>
                <a:gridCol w="454320"/>
                <a:gridCol w="453960"/>
                <a:gridCol w="453960"/>
                <a:gridCol w="455760"/>
                <a:gridCol w="453960"/>
                <a:gridCol w="453960"/>
                <a:gridCol w="453960"/>
                <a:gridCol w="453960"/>
                <a:gridCol w="453960"/>
                <a:gridCol w="45432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4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475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cd5b4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4" name="Группа 19"/>
          <p:cNvGrpSpPr/>
          <p:nvPr/>
        </p:nvGrpSpPr>
        <p:grpSpPr>
          <a:xfrm>
            <a:off x="1432440" y="500040"/>
            <a:ext cx="5793120" cy="520560"/>
            <a:chOff x="1432440" y="500040"/>
            <a:chExt cx="5793120" cy="520560"/>
          </a:xfrm>
        </p:grpSpPr>
        <p:sp>
          <p:nvSpPr>
            <p:cNvPr id="55" name="Прямоугольник 5"/>
            <p:cNvSpPr/>
            <p:nvPr/>
          </p:nvSpPr>
          <p:spPr>
            <a:xfrm>
              <a:off x="1432440" y="50004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оугольник 7"/>
            <p:cNvSpPr/>
            <p:nvPr/>
          </p:nvSpPr>
          <p:spPr>
            <a:xfrm>
              <a:off x="1860120" y="500040"/>
              <a:ext cx="3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оугольник 8"/>
            <p:cNvSpPr/>
            <p:nvPr/>
          </p:nvSpPr>
          <p:spPr>
            <a:xfrm>
              <a:off x="2360880" y="500040"/>
              <a:ext cx="3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ольник 9"/>
            <p:cNvSpPr/>
            <p:nvPr/>
          </p:nvSpPr>
          <p:spPr>
            <a:xfrm>
              <a:off x="2790000" y="500040"/>
              <a:ext cx="43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ольник 10"/>
            <p:cNvSpPr/>
            <p:nvPr/>
          </p:nvSpPr>
          <p:spPr>
            <a:xfrm>
              <a:off x="3218040" y="500040"/>
              <a:ext cx="3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ольник 11"/>
            <p:cNvSpPr/>
            <p:nvPr/>
          </p:nvSpPr>
          <p:spPr>
            <a:xfrm>
              <a:off x="3718080" y="500040"/>
              <a:ext cx="34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ик 12"/>
            <p:cNvSpPr/>
            <p:nvPr/>
          </p:nvSpPr>
          <p:spPr>
            <a:xfrm>
              <a:off x="4145760" y="500040"/>
              <a:ext cx="30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оугольник 13"/>
            <p:cNvSpPr/>
            <p:nvPr/>
          </p:nvSpPr>
          <p:spPr>
            <a:xfrm>
              <a:off x="4646880" y="500040"/>
              <a:ext cx="37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14"/>
            <p:cNvSpPr/>
            <p:nvPr/>
          </p:nvSpPr>
          <p:spPr>
            <a:xfrm>
              <a:off x="5072760" y="500040"/>
              <a:ext cx="3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15"/>
            <p:cNvSpPr/>
            <p:nvPr/>
          </p:nvSpPr>
          <p:spPr>
            <a:xfrm>
              <a:off x="5511960" y="500040"/>
              <a:ext cx="35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ик 16"/>
            <p:cNvSpPr/>
            <p:nvPr/>
          </p:nvSpPr>
          <p:spPr>
            <a:xfrm>
              <a:off x="5931360" y="500040"/>
              <a:ext cx="37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оугольник 17"/>
            <p:cNvSpPr/>
            <p:nvPr/>
          </p:nvSpPr>
          <p:spPr>
            <a:xfrm>
              <a:off x="6433200" y="500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18"/>
            <p:cNvSpPr/>
            <p:nvPr/>
          </p:nvSpPr>
          <p:spPr>
            <a:xfrm>
              <a:off x="6869520" y="500040"/>
              <a:ext cx="35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"/>
          <p:cNvGraphicFramePr/>
          <p:nvPr/>
        </p:nvGraphicFramePr>
        <p:xfrm>
          <a:off x="928800" y="1000080"/>
          <a:ext cx="6357960" cy="5475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  <a:gridCol w="453960"/>
                <a:gridCol w="454320"/>
                <a:gridCol w="453960"/>
                <a:gridCol w="453960"/>
                <a:gridCol w="455760"/>
                <a:gridCol w="453960"/>
                <a:gridCol w="453960"/>
                <a:gridCol w="453960"/>
                <a:gridCol w="453960"/>
                <a:gridCol w="453960"/>
                <a:gridCol w="45432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357200" y="1571760"/>
          <a:ext cx="1816200" cy="54756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3960"/>
                <a:gridCol w="45396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357200" y="2071800"/>
          <a:ext cx="3179880" cy="54756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3960"/>
                <a:gridCol w="455400"/>
                <a:gridCol w="454320"/>
                <a:gridCol w="453960"/>
                <a:gridCol w="45396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928800" y="2643120"/>
          <a:ext cx="5903640" cy="5479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  <a:gridCol w="453960"/>
                <a:gridCol w="454320"/>
                <a:gridCol w="453960"/>
                <a:gridCol w="455400"/>
                <a:gridCol w="454320"/>
                <a:gridCol w="453960"/>
                <a:gridCol w="453960"/>
                <a:gridCol w="453960"/>
                <a:gridCol w="453960"/>
                <a:gridCol w="453960"/>
              </a:tblGrid>
              <a:tr h="54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357200" y="3214800"/>
          <a:ext cx="3633840" cy="54756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3960"/>
                <a:gridCol w="453960"/>
                <a:gridCol w="455760"/>
                <a:gridCol w="453960"/>
                <a:gridCol w="453960"/>
                <a:gridCol w="453960"/>
              </a:tblGrid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Прямоугольник 25"/>
          <p:cNvSpPr/>
          <p:nvPr/>
        </p:nvSpPr>
        <p:spPr>
          <a:xfrm rot="16200000">
            <a:off x="-78480" y="4579200"/>
            <a:ext cx="2214720" cy="1199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Трапеция 27"/>
          <p:cNvSpPr/>
          <p:nvPr/>
        </p:nvSpPr>
        <p:spPr>
          <a:xfrm>
            <a:off x="7358040" y="3214800"/>
            <a:ext cx="1500120" cy="1216080"/>
          </a:xfrm>
          <a:custGeom>
            <a:avLst/>
            <a:gdLst/>
            <a:ahLst/>
            <a:rect l="l" t="t" r="r" b="b"/>
            <a:pathLst>
              <a:path w="1500187" h="1216025">
                <a:moveTo>
                  <a:pt x="0" y="1216025"/>
                </a:moveTo>
                <a:lnTo>
                  <a:pt x="304006" y="0"/>
                </a:lnTo>
                <a:lnTo>
                  <a:pt x="1196181" y="0"/>
                </a:lnTo>
                <a:lnTo>
                  <a:pt x="1500187" y="1216025"/>
                </a:lnTo>
                <a:lnTo>
                  <a:pt x="0" y="1216025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естиугольник 28"/>
          <p:cNvSpPr/>
          <p:nvPr/>
        </p:nvSpPr>
        <p:spPr>
          <a:xfrm>
            <a:off x="7215120" y="4786200"/>
            <a:ext cx="1643040" cy="150048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9"/>
          <p:cNvSpPr/>
          <p:nvPr/>
        </p:nvSpPr>
        <p:spPr>
          <a:xfrm>
            <a:off x="5643720" y="4786200"/>
            <a:ext cx="1357200" cy="135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араллелограмм 30"/>
          <p:cNvSpPr/>
          <p:nvPr/>
        </p:nvSpPr>
        <p:spPr>
          <a:xfrm>
            <a:off x="1785960" y="4643280"/>
            <a:ext cx="2286000" cy="1214640"/>
          </a:xfrm>
          <a:prstGeom prst="parallelogram">
            <a:avLst>
              <a:gd name="adj" fmla="val 24998"/>
            </a:avLst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Ромб 31"/>
          <p:cNvSpPr/>
          <p:nvPr/>
        </p:nvSpPr>
        <p:spPr>
          <a:xfrm>
            <a:off x="4286160" y="4000680"/>
            <a:ext cx="1128960" cy="2557440"/>
          </a:xfrm>
          <a:prstGeom prst="diamond">
            <a:avLst/>
          </a:prstGeom>
          <a:solidFill>
            <a:srgbClr val="187a2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80988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Ф.Шарыгин, Л.Н.Ерганжиева «Наглядная геометрия.5-6 классы» учебное пособие,изидательство Дрофа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s020.radikal.ru/i704/1301/30/d58570431318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63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http://le-savchen.ucoz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www.worldofescher.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cescher.com/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scher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ки на картин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623736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20.radikal.ru/i722/1301/6c/eb99a1ef278f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20.radikal.ru/i721/1301/a0/e0f55bb9c9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74.radikal.ru/1301/fa/ef3623c0e2d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47.radikal.ru/i116/1301/ff/9a8dd5ee0d2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80.radikal.ru/1301/91/2752e8e8d8df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19.radikal.ru/i612/1301/86/0e0e9f476a5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деревяшки, паркет, полосы, Доски"/>
          <p:cNvPicPr/>
          <p:nvPr/>
        </p:nvPicPr>
        <p:blipFill>
          <a:blip r:embed="rId1"/>
          <a:stretch/>
        </p:blipFill>
        <p:spPr>
          <a:xfrm>
            <a:off x="304920" y="228600"/>
            <a:ext cx="419076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укладка паркета плетенка"/>
          <p:cNvPicPr/>
          <p:nvPr/>
        </p:nvPicPr>
        <p:blipFill>
          <a:blip r:embed="rId2"/>
          <a:stretch/>
        </p:blipFill>
        <p:spPr>
          <a:xfrm>
            <a:off x="4572000" y="2286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рисунки укладки паркета, плетенка"/>
          <p:cNvPicPr/>
          <p:nvPr/>
        </p:nvPicPr>
        <p:blipFill>
          <a:blip r:embed="rId3"/>
          <a:stretch/>
        </p:blipFill>
        <p:spPr>
          <a:xfrm>
            <a:off x="228600" y="3124080"/>
            <a:ext cx="4267080" cy="32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тонировка паркета из дуба"/>
          <p:cNvPicPr/>
          <p:nvPr/>
        </p:nvPicPr>
        <p:blipFill>
          <a:blip r:embed="rId4"/>
          <a:stretch/>
        </p:blipFill>
        <p:spPr>
          <a:xfrm>
            <a:off x="4572000" y="3124080"/>
            <a:ext cx="4114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2543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к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6" descr="http://www.parket.ru/fotos/picture775400.JPG"/>
          <p:cNvPicPr/>
          <p:nvPr/>
        </p:nvPicPr>
        <p:blipFill>
          <a:blip r:embed="rId1"/>
          <a:stretch/>
        </p:blipFill>
        <p:spPr>
          <a:xfrm>
            <a:off x="380880" y="83808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24280" y="838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41148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771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Художественный парк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7" descr="http://www.parket-master.ru/data/fckfiles/image/1.jpg"/>
          <p:cNvPicPr/>
          <p:nvPr/>
        </p:nvPicPr>
        <p:blipFill>
          <a:blip r:embed="rId1"/>
          <a:stretch/>
        </p:blipFill>
        <p:spPr>
          <a:xfrm>
            <a:off x="609480" y="91440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038480" cy="2765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3810240" cy="261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атематический парк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320" y="999720"/>
            <a:ext cx="8001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математике паркетом называют замощение  плоскости одинаковыми фигурами,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оторые не перекрывают друг друга и не оставляют на плоскости пустого пространст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ИФАГОРЕЙСКАЯ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57240" y="10663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остейшие паркеты бы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ткрыты пифагорейц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коло 2500 лет тому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pythagoras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09480" y="990720"/>
            <a:ext cx="3233880" cy="359892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33"/>
          <p:cNvGrpSpPr/>
          <p:nvPr/>
        </p:nvGrpSpPr>
        <p:grpSpPr>
          <a:xfrm>
            <a:off x="5943600" y="2743200"/>
            <a:ext cx="2895480" cy="2133720"/>
            <a:chOff x="5943600" y="2743200"/>
            <a:chExt cx="2895480" cy="2133720"/>
          </a:xfrm>
        </p:grpSpPr>
        <p:sp>
          <p:nvSpPr>
            <p:cNvPr id="104" name="Rectangle 134"/>
            <p:cNvSpPr/>
            <p:nvPr/>
          </p:nvSpPr>
          <p:spPr>
            <a:xfrm>
              <a:off x="5943600" y="2743200"/>
              <a:ext cx="361800" cy="426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5"/>
            <p:cNvSpPr/>
            <p:nvPr/>
          </p:nvSpPr>
          <p:spPr>
            <a:xfrm>
              <a:off x="6305400" y="27432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36"/>
            <p:cNvSpPr/>
            <p:nvPr/>
          </p:nvSpPr>
          <p:spPr>
            <a:xfrm>
              <a:off x="6667200" y="2743200"/>
              <a:ext cx="361800" cy="426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37"/>
            <p:cNvSpPr/>
            <p:nvPr/>
          </p:nvSpPr>
          <p:spPr>
            <a:xfrm>
              <a:off x="7029360" y="27432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8"/>
            <p:cNvSpPr/>
            <p:nvPr/>
          </p:nvSpPr>
          <p:spPr>
            <a:xfrm>
              <a:off x="7391160" y="2743200"/>
              <a:ext cx="361800" cy="426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9"/>
            <p:cNvSpPr/>
            <p:nvPr/>
          </p:nvSpPr>
          <p:spPr>
            <a:xfrm>
              <a:off x="7753320" y="27432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0"/>
            <p:cNvSpPr/>
            <p:nvPr/>
          </p:nvSpPr>
          <p:spPr>
            <a:xfrm>
              <a:off x="8115120" y="2743200"/>
              <a:ext cx="361800" cy="426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1"/>
            <p:cNvSpPr/>
            <p:nvPr/>
          </p:nvSpPr>
          <p:spPr>
            <a:xfrm>
              <a:off x="8477280" y="27432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2"/>
            <p:cNvSpPr/>
            <p:nvPr/>
          </p:nvSpPr>
          <p:spPr>
            <a:xfrm>
              <a:off x="6305400" y="3169800"/>
              <a:ext cx="361800" cy="426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43"/>
            <p:cNvSpPr/>
            <p:nvPr/>
          </p:nvSpPr>
          <p:spPr>
            <a:xfrm>
              <a:off x="6667200" y="31698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4"/>
            <p:cNvSpPr/>
            <p:nvPr/>
          </p:nvSpPr>
          <p:spPr>
            <a:xfrm>
              <a:off x="7029360" y="3169800"/>
              <a:ext cx="361800" cy="426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45"/>
            <p:cNvSpPr/>
            <p:nvPr/>
          </p:nvSpPr>
          <p:spPr>
            <a:xfrm>
              <a:off x="7391160" y="31698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6"/>
            <p:cNvSpPr/>
            <p:nvPr/>
          </p:nvSpPr>
          <p:spPr>
            <a:xfrm>
              <a:off x="7753320" y="3169800"/>
              <a:ext cx="361800" cy="426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47"/>
            <p:cNvSpPr/>
            <p:nvPr/>
          </p:nvSpPr>
          <p:spPr>
            <a:xfrm>
              <a:off x="8115120" y="31698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8"/>
            <p:cNvSpPr/>
            <p:nvPr/>
          </p:nvSpPr>
          <p:spPr>
            <a:xfrm>
              <a:off x="8477280" y="3169800"/>
              <a:ext cx="361800" cy="426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49"/>
            <p:cNvSpPr/>
            <p:nvPr/>
          </p:nvSpPr>
          <p:spPr>
            <a:xfrm>
              <a:off x="5943600" y="316980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50"/>
            <p:cNvSpPr/>
            <p:nvPr/>
          </p:nvSpPr>
          <p:spPr>
            <a:xfrm>
              <a:off x="5943600" y="3596760"/>
              <a:ext cx="361800" cy="426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1"/>
            <p:cNvSpPr/>
            <p:nvPr/>
          </p:nvSpPr>
          <p:spPr>
            <a:xfrm>
              <a:off x="6305400" y="35967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2"/>
            <p:cNvSpPr/>
            <p:nvPr/>
          </p:nvSpPr>
          <p:spPr>
            <a:xfrm>
              <a:off x="6667200" y="3596760"/>
              <a:ext cx="361800" cy="426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3"/>
            <p:cNvSpPr/>
            <p:nvPr/>
          </p:nvSpPr>
          <p:spPr>
            <a:xfrm>
              <a:off x="7029360" y="35967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54"/>
            <p:cNvSpPr/>
            <p:nvPr/>
          </p:nvSpPr>
          <p:spPr>
            <a:xfrm>
              <a:off x="7391160" y="3596760"/>
              <a:ext cx="361800" cy="426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55"/>
            <p:cNvSpPr/>
            <p:nvPr/>
          </p:nvSpPr>
          <p:spPr>
            <a:xfrm>
              <a:off x="7753320" y="35967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6"/>
            <p:cNvSpPr/>
            <p:nvPr/>
          </p:nvSpPr>
          <p:spPr>
            <a:xfrm>
              <a:off x="8115120" y="3596760"/>
              <a:ext cx="361800" cy="426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7"/>
            <p:cNvSpPr/>
            <p:nvPr/>
          </p:nvSpPr>
          <p:spPr>
            <a:xfrm>
              <a:off x="8477280" y="35967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8"/>
            <p:cNvSpPr/>
            <p:nvPr/>
          </p:nvSpPr>
          <p:spPr>
            <a:xfrm>
              <a:off x="6305400" y="4023360"/>
              <a:ext cx="361800" cy="426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59"/>
            <p:cNvSpPr/>
            <p:nvPr/>
          </p:nvSpPr>
          <p:spPr>
            <a:xfrm>
              <a:off x="6667200" y="40233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60"/>
            <p:cNvSpPr/>
            <p:nvPr/>
          </p:nvSpPr>
          <p:spPr>
            <a:xfrm>
              <a:off x="7029360" y="4023360"/>
              <a:ext cx="361800" cy="426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61"/>
            <p:cNvSpPr/>
            <p:nvPr/>
          </p:nvSpPr>
          <p:spPr>
            <a:xfrm>
              <a:off x="7391160" y="40233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62"/>
            <p:cNvSpPr/>
            <p:nvPr/>
          </p:nvSpPr>
          <p:spPr>
            <a:xfrm>
              <a:off x="7753320" y="4023360"/>
              <a:ext cx="361800" cy="426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63"/>
            <p:cNvSpPr/>
            <p:nvPr/>
          </p:nvSpPr>
          <p:spPr>
            <a:xfrm>
              <a:off x="8115120" y="40233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64"/>
            <p:cNvSpPr/>
            <p:nvPr/>
          </p:nvSpPr>
          <p:spPr>
            <a:xfrm>
              <a:off x="8477280" y="4023360"/>
              <a:ext cx="361800" cy="426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65"/>
            <p:cNvSpPr/>
            <p:nvPr/>
          </p:nvSpPr>
          <p:spPr>
            <a:xfrm>
              <a:off x="5943600" y="402336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66"/>
            <p:cNvSpPr/>
            <p:nvPr/>
          </p:nvSpPr>
          <p:spPr>
            <a:xfrm>
              <a:off x="5943600" y="4450320"/>
              <a:ext cx="361800" cy="426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7"/>
            <p:cNvSpPr/>
            <p:nvPr/>
          </p:nvSpPr>
          <p:spPr>
            <a:xfrm>
              <a:off x="6305400" y="445032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68"/>
            <p:cNvSpPr/>
            <p:nvPr/>
          </p:nvSpPr>
          <p:spPr>
            <a:xfrm>
              <a:off x="6667200" y="4450320"/>
              <a:ext cx="361800" cy="4266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9"/>
            <p:cNvSpPr/>
            <p:nvPr/>
          </p:nvSpPr>
          <p:spPr>
            <a:xfrm>
              <a:off x="7029360" y="445032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70"/>
            <p:cNvSpPr/>
            <p:nvPr/>
          </p:nvSpPr>
          <p:spPr>
            <a:xfrm>
              <a:off x="7391160" y="4450320"/>
              <a:ext cx="361800" cy="426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71"/>
            <p:cNvSpPr/>
            <p:nvPr/>
          </p:nvSpPr>
          <p:spPr>
            <a:xfrm>
              <a:off x="7753320" y="445032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72"/>
            <p:cNvSpPr/>
            <p:nvPr/>
          </p:nvSpPr>
          <p:spPr>
            <a:xfrm>
              <a:off x="8115120" y="4450320"/>
              <a:ext cx="361800" cy="426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3"/>
            <p:cNvSpPr/>
            <p:nvPr/>
          </p:nvSpPr>
          <p:spPr>
            <a:xfrm>
              <a:off x="8477280" y="4450320"/>
              <a:ext cx="361800" cy="426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9"/>
          <p:cNvGrpSpPr/>
          <p:nvPr/>
        </p:nvGrpSpPr>
        <p:grpSpPr>
          <a:xfrm>
            <a:off x="380880" y="4704480"/>
            <a:ext cx="3614040" cy="1787400"/>
            <a:chOff x="380880" y="4704480"/>
            <a:chExt cx="3614040" cy="1787400"/>
          </a:xfrm>
        </p:grpSpPr>
        <p:grpSp>
          <p:nvGrpSpPr>
            <p:cNvPr id="145" name="Group 90"/>
            <p:cNvGrpSpPr/>
            <p:nvPr/>
          </p:nvGrpSpPr>
          <p:grpSpPr>
            <a:xfrm>
              <a:off x="1956960" y="5213520"/>
              <a:ext cx="1721160" cy="779760"/>
              <a:chOff x="1956960" y="5213520"/>
              <a:chExt cx="1721160" cy="779760"/>
            </a:xfrm>
          </p:grpSpPr>
          <p:grpSp>
            <p:nvGrpSpPr>
              <p:cNvPr id="146" name="Group 91"/>
              <p:cNvGrpSpPr/>
              <p:nvPr/>
            </p:nvGrpSpPr>
            <p:grpSpPr>
              <a:xfrm>
                <a:off x="1956960" y="5213520"/>
                <a:ext cx="1088640" cy="774720"/>
                <a:chOff x="1956960" y="5213520"/>
                <a:chExt cx="1088640" cy="774720"/>
              </a:xfrm>
            </p:grpSpPr>
            <p:sp>
              <p:nvSpPr>
                <p:cNvPr id="147" name="AutoShape 92"/>
                <p:cNvSpPr/>
                <p:nvPr/>
              </p:nvSpPr>
              <p:spPr>
                <a:xfrm>
                  <a:off x="1956960" y="5469840"/>
                  <a:ext cx="627120" cy="503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93"/>
                <p:cNvSpPr/>
                <p:nvPr/>
              </p:nvSpPr>
              <p:spPr>
                <a:xfrm rot="3616200">
                  <a:off x="2374560" y="5329440"/>
                  <a:ext cx="58248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94"/>
              <p:cNvGrpSpPr/>
              <p:nvPr/>
            </p:nvGrpSpPr>
            <p:grpSpPr>
              <a:xfrm>
                <a:off x="2589480" y="5218560"/>
                <a:ext cx="1088640" cy="774720"/>
                <a:chOff x="2589480" y="5218560"/>
                <a:chExt cx="1088640" cy="774720"/>
              </a:xfrm>
            </p:grpSpPr>
            <p:sp>
              <p:nvSpPr>
                <p:cNvPr id="150" name="AutoShape 95"/>
                <p:cNvSpPr/>
                <p:nvPr/>
              </p:nvSpPr>
              <p:spPr>
                <a:xfrm>
                  <a:off x="2589480" y="5474880"/>
                  <a:ext cx="627120" cy="503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96"/>
                <p:cNvSpPr/>
                <p:nvPr/>
              </p:nvSpPr>
              <p:spPr>
                <a:xfrm rot="3616200">
                  <a:off x="3007080" y="5334480"/>
                  <a:ext cx="58248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97"/>
            <p:cNvGrpSpPr/>
            <p:nvPr/>
          </p:nvGrpSpPr>
          <p:grpSpPr>
            <a:xfrm>
              <a:off x="2273400" y="4714920"/>
              <a:ext cx="1721520" cy="780120"/>
              <a:chOff x="2273400" y="4714920"/>
              <a:chExt cx="1721520" cy="780120"/>
            </a:xfrm>
          </p:grpSpPr>
          <p:grpSp>
            <p:nvGrpSpPr>
              <p:cNvPr id="153" name="Group 98"/>
              <p:cNvGrpSpPr/>
              <p:nvPr/>
            </p:nvGrpSpPr>
            <p:grpSpPr>
              <a:xfrm>
                <a:off x="2273400" y="4714920"/>
                <a:ext cx="1089000" cy="775080"/>
                <a:chOff x="2273400" y="4714920"/>
                <a:chExt cx="1089000" cy="775080"/>
              </a:xfrm>
            </p:grpSpPr>
            <p:sp>
              <p:nvSpPr>
                <p:cNvPr id="154" name="AutoShape 99"/>
                <p:cNvSpPr/>
                <p:nvPr/>
              </p:nvSpPr>
              <p:spPr>
                <a:xfrm>
                  <a:off x="2273400" y="497124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100"/>
                <p:cNvSpPr/>
                <p:nvPr/>
              </p:nvSpPr>
              <p:spPr>
                <a:xfrm rot="3616200">
                  <a:off x="2691000" y="483120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1"/>
              <p:cNvGrpSpPr/>
              <p:nvPr/>
            </p:nvGrpSpPr>
            <p:grpSpPr>
              <a:xfrm>
                <a:off x="2905920" y="4719960"/>
                <a:ext cx="1089000" cy="775080"/>
                <a:chOff x="2905920" y="4719960"/>
                <a:chExt cx="1089000" cy="775080"/>
              </a:xfrm>
            </p:grpSpPr>
            <p:sp>
              <p:nvSpPr>
                <p:cNvPr id="157" name="AutoShape 102"/>
                <p:cNvSpPr/>
                <p:nvPr/>
              </p:nvSpPr>
              <p:spPr>
                <a:xfrm>
                  <a:off x="2905920" y="497628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AutoShape 103"/>
                <p:cNvSpPr/>
                <p:nvPr/>
              </p:nvSpPr>
              <p:spPr>
                <a:xfrm rot="3616200">
                  <a:off x="3323520" y="483624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Group 104"/>
            <p:cNvGrpSpPr/>
            <p:nvPr/>
          </p:nvGrpSpPr>
          <p:grpSpPr>
            <a:xfrm>
              <a:off x="1007640" y="4704480"/>
              <a:ext cx="1721520" cy="780120"/>
              <a:chOff x="1007640" y="4704480"/>
              <a:chExt cx="1721520" cy="780120"/>
            </a:xfrm>
          </p:grpSpPr>
          <p:grpSp>
            <p:nvGrpSpPr>
              <p:cNvPr id="160" name="Group 105"/>
              <p:cNvGrpSpPr/>
              <p:nvPr/>
            </p:nvGrpSpPr>
            <p:grpSpPr>
              <a:xfrm>
                <a:off x="1007640" y="4704480"/>
                <a:ext cx="1089000" cy="775080"/>
                <a:chOff x="1007640" y="4704480"/>
                <a:chExt cx="1089000" cy="775080"/>
              </a:xfrm>
            </p:grpSpPr>
            <p:sp>
              <p:nvSpPr>
                <p:cNvPr id="161" name="AutoShape 106"/>
                <p:cNvSpPr/>
                <p:nvPr/>
              </p:nvSpPr>
              <p:spPr>
                <a:xfrm>
                  <a:off x="1007640" y="496080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107"/>
                <p:cNvSpPr/>
                <p:nvPr/>
              </p:nvSpPr>
              <p:spPr>
                <a:xfrm rot="3616200">
                  <a:off x="1425240" y="482076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108"/>
              <p:cNvGrpSpPr/>
              <p:nvPr/>
            </p:nvGrpSpPr>
            <p:grpSpPr>
              <a:xfrm>
                <a:off x="1640160" y="4709520"/>
                <a:ext cx="1089000" cy="775080"/>
                <a:chOff x="1640160" y="4709520"/>
                <a:chExt cx="1089000" cy="775080"/>
              </a:xfrm>
            </p:grpSpPr>
            <p:sp>
              <p:nvSpPr>
                <p:cNvPr id="164" name="AutoShape 109"/>
                <p:cNvSpPr/>
                <p:nvPr/>
              </p:nvSpPr>
              <p:spPr>
                <a:xfrm>
                  <a:off x="1640160" y="496584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AutoShape 110"/>
                <p:cNvSpPr/>
                <p:nvPr/>
              </p:nvSpPr>
              <p:spPr>
                <a:xfrm rot="3616200">
                  <a:off x="2057760" y="482580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Group 111"/>
            <p:cNvGrpSpPr/>
            <p:nvPr/>
          </p:nvGrpSpPr>
          <p:grpSpPr>
            <a:xfrm>
              <a:off x="696960" y="5202720"/>
              <a:ext cx="1721520" cy="780120"/>
              <a:chOff x="696960" y="5202720"/>
              <a:chExt cx="1721520" cy="780120"/>
            </a:xfrm>
          </p:grpSpPr>
          <p:grpSp>
            <p:nvGrpSpPr>
              <p:cNvPr id="167" name="Group 112"/>
              <p:cNvGrpSpPr/>
              <p:nvPr/>
            </p:nvGrpSpPr>
            <p:grpSpPr>
              <a:xfrm>
                <a:off x="696960" y="5202720"/>
                <a:ext cx="1089000" cy="775080"/>
                <a:chOff x="696960" y="5202720"/>
                <a:chExt cx="1089000" cy="775080"/>
              </a:xfrm>
            </p:grpSpPr>
            <p:sp>
              <p:nvSpPr>
                <p:cNvPr id="168" name="AutoShape 113"/>
                <p:cNvSpPr/>
                <p:nvPr/>
              </p:nvSpPr>
              <p:spPr>
                <a:xfrm>
                  <a:off x="696960" y="545904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114"/>
                <p:cNvSpPr/>
                <p:nvPr/>
              </p:nvSpPr>
              <p:spPr>
                <a:xfrm rot="3616200">
                  <a:off x="1114560" y="531900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Group 115"/>
              <p:cNvGrpSpPr/>
              <p:nvPr/>
            </p:nvGrpSpPr>
            <p:grpSpPr>
              <a:xfrm>
                <a:off x="1329480" y="5207760"/>
                <a:ext cx="1089000" cy="775080"/>
                <a:chOff x="1329480" y="5207760"/>
                <a:chExt cx="1089000" cy="775080"/>
              </a:xfrm>
            </p:grpSpPr>
            <p:sp>
              <p:nvSpPr>
                <p:cNvPr id="171" name="AutoShape 116"/>
                <p:cNvSpPr/>
                <p:nvPr/>
              </p:nvSpPr>
              <p:spPr>
                <a:xfrm>
                  <a:off x="1329480" y="546408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AutoShape 117"/>
                <p:cNvSpPr/>
                <p:nvPr/>
              </p:nvSpPr>
              <p:spPr>
                <a:xfrm rot="3616200">
                  <a:off x="1747080" y="532404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Group 118"/>
            <p:cNvGrpSpPr/>
            <p:nvPr/>
          </p:nvGrpSpPr>
          <p:grpSpPr>
            <a:xfrm>
              <a:off x="380880" y="5701320"/>
              <a:ext cx="1721520" cy="780120"/>
              <a:chOff x="380880" y="5701320"/>
              <a:chExt cx="1721520" cy="780120"/>
            </a:xfrm>
          </p:grpSpPr>
          <p:grpSp>
            <p:nvGrpSpPr>
              <p:cNvPr id="174" name="Group 119"/>
              <p:cNvGrpSpPr/>
              <p:nvPr/>
            </p:nvGrpSpPr>
            <p:grpSpPr>
              <a:xfrm>
                <a:off x="380880" y="5701320"/>
                <a:ext cx="1089000" cy="775080"/>
                <a:chOff x="380880" y="5701320"/>
                <a:chExt cx="1089000" cy="775080"/>
              </a:xfrm>
            </p:grpSpPr>
            <p:sp>
              <p:nvSpPr>
                <p:cNvPr id="175" name="AutoShape 120"/>
                <p:cNvSpPr/>
                <p:nvPr/>
              </p:nvSpPr>
              <p:spPr>
                <a:xfrm>
                  <a:off x="380880" y="595764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121"/>
                <p:cNvSpPr/>
                <p:nvPr/>
              </p:nvSpPr>
              <p:spPr>
                <a:xfrm rot="3616200">
                  <a:off x="798480" y="581760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22"/>
              <p:cNvGrpSpPr/>
              <p:nvPr/>
            </p:nvGrpSpPr>
            <p:grpSpPr>
              <a:xfrm>
                <a:off x="1013400" y="5706360"/>
                <a:ext cx="1089000" cy="775080"/>
                <a:chOff x="1013400" y="5706360"/>
                <a:chExt cx="1089000" cy="775080"/>
              </a:xfrm>
            </p:grpSpPr>
            <p:sp>
              <p:nvSpPr>
                <p:cNvPr id="178" name="AutoShape 123"/>
                <p:cNvSpPr/>
                <p:nvPr/>
              </p:nvSpPr>
              <p:spPr>
                <a:xfrm>
                  <a:off x="1013400" y="596268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AutoShape 124"/>
                <p:cNvSpPr/>
                <p:nvPr/>
              </p:nvSpPr>
              <p:spPr>
                <a:xfrm rot="3616200">
                  <a:off x="1431000" y="582264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Group 125"/>
            <p:cNvGrpSpPr/>
            <p:nvPr/>
          </p:nvGrpSpPr>
          <p:grpSpPr>
            <a:xfrm>
              <a:off x="1646280" y="5711760"/>
              <a:ext cx="1721520" cy="780120"/>
              <a:chOff x="1646280" y="5711760"/>
              <a:chExt cx="1721520" cy="780120"/>
            </a:xfrm>
          </p:grpSpPr>
          <p:grpSp>
            <p:nvGrpSpPr>
              <p:cNvPr id="181" name="Group 126"/>
              <p:cNvGrpSpPr/>
              <p:nvPr/>
            </p:nvGrpSpPr>
            <p:grpSpPr>
              <a:xfrm>
                <a:off x="1646280" y="5711760"/>
                <a:ext cx="1089000" cy="775080"/>
                <a:chOff x="1646280" y="5711760"/>
                <a:chExt cx="1089000" cy="775080"/>
              </a:xfrm>
            </p:grpSpPr>
            <p:sp>
              <p:nvSpPr>
                <p:cNvPr id="182" name="AutoShape 127"/>
                <p:cNvSpPr/>
                <p:nvPr/>
              </p:nvSpPr>
              <p:spPr>
                <a:xfrm>
                  <a:off x="1646280" y="596808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128"/>
                <p:cNvSpPr/>
                <p:nvPr/>
              </p:nvSpPr>
              <p:spPr>
                <a:xfrm rot="3616200">
                  <a:off x="2063880" y="582804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129"/>
              <p:cNvGrpSpPr/>
              <p:nvPr/>
            </p:nvGrpSpPr>
            <p:grpSpPr>
              <a:xfrm>
                <a:off x="2278800" y="5716800"/>
                <a:ext cx="1089000" cy="775080"/>
                <a:chOff x="2278800" y="5716800"/>
                <a:chExt cx="1089000" cy="775080"/>
              </a:xfrm>
            </p:grpSpPr>
            <p:sp>
              <p:nvSpPr>
                <p:cNvPr id="185" name="AutoShape 130"/>
                <p:cNvSpPr/>
                <p:nvPr/>
              </p:nvSpPr>
              <p:spPr>
                <a:xfrm>
                  <a:off x="2278800" y="5973120"/>
                  <a:ext cx="627120" cy="5040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131"/>
                <p:cNvSpPr/>
                <p:nvPr/>
              </p:nvSpPr>
              <p:spPr>
                <a:xfrm rot="3616200">
                  <a:off x="2696400" y="5833080"/>
                  <a:ext cx="582840" cy="54216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7" name="Group 104"/>
          <p:cNvGrpSpPr/>
          <p:nvPr/>
        </p:nvGrpSpPr>
        <p:grpSpPr>
          <a:xfrm>
            <a:off x="3733920" y="4952880"/>
            <a:ext cx="2361960" cy="1523880"/>
            <a:chOff x="3733920" y="4952880"/>
            <a:chExt cx="2361960" cy="1523880"/>
          </a:xfrm>
        </p:grpSpPr>
        <p:grpSp>
          <p:nvGrpSpPr>
            <p:cNvPr id="188" name="Group 105"/>
            <p:cNvGrpSpPr/>
            <p:nvPr/>
          </p:nvGrpSpPr>
          <p:grpSpPr>
            <a:xfrm>
              <a:off x="4048920" y="4952880"/>
              <a:ext cx="2040480" cy="615600"/>
              <a:chOff x="4048920" y="4952880"/>
              <a:chExt cx="2040480" cy="615600"/>
            </a:xfrm>
          </p:grpSpPr>
          <p:grpSp>
            <p:nvGrpSpPr>
              <p:cNvPr id="189" name="Group 106"/>
              <p:cNvGrpSpPr/>
              <p:nvPr/>
            </p:nvGrpSpPr>
            <p:grpSpPr>
              <a:xfrm>
                <a:off x="4048920" y="4952880"/>
                <a:ext cx="754200" cy="615600"/>
                <a:chOff x="4048920" y="4952880"/>
                <a:chExt cx="754200" cy="615600"/>
              </a:xfrm>
            </p:grpSpPr>
            <p:sp>
              <p:nvSpPr>
                <p:cNvPr id="190" name="AutoShape 107"/>
                <p:cNvSpPr/>
                <p:nvPr/>
              </p:nvSpPr>
              <p:spPr>
                <a:xfrm>
                  <a:off x="4048920" y="51040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AutoShape 108"/>
                <p:cNvSpPr/>
                <p:nvPr/>
              </p:nvSpPr>
              <p:spPr>
                <a:xfrm>
                  <a:off x="4370400" y="49528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109"/>
                <p:cNvSpPr/>
                <p:nvPr/>
              </p:nvSpPr>
              <p:spPr>
                <a:xfrm>
                  <a:off x="4370400" y="52606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10"/>
              <p:cNvGrpSpPr/>
              <p:nvPr/>
            </p:nvGrpSpPr>
            <p:grpSpPr>
              <a:xfrm>
                <a:off x="4691880" y="4952880"/>
                <a:ext cx="754200" cy="615600"/>
                <a:chOff x="4691880" y="4952880"/>
                <a:chExt cx="754200" cy="615600"/>
              </a:xfrm>
            </p:grpSpPr>
            <p:sp>
              <p:nvSpPr>
                <p:cNvPr id="194" name="AutoShape 111"/>
                <p:cNvSpPr/>
                <p:nvPr/>
              </p:nvSpPr>
              <p:spPr>
                <a:xfrm>
                  <a:off x="4691880" y="51040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12"/>
                <p:cNvSpPr/>
                <p:nvPr/>
              </p:nvSpPr>
              <p:spPr>
                <a:xfrm>
                  <a:off x="5013360" y="49528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13"/>
                <p:cNvSpPr/>
                <p:nvPr/>
              </p:nvSpPr>
              <p:spPr>
                <a:xfrm>
                  <a:off x="5013360" y="52606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14"/>
              <p:cNvGrpSpPr/>
              <p:nvPr/>
            </p:nvGrpSpPr>
            <p:grpSpPr>
              <a:xfrm>
                <a:off x="5335200" y="4952880"/>
                <a:ext cx="754200" cy="615600"/>
                <a:chOff x="5335200" y="4952880"/>
                <a:chExt cx="754200" cy="615600"/>
              </a:xfrm>
            </p:grpSpPr>
            <p:sp>
              <p:nvSpPr>
                <p:cNvPr id="198" name="AutoShape 115"/>
                <p:cNvSpPr/>
                <p:nvPr/>
              </p:nvSpPr>
              <p:spPr>
                <a:xfrm>
                  <a:off x="5335200" y="51040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16"/>
                <p:cNvSpPr/>
                <p:nvPr/>
              </p:nvSpPr>
              <p:spPr>
                <a:xfrm>
                  <a:off x="5656680" y="49528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117"/>
                <p:cNvSpPr/>
                <p:nvPr/>
              </p:nvSpPr>
              <p:spPr>
                <a:xfrm>
                  <a:off x="5656680" y="526068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Group 118"/>
            <p:cNvGrpSpPr/>
            <p:nvPr/>
          </p:nvGrpSpPr>
          <p:grpSpPr>
            <a:xfrm>
              <a:off x="3733920" y="5402160"/>
              <a:ext cx="2040480" cy="615600"/>
              <a:chOff x="3733920" y="5402160"/>
              <a:chExt cx="2040480" cy="615600"/>
            </a:xfrm>
          </p:grpSpPr>
          <p:grpSp>
            <p:nvGrpSpPr>
              <p:cNvPr id="202" name="Group 119"/>
              <p:cNvGrpSpPr/>
              <p:nvPr/>
            </p:nvGrpSpPr>
            <p:grpSpPr>
              <a:xfrm>
                <a:off x="3733920" y="5402160"/>
                <a:ext cx="754200" cy="615600"/>
                <a:chOff x="3733920" y="5402160"/>
                <a:chExt cx="754200" cy="615600"/>
              </a:xfrm>
            </p:grpSpPr>
            <p:sp>
              <p:nvSpPr>
                <p:cNvPr id="203" name="AutoShape 120"/>
                <p:cNvSpPr/>
                <p:nvPr/>
              </p:nvSpPr>
              <p:spPr>
                <a:xfrm>
                  <a:off x="3733920" y="5553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AutoShape 121"/>
                <p:cNvSpPr/>
                <p:nvPr/>
              </p:nvSpPr>
              <p:spPr>
                <a:xfrm>
                  <a:off x="4055400" y="5402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122"/>
                <p:cNvSpPr/>
                <p:nvPr/>
              </p:nvSpPr>
              <p:spPr>
                <a:xfrm>
                  <a:off x="4055400" y="5709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23"/>
              <p:cNvGrpSpPr/>
              <p:nvPr/>
            </p:nvGrpSpPr>
            <p:grpSpPr>
              <a:xfrm>
                <a:off x="4376880" y="5402160"/>
                <a:ext cx="754200" cy="615600"/>
                <a:chOff x="4376880" y="5402160"/>
                <a:chExt cx="754200" cy="615600"/>
              </a:xfrm>
            </p:grpSpPr>
            <p:sp>
              <p:nvSpPr>
                <p:cNvPr id="207" name="AutoShape 124"/>
                <p:cNvSpPr/>
                <p:nvPr/>
              </p:nvSpPr>
              <p:spPr>
                <a:xfrm>
                  <a:off x="4376880" y="5553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125"/>
                <p:cNvSpPr/>
                <p:nvPr/>
              </p:nvSpPr>
              <p:spPr>
                <a:xfrm>
                  <a:off x="4698360" y="5402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126"/>
                <p:cNvSpPr/>
                <p:nvPr/>
              </p:nvSpPr>
              <p:spPr>
                <a:xfrm>
                  <a:off x="4698360" y="5709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127"/>
              <p:cNvGrpSpPr/>
              <p:nvPr/>
            </p:nvGrpSpPr>
            <p:grpSpPr>
              <a:xfrm>
                <a:off x="5020200" y="5402160"/>
                <a:ext cx="754200" cy="615600"/>
                <a:chOff x="5020200" y="5402160"/>
                <a:chExt cx="754200" cy="615600"/>
              </a:xfrm>
            </p:grpSpPr>
            <p:sp>
              <p:nvSpPr>
                <p:cNvPr id="211" name="AutoShape 128"/>
                <p:cNvSpPr/>
                <p:nvPr/>
              </p:nvSpPr>
              <p:spPr>
                <a:xfrm>
                  <a:off x="5020200" y="5553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utoShape 129"/>
                <p:cNvSpPr/>
                <p:nvPr/>
              </p:nvSpPr>
              <p:spPr>
                <a:xfrm>
                  <a:off x="5341680" y="5402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130"/>
                <p:cNvSpPr/>
                <p:nvPr/>
              </p:nvSpPr>
              <p:spPr>
                <a:xfrm>
                  <a:off x="5341680" y="5709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Group 131"/>
            <p:cNvGrpSpPr/>
            <p:nvPr/>
          </p:nvGrpSpPr>
          <p:grpSpPr>
            <a:xfrm>
              <a:off x="4055400" y="5861160"/>
              <a:ext cx="2040480" cy="615600"/>
              <a:chOff x="4055400" y="5861160"/>
              <a:chExt cx="2040480" cy="615600"/>
            </a:xfrm>
          </p:grpSpPr>
          <p:grpSp>
            <p:nvGrpSpPr>
              <p:cNvPr id="215" name="Group 132"/>
              <p:cNvGrpSpPr/>
              <p:nvPr/>
            </p:nvGrpSpPr>
            <p:grpSpPr>
              <a:xfrm>
                <a:off x="4055400" y="5861160"/>
                <a:ext cx="754200" cy="615600"/>
                <a:chOff x="4055400" y="5861160"/>
                <a:chExt cx="754200" cy="615600"/>
              </a:xfrm>
            </p:grpSpPr>
            <p:sp>
              <p:nvSpPr>
                <p:cNvPr id="216" name="AutoShape 133"/>
                <p:cNvSpPr/>
                <p:nvPr/>
              </p:nvSpPr>
              <p:spPr>
                <a:xfrm>
                  <a:off x="4055400" y="6012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134"/>
                <p:cNvSpPr/>
                <p:nvPr/>
              </p:nvSpPr>
              <p:spPr>
                <a:xfrm>
                  <a:off x="4376880" y="5861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135"/>
                <p:cNvSpPr/>
                <p:nvPr/>
              </p:nvSpPr>
              <p:spPr>
                <a:xfrm>
                  <a:off x="4376880" y="6168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36"/>
              <p:cNvGrpSpPr/>
              <p:nvPr/>
            </p:nvGrpSpPr>
            <p:grpSpPr>
              <a:xfrm>
                <a:off x="4698360" y="5861160"/>
                <a:ext cx="754200" cy="615600"/>
                <a:chOff x="4698360" y="5861160"/>
                <a:chExt cx="754200" cy="615600"/>
              </a:xfrm>
            </p:grpSpPr>
            <p:sp>
              <p:nvSpPr>
                <p:cNvPr id="220" name="AutoShape 137"/>
                <p:cNvSpPr/>
                <p:nvPr/>
              </p:nvSpPr>
              <p:spPr>
                <a:xfrm>
                  <a:off x="4698360" y="6012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138"/>
                <p:cNvSpPr/>
                <p:nvPr/>
              </p:nvSpPr>
              <p:spPr>
                <a:xfrm>
                  <a:off x="5019840" y="5861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139"/>
                <p:cNvSpPr/>
                <p:nvPr/>
              </p:nvSpPr>
              <p:spPr>
                <a:xfrm>
                  <a:off x="5019840" y="6168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140"/>
              <p:cNvGrpSpPr/>
              <p:nvPr/>
            </p:nvGrpSpPr>
            <p:grpSpPr>
              <a:xfrm>
                <a:off x="5341680" y="5861160"/>
                <a:ext cx="754200" cy="615600"/>
                <a:chOff x="5341680" y="5861160"/>
                <a:chExt cx="754200" cy="615600"/>
              </a:xfrm>
            </p:grpSpPr>
            <p:sp>
              <p:nvSpPr>
                <p:cNvPr id="224" name="AutoShape 141"/>
                <p:cNvSpPr/>
                <p:nvPr/>
              </p:nvSpPr>
              <p:spPr>
                <a:xfrm>
                  <a:off x="5341680" y="60123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142"/>
                <p:cNvSpPr/>
                <p:nvPr/>
              </p:nvSpPr>
              <p:spPr>
                <a:xfrm>
                  <a:off x="5663160" y="58611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143"/>
                <p:cNvSpPr/>
                <p:nvPr/>
              </p:nvSpPr>
              <p:spPr>
                <a:xfrm>
                  <a:off x="5663160" y="6168960"/>
                  <a:ext cx="432720" cy="307800"/>
                </a:xfrm>
                <a:prstGeom prst="hexagon">
                  <a:avLst>
                    <a:gd name="adj" fmla="val 35146"/>
                    <a:gd name="vf" fmla="val 115470"/>
                  </a:avLst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4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C:\Documents and Settings\Home\Рабочий стол\pages-M3lqIKF3bc-0.jpg"/>
          <p:cNvPicPr/>
          <p:nvPr/>
        </p:nvPicPr>
        <p:blipFill>
          <a:blip r:embed="rId1"/>
          <a:stretch/>
        </p:blipFill>
        <p:spPr>
          <a:xfrm>
            <a:off x="114480" y="357120"/>
            <a:ext cx="9029520" cy="60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7-24T18:00:0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